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</p:sld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0D2-CE8E-4FD8-9815-4229A608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96A-869E-4718-B97A-9D8E6001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7B8C8-7726-4110-9514-CCCF0707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E1D36-811F-4A25-BD78-564D24F4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43F23-7EC7-415C-BA85-F0D103E8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08D55-1C50-4F01-BCC3-F5DE68B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BE909-505F-4A1B-ACBE-D997776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E15AA-394F-47F4-BFA6-0278EFC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9059C-5A52-4594-89E9-EB3E4C60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A5613-7855-458A-AA74-202B7EE5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EB55-1124-4038-8665-0E11BA94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49E4A-A7F7-418E-963C-B852DC18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A51-E9FB-4640-9B18-7C19B859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6890A-64D6-455E-A33C-4475C5F6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6AD4F-4A79-485E-9693-A8189C2D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905B7-80BB-48CF-A77C-C5CCDA9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3B6BE-76EB-45D6-8C3D-6A6656E2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A9FB3-7DB1-4711-AA7C-5925F319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53D03-C542-44FB-B308-EDD51B4C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05A43-DB52-4B94-8407-5BEE2050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32790-C671-45A2-A919-47B3B326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78AFD-F2A4-4E09-A020-EF8932DE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DD208-BFF3-43C0-A259-63D600D7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E38-598B-4917-8EDE-FF27A379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9CC59-76E7-419B-A744-1AFA7AB1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2CEC9-5928-4FB3-B8EC-1D1CD081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95E96-2D8B-4698-BC10-1ECE8E4E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C27FA-D356-4037-9E07-ACBA908B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42E63-6C1B-4050-967B-183DEBC6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19542-B58A-44EC-B4C4-45E58B77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F5066-150B-474F-A09C-C0691674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B4EFC-9BA7-4FC3-AB1A-08959D8B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7D621-8DDC-4288-89B5-E65BFD2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B69A6-AE05-4952-8E4D-2BEB946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13BA-3372-41F5-82BF-0D430826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C5F24-97A0-4344-A8A3-D7445C6A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0C286-1FAF-4461-B800-FFC439A8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4EF47-A3E3-47B8-9C30-FD8447F7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22889-6C88-4923-A844-417CB3C2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CDBDC-70B9-4209-B0B8-0C42C1DC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6A13A-05C5-472B-BDD1-4AA5B475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2C698-EB64-4A0E-B65A-CE7860A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A16F9-95E4-488D-8E92-FD208A31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F2ED7-A91B-4946-A160-D3AA051D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9536B-98F5-4789-A904-B9700501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DF24-4A2D-41B9-B936-A9482244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F3651-BD21-4E9E-B473-D60CDAC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B58CA-BEFA-4CB1-B5A8-50C4FF99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9108F-4F17-4289-ACC2-2E440D9B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93CD4-9708-4072-8FC9-A6F89A78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05997-B049-4DD8-B6DD-BF5DAC34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367BB-325A-4F4F-AF54-F23725E9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9D399-C4E1-44D4-80FB-94658D8E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4F9EF-3D6C-4355-950E-381B1F7D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CD3ED-AA88-4502-AA11-011B5956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1F486-8DC7-4FA2-A177-C988E146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8659-183A-4EB6-BB0A-50F615F2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B5731-560C-4F3C-B938-0584BB16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904EF-21A0-45F0-9D5F-9E89FBAB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E9270-B5E5-4397-9D39-E69A81B1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AE98A-E0A2-4AC1-B3AE-E9A1D3A6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54F16-D268-471D-A909-068BF18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C44F4-B6FD-4798-86B3-C2B5A4FC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D0285-EC32-4D68-AEF3-FE3C2ED8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F9B03-38C5-4B55-8334-FB0C6C6F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8FBE7-7227-4644-8CAB-696C64B3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CB287-2311-43E6-AD46-FC02982B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380A-E63E-4D29-8482-9AE64EBF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83EED-B895-49DE-BD93-30190560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4DA69-846E-4334-8A23-7FD63125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48672-A1CB-4476-A7E6-F1B5838B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D92F6-414B-4717-9421-F3AEEB3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663ED-461A-4137-8493-27AD0850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83B8E-FDDF-41E2-A271-6A4B8E82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259B3-727C-4635-9269-4C080EB9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7736D-C0BC-49D6-B792-A95367E5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92964-0917-420B-A833-84D9CE46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E728A-332F-4229-89E7-ED670FF7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AED1-EE2F-45A4-8C37-9F008B9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6B849-0750-47F4-A2F2-55EF4183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342DA-5E9B-486D-AC3D-3E4E7113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CE738-8630-45DF-AE83-9ED3A02C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E9AC0-5635-4D41-9454-4808126E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0F86F-A8CC-4918-B200-9EE85741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C201C-9749-46C4-BE64-52C881B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FE69C-B4D7-4A84-9FD7-2F560DC6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C0D5A-4570-4B1C-BA43-DA75B26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EB8383-22E6-401E-BCE6-B27D759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D4254-0685-449C-8C7E-3FDA8418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F9FC-74EA-4A51-8BAD-BEFB8859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36C74-2ACC-4BB7-98C4-C2051572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935F2-6BBA-46D4-B6F8-9D92A4F8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FCDEA-D793-44FC-9616-561F3A36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E9669-0418-4853-8FE4-7D1DFC7E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991FE-C333-4930-B988-CCE776BF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C05D1-C959-4E7C-98CD-85465E7C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22BCA-EFBF-4A45-B2C4-F3640354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4D7E0-4294-4E50-8B69-1DE2FB4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44BEE-F9A5-4795-9908-AC448EBA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C3A94-92F8-40A3-883F-030712E2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4089-F70E-45D9-8A63-F1684E92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5D536-5594-4368-AA3C-351708FF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02EF1-E8B9-41C0-B21D-176D7EB0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10410-FD26-41B3-8321-3ABCF28D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3DDBA-2D8C-421C-802F-B4AA7794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5D820-1C86-482C-BD11-D95C687E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2B0FD-82C6-45C1-B7C4-E9E4CD75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EA667-232D-464A-92DB-AAF14EB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C84B9B-221B-412C-97EA-EE9CF120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6E077-366C-4AE9-BD8A-4C1E6478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7A441E-5A3A-4725-936E-405D54B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944-EC5B-4E41-AA75-A550ABCF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204A-39AF-4C7E-87DB-08C0DCD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B0507-6830-4E3A-BD3A-493D382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87779-1215-45DD-AB71-29455B5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18597D-8FBE-40C2-8124-0DF9C625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F55CE-E03B-4901-9111-39F81ED6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93FEE-2D68-4FC9-8AF7-EC7A522B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01E22-D15A-45BC-A106-DD410714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9FE3E-B765-41AA-BA9C-EFDB4799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4C51D-64BF-439F-B905-DE4F2BD9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3F3E4-8105-42E1-86CA-01FC959A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92541-7A5C-4320-9D4B-3F66133D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3011-6431-4ED8-BA20-906D6AC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C9088-F7C0-464A-9D32-41ED828F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9DCC4-153A-40D9-B6C6-F63B857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11EB3-82F1-44B7-89A1-1826B137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C3984-DB40-4F2F-A175-8891110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FC296-AF8B-4CE4-A443-C0B7654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E061A-1391-4057-AD4D-A1C1BF73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3D014-1678-406D-9138-ED2B5DBA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003B1-A047-4E1C-8F6D-8E299AE6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5563B9-7D08-4FFE-99F5-ABDECF0F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FFF2F-805B-43DB-A0C9-E358B10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D064-A678-48FD-A746-934584E6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75DF5-115E-494A-A339-26D2FA65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315E4-9790-47D5-874A-2A03340E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DF777-8CF5-467C-8E4B-98A7EEE8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C2CC1-784D-4E30-AB78-DDDB0AA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09A983-B739-498A-BE7D-28AAB1E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586C2-F27B-45A7-8D65-19CA5090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95489-F803-4CF0-B2A7-2027B141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A9F6D5-C685-4A72-8FDA-C0BC770F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93971-EB3A-4DD8-B68D-6D8D8651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90C12-1EFE-4B51-AFC8-06DECD30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B718-464B-4515-9FBC-52935F5F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2A72F-C512-463D-91C5-755C7452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D59B9-B08A-4075-8E9E-F8AC44FC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513763-D140-4FB8-9726-A502BFA5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9ED75-B171-4ABF-80AF-0BD66F15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28650-26D7-4E56-930C-701DE387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75786-5C6D-4A94-B6A2-DA59A5A5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13E2DF-4DEC-4EA1-B69E-6C3E1417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EF00F6-408E-4AFD-9C4F-5C91444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5E7D6-331A-4A92-96C7-39100B7F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1965F-89C9-49BB-A065-3BB3FE82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3947-9E19-4D4B-A1CF-B919D246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E7FC9-4A72-49EB-88A3-78CFAF06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015C9-BBEB-4530-83EE-FD53D950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E8D31-20D3-4CC7-8060-1881A840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2638DA-553A-45B3-9D2C-8697EA7E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04820B-4DB9-4711-AB91-1516FAE8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FD7177-CABB-45AE-B1DD-626D39CE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129B3-184E-4B65-A04D-C8890A90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41D037-539B-4161-9608-C6543FF3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86A2D6-927D-44F6-AFDF-0E49D8E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DFC1C-5CDD-4F33-8F49-49CD4F7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968D-0CA1-430D-9DC4-1F2F4EDE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1A753-1C0A-4218-929B-0C08A7E2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EAA34-6D5F-4DAC-9660-FA85A177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6D29F-B13C-4926-B4B0-0CA61C21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B4A68-79B1-42A9-B30E-F70F4313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AA7E8E-A3B7-4ED1-9F95-D0F8FEF3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7366C4-F24B-429B-A819-F8BCB1EA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D6560F-B645-4DF3-9189-C9E021FE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E9A29C-58A8-4D9D-8EE6-06EBE58A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591ACB-C28F-4634-9B9F-F181F14B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83AE2D-7F81-404A-8AF8-DEA1BB5A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07D5E-3F3D-4FC5-9D30-ECFED43E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5C98D2-9227-446E-86DC-D2520E92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B4CF63-D170-47D7-961F-5DEF372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127961-81EF-44AE-83D2-EDB28CA6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FEAF22-9D93-4568-B9EA-0A0A3469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B13853-AEE9-4A71-AA11-DB7FD56E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C9084D-DB87-44B7-8051-76B8C4F0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0CD053-A955-4D35-A0C8-02DAF2E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03ACCE-E32F-483D-A1DA-6DEAA38E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AA62CB-8C4A-4FC7-9951-707F5F7A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D812E0-9B85-4FED-97A7-A934F36D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F7FD-982F-4636-89CF-113B9018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8C1CE9-D12D-41A2-9DDF-4D4E8173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4F9D4-F5C1-419F-8294-89D821B2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00AD99-444B-432C-A20C-0611CCD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C7497D-C136-4F04-AD3A-CE367272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110D62-47ED-4250-AACA-E8089E0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08946F-BF98-4238-BC6D-D8D775F7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8FC16A-5694-43F8-854F-710B3680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D0886B-E4DD-469C-9701-C578C237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5A8032-6681-44C6-B7C7-E790AA7C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0D1AB9-6BF9-4043-9BE6-A0651A23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8AE0-302A-4948-A568-2E3F0409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4D11C1-3AD4-4AC8-ADB4-175A893E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19E5B6-B21C-479C-AEB8-2351F6F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B3D81F-F3BA-4D8E-814D-6A9CB612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37E596-9CB9-4D56-8C8A-E6659AF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5380C5-411B-41B5-A5F2-EE9978DD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F9AE67-AE1F-4A5D-B395-7B0FAD45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B8A58C-EF8E-4DA7-A407-226DB4D3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73EA40-C47F-41D2-9886-D119ED49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5BF7CB-7757-4C97-9E36-63287B68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02FAE5-1E2F-4BD6-B899-29406A98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9AE2-0096-4146-B7CC-81E2FF32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322904-DAC3-4182-9CF5-00996063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38E246-68FC-4BB1-B2EB-161443D9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1C8C1E-75AC-4933-81F4-C3628162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19A4E6-1639-464D-9A04-A4E5C775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79B90B-CED2-444E-BB38-774F91F9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7A7358-6E4B-45F9-806B-4BB549E2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DB3B02-A842-4FB7-93E4-DBA940E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8B1B60-724E-4A7C-AD5A-A12D071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DB60DD-A2D7-4B95-96A3-8940B66A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7F37B3-3379-47AA-9006-F8E04A13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0C4-92C6-4960-A1D1-21DBFFC0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7E47A-C804-43F0-AD61-EBE93162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460350-264F-4C72-93C1-0A27390F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C9E3F8-247C-4B02-9510-B7BBE4A1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E0FD95-8A37-4756-A6EC-08654401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9CAC17-6A30-4010-8C4C-4FC35751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845AA6-2AFD-4A1D-8E93-818405A1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FC3D42-168E-4CF3-AD84-09B70D76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C2DDB8-F254-49BF-B428-646DBD87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00300B-8AE1-49CD-A3BC-F31F7CA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CFB81B-BCFC-41C5-9429-455B43D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829E47-A0BA-4F9E-B491-FB49794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D0AE-7F1E-44A0-A779-AF31FB4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4C1D80-0CF1-4AA6-9929-88CD8ED1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3D5A65-5807-4CC9-918D-EBED5A79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FE0018-8C5D-47A6-BA7C-60D0470E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5A8C00-4DA4-4E61-BB49-B38E640D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07FC51-CF1F-4989-AB46-0F980844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410BE3-FB6A-461B-A848-3702EF13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5BCFDF-94D2-40A2-B66D-F9AA282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CB0207-326A-42F0-9F28-F5BFC57D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EF3DD6-FBFD-4D17-A3BB-40AFAF9F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287290-97F8-481C-9109-7866D335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577E-C3A5-4179-ABC1-97D15F4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078E4D-0BE5-4B09-ABAC-51347628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A3BD8C-6162-455D-AE07-B423785C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7643B5-A590-4219-93F2-8D1A7B22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72E2C3-E629-4C52-9C95-7F0BF4A8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BBCC6B-1F6E-48BA-9068-6FA6FE99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A0347E-A493-4BBC-B46A-300DB086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7D37EE-E34B-4FEF-B863-11F49F4B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8A4188-ABE5-4FB6-B247-F622A9C7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6691FB-6601-4D92-BFD4-B31FBEE4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6D22E0-94F3-452D-9F1B-858D993F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F379-D5DB-4A25-8F8A-0A6DB6C1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7D43FB-A310-42FE-979C-2530C33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FE67B2-595E-40FF-A56F-801C471E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9ABE62-D97E-497E-B3D6-1D077D2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C3F441-E85C-406E-A207-6CAF0EE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ECC24F-14C4-43DE-821D-47447348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F8A030-513B-42D2-A3F9-6248F0EE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DD970F-44C7-4A43-BF05-C02E55F1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342823-58AC-486F-AD7F-A970A71C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02F035-F465-4AB0-814E-B26AF264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622307-AA67-4F67-B633-9D28BC49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B783-7866-4500-91C6-AE8B18A3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BAFB0F-4199-4343-B6CB-619AF56F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4C29EE-088B-4B90-AD71-BD1AFB0E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EE4DC6-DBE8-4609-972D-18198ADC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5763DF-E3A8-441C-84DC-04AA6D93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F5D2DF-CA45-4671-95F7-F94D3D67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F91DDA-282C-423F-A90F-564BA73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41A5B3-60EB-47E6-B081-0753B739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80701F-A89E-4D95-B71D-3A470B61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59664E-46AA-453D-979E-4750FB8E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DF225C-FA07-47B9-AC75-79267F1E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2D07-5A0C-495D-9FB0-BAF1EE77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08F9DB-151D-4E5A-82C4-5462257D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F7C583-6E6E-42F3-94FC-6861F357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4B3D29-D9AC-485A-80DB-6C30DF68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AF26F5-02C8-43AE-877E-3BD11316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94F1C7-B988-49F5-89F4-5951EE28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FE066F-EE8E-4C89-A260-34F99F7B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828135-8DBA-4B3A-9A92-C81FF32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DC211E-4CBC-4C4D-AB3B-6B2C92F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9747C6-4DBE-459E-A9CA-E6BC0244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5E9B3B-3629-44A0-B342-70009008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01BB-390D-41C0-BF6B-429F4649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027190-2383-402E-A99E-8103691C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9A3EA6-F5E7-4F2E-BE4C-99E2AE2C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3AE9F7-7F53-4D19-9B8A-DDC20009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EAA493-5097-4377-82DE-A9AD6035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648346-B19F-4AEA-8993-BD6B974D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B12695-1781-4258-914A-735FB0B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A3C529-605F-4EEE-AADE-D69CDDB2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580760-EF11-4741-BC30-175ECEE2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8CFB5C-D6D2-4932-9738-FAB58EF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BD4068-52B9-4C4F-A586-5585702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40366-BBB7-424B-8270-44DCB661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95AE28-DA7F-45B3-9185-FC5729E8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908ABB-36B7-4313-9242-22EEDA3B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F2D323-16FD-46A1-AD37-FAC2B60D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B6C7A5-10EB-42C3-8329-764B6A2D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ECA548-B984-4FE2-B54E-3C5D0C2C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AF92EF-F596-468A-B03B-CCFA1852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1A02D2-5EB6-4260-AD74-B8C26B27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1A4DCD-1FA1-478A-9F87-CAAF2F3C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37B961-368E-4710-A014-C69B5F83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84B100-6A1B-4531-B473-E05914CF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090C7-7D53-4157-BACB-AFD1135D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DA8832-8079-4589-B116-2FBD64B7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20C20F-EBC9-457B-8CEA-5030AC6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5C915B-AC80-46F0-8CCE-643F444C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C7883E-6028-4393-A488-970016F2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82B957-4AE5-45F2-9F09-EFFDE9BA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7D20F8-1BFC-4F12-931E-A2869A1D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02AC89-7305-4A3C-BD41-BCCA7AAC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2849FD-7CF2-4D1C-A8DC-ED3F709C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C601AC-5FEF-4552-B560-B130820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A247C1-31B9-4EF2-9F17-EDC7F1CC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D49D-4C85-4DBA-9BA4-573D6B74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CC5838-10AE-45E1-8984-9F7D4672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F767F0-681D-45DF-8F26-52F262D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2F69E3-D5D7-440E-AED3-F36F83EE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F32172-557B-48F4-865E-6904EDB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1799EC-1D49-499B-BDD8-0606C47E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0F4C2C-2E21-4F71-B68C-80DAFAB5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65D487-2489-4678-B80C-0B1020E8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B46065-D9F8-43AB-B83A-470CB804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771573-ECEE-4732-852C-792BA39A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B34E6F-2465-4460-9B3B-920B1BDA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F02-EC0D-4F4D-933D-CD7C4A16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ECA36-4286-400E-B0AD-D42241B7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30A733-53F1-41C6-A2B9-A8F1B548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53BF57-97D7-4AED-A133-C05108E5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515A8A-5924-4BCA-940D-003AB8C9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9F04EF-223A-4C9F-B26D-2302AAA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7ABE69-DD85-4A94-A77F-E4FCE78B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0D1B1A-C6D3-48AA-AC2D-66157BAD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AFDD9E-97D6-4E7F-A9EB-966A2BB9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FA1E9E-33E5-4A82-9227-4F397729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ADD13C-790A-40A9-A706-5FCD0DB0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7FE132-9113-4ED2-A401-8B5C4DDA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8FEF-6190-41F1-BD67-469BC041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C73EA1-6E4D-4133-AB45-98185468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F93CA8-9FD3-4361-8D6D-EDBAF3A5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D81077-9D44-4329-A173-D17336F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79692A-2D76-4FA3-A387-71541EB1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BDBCCD-A74B-44BC-92E1-2575D1E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409665-D0A8-4271-93FE-F7162E9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6BE525-B343-4AB2-A3CD-C24E13E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42BF54-7B20-4ABD-B552-B723D0FF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1BCAE8-6B1A-4BC6-BBAA-2D652C0B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C3AF16-3102-4832-B980-27FC34FA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7B8E2-81CC-43EE-B6E1-10A97844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B21097-F5D6-4E33-AE43-E64C0A5D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8F5210-9951-4039-B46B-10F5A435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EF162E-E0B9-4F6C-B70A-D86C15E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0737D6-6606-43EC-9262-943E861F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60A70C-1BA4-4330-8458-77D8F197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91DC02-625E-41B3-9A18-36A9787F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F5609A-6623-4F75-8BAF-619985C0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CD4D6F-8A99-4148-A1D6-ABA3A8BF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F2FFE9-7FF5-42FF-856D-3D4CC705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BF0EF4-85C8-4BA0-ACC3-5156908E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95F36-2DF5-41ED-9C0A-8744A81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3DE5F0-A193-4321-92D2-4CEC740F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19EBEC-2660-4AB2-A3BE-F4125203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551E38-6A0A-403B-9902-3A9CABC7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DD6E2D-C892-4864-BE40-AAA863DE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32C9D86-D0C9-4E3E-B534-F932A43E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F05FF6-600D-4D43-A7D2-EBB2BDEB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83DDC38-619F-4FAA-B5EB-27ADAA8C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E1241B-4859-4724-86AA-83DAA7DA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602EEC-0A9D-480B-A7DB-8C80C299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8D9104-7753-44CF-9A74-27B65F1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1F76B-306D-461B-B059-7A7DC1D7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B18F5E-F760-4388-81EC-9302E8D1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522574-2548-4C7F-909A-EEBB69EC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027922-37DE-4280-90FC-7F7381F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0AD222-DDFA-49BE-8FFA-02BABD3D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7A13B99-6D62-4556-A74C-38F0F773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C24B1A-E646-430A-8363-FCE58CC3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5624AF-6952-4873-9EEE-ECE4A902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9C0DAB-3C7B-4D5E-B8E0-1DCA8686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C3240C-EAAB-409D-A845-39EEB3D5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AE7F75-7526-4C04-9A7F-F1F8CC5E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BC346-C37F-45FD-A712-5CE5A328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954835-333B-449E-B046-55F7241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6946BF-5352-4CCB-BA0B-B84EC16C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EF0F7F-4B0D-4152-AF17-7C3FC14B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AF86B8-89A9-4D0D-ADA3-0086C3CA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946BB7E-9B65-4936-887A-4656662F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90E420-0FD6-41A1-AE30-71F268E9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DC029B-C779-42A4-BB09-5DAF2D5B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AA2A42-09F7-4F7C-915F-C1D1D666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F5725D-9CC0-473E-B51B-0BD6875B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37D558-EAF2-4052-8AFB-2705ED00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E79B-5969-4933-A960-E3971937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CEAA68-02F7-40EE-B2BE-3509512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8F9158-C4D2-44A9-8119-1CA87B2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702DCC-25E7-4FB1-AFE5-E249BD39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653FB9-DA84-465E-BC5F-6D8B6F5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2FC326-C0F0-4FAE-9A45-9F6C5843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56CA61-4D30-45A5-AF3C-B8C946E2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06BEDF-32FC-4632-9599-F18086C0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2770BE-E628-42E6-9426-E1F85805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550D14-7CAB-418D-B2DE-ED4D4949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26DE054-2E96-414E-808B-BADE3523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C3CB-A926-4914-9DC7-1B121CD0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B769E5-70AB-4193-A7F1-E8E222A8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696C8D-E6A8-413F-9EE6-10FB0F70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69B74F-91A4-48CC-9792-B2B520AC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813453D-709F-4E9C-AD2D-76D5332F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7EB738A-4BB2-40AF-9937-E21BDD5E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1D00EF-EE45-4D47-9AAA-64228B0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74A7E9-1F0A-44D0-9B4C-A908EF3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50C5CE-D638-427C-850E-D5B2D83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AB3741-68AD-4899-8B91-B5DAC676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1E5A3A-AE13-40EB-B381-C4DA2713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B56E-9CDC-449D-8C8D-4A2A21F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A86CC9-7EFF-476A-9F33-A78196F5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0565DA-3A01-4236-9FDD-AA64669E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D5612E-88AD-43BD-9CDC-5D44D73F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AC139B-6D26-485A-8FCD-755512A4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E95424-6CF4-432A-BCE5-5015615B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7327C1-79CB-4B5E-B7A5-3F4CF78C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C9E20E-45D6-47D1-A7E3-880BFCCE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99F0BC-9CD4-4A95-AE94-CCF91E86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35F15B-28C6-4E1D-8CAD-00646EA0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DB1F42-D54B-435A-B307-53E56215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9FC33-9C48-4485-BDCB-436A9288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6E4C6B-E1A2-4744-BA8B-024D9130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E8924B-5547-4CD1-837A-94E17238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2953DE-607C-454C-9F69-3ABD9D1E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C95452-2AEF-4B60-A984-E195326D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34917D-7AB9-4C51-9885-89FD2918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EEDB7B-54E8-4190-AC6E-C243E9E5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E4AA4E-5BB8-46CE-8F53-B0B6855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48973C-3469-49CF-9FA3-4869F18C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929D03-9BCE-4FA1-A575-534B8AC0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6AFB6D-A533-49C2-86C8-45AD150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9CF-3E58-45AB-91D1-39865C75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9B0A8-4D69-4DDD-878D-10F2D8CF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D4E252-D927-4134-8FD4-243CE930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2552CA9-D2F9-4DFA-97B6-D5A9A39B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9F0FB98-7C6D-411C-B810-F00B9F84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3BCDA5-465C-477C-B2A1-BB2AED0D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A8309BB-39B8-47A9-B7ED-E605AC53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2C0D83B-3EE3-4AD2-AF77-F1514F3E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032BBB-38A6-4233-894E-2CEFE7B3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1AC0FB-E3E4-4E62-B337-48F1747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806022-FD60-4D9F-A1BE-693B0C39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6A4B6B-49F1-4133-8DA8-9FA13B5D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F1433-AC9F-4559-A29E-79D434A5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73F9A79-AB5A-4A83-8967-307FEE94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5708D4-67E8-4636-A510-E021E653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58CD2C7-8379-4028-AB44-F608F25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947897-5E06-4D95-A58D-6D7C5C1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8923CB8-6692-41B4-84FF-F4E293AD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44E4C8E-D745-425E-BCB5-00694973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F06BFAD-81CF-43C2-8A72-3D9568BC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600112-8F5F-4CE8-8A8C-AEC14A88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2843F3-6C2C-4089-83AE-A0431031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1B70B4-8B12-492F-A69D-35B29C29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85D07-9E47-49BF-8CEA-70F1DA19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B79B91C-1FAA-481A-9C52-CBB7D12F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3024105-292A-4EA0-8353-EC883A51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D2C324E-10B7-4A28-9B1C-8745D759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4C6727-51EC-42B7-A937-471095AC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B33A67-0383-419F-A526-CC10244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C3440F-73E5-49DB-A360-EC845883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515B69-E770-4E59-8BF2-61C88B13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6914BD-89C3-4B78-B46B-C39E3E38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FAAC3F-9A4A-4DCF-B8C2-7659323B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6510E5A-2597-4FC2-9CFC-1A89786D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C5EC9-9F36-455D-AFD9-C18A07E4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716839-044C-4A0D-912C-3889BF04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82FC750-3D85-4F5E-8D91-C0FB446F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5251F8-4DD3-42E4-AB31-151DBE7C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AFDC142-EED3-4E39-B7D6-725E47E0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C9C8184-FC3E-49AF-9140-73A3AD77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E50A48B-502F-4142-ABB3-7283F967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AD2672-D58D-4696-8081-E918300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EB3874A-8717-4D76-8D89-388A7A1B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4D8F232-1B79-47CF-8C4F-6EF43FA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E49845-63A1-42EE-BC6E-E0DBC9D1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0E14-3B50-4292-A4F1-003771FD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EFF609-F4BA-4FF4-BB70-E7421A2B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C5D01C-D915-4E9E-AF9A-CA10509C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887DC01-52A6-4B59-BCA8-0905D5E5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CD6E07C-96E0-4FC4-9043-F06A69BA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2B1DA25-F489-4DF2-AC9F-58DEBE82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8BF12F-7164-45BC-B166-17B7549C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2BAFFE2-E85C-4C68-8440-55F58340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C92147-8EE1-4A6A-8E37-6D257B09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FEE5B8C-9AA3-47F9-A0D6-E325915B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DF7DC11-93AB-4BDE-9B8B-A567094D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2CDC-1488-42DC-92C3-0AF1DA4A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C911CE-10A2-44C2-9A5A-418E6118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A7C842-4C1D-4C99-B92C-E3A55D0E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5B7C168-6230-4DA4-9D9C-343C715D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E632959-9D23-46D9-B7EE-F4D5D85F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7E8F88-59BE-468E-8F8A-A305978E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0574D1-C2D1-4AB9-8FBC-99D3443F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B5EEF3-3605-4437-96C9-255FCE15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B5DA3B-654A-4AD5-B854-6896BE99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FF63C2-EEB7-4FDD-809B-CE04C7D7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CDD0622-D82B-4996-AE80-D27C475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79F9A-444D-46FE-A683-EF742906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D7112B4-9594-4901-9D03-E38F08A1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08F7822-66E6-4EAD-9916-4DBE728A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56D716-7452-4D8F-934B-5DF2C171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330F3F-6C1A-4F78-A7F9-FBB1F022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3A51C26-CFBB-4496-A00F-E8352F7F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9281C75-81DF-46E9-984C-A87F84BE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B75502-8995-4727-8F61-15921000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AA3F7E-C901-46A3-AB9C-6BA19228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B7A6D6-28BF-49F3-A71A-12E7BA25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3D8596-187C-4262-A376-CAD71EFB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DFAA7-74F7-49D6-8BFA-C06FEC15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060013-C974-4B41-9AE1-E1309A0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63A393-A21A-41A4-B885-BC3E97DE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4C97C8D-6687-4CBE-BA70-009517CA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F144D9-2E7C-46F1-A92B-E0B94A10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AE29D3-C196-4BA6-914E-145740F8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A09752-D1BE-436D-91B7-E7B4D08D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6FA82D-3A00-4DB1-8642-6DDA9ACE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6A7897-494B-42BD-8558-D7C2020A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629E687-0261-4BCA-8D1E-EAA718C0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B6BC735-56D4-4E51-9745-E315BD10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BCDB9-3E68-4A25-B3DE-1302199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7D20C6A-85EE-4D3C-AA24-FDCF975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7499920-D26E-4871-99E8-0E75E372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06D2250-ECF0-48AE-9E68-6E9121C2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3D7E601-64FB-4372-8F67-C494FF2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1FF201-99C9-4926-8DDD-76B4ACFC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D6AA96D-5211-4E9F-BE75-3D0F745F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2EE107-48B5-4574-B249-35D03C6F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AE655F-0FC5-4CFA-B8AC-56C03BA8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325964B-BE4E-4671-B145-70740AA0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833ED3E-3674-4B69-84CC-CB73D4D8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EF800-665A-442A-83B0-F6CCF2D9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6EE6EC-361B-4B03-8002-398440E7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3578914-EC22-4E9E-B19B-B050E4DC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EA8793A-67D7-497B-9B6E-0DBF3F0A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2D1F584-E71D-45CA-8303-89B0A4E7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D0255D1-8C39-4568-BD13-CFFD138A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9158DEB-A29B-4EAA-A3CC-BD0BC179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0427F06-166D-4DD8-8527-7B286FA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2811E79-7CBB-488D-A5D1-505F13F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D2824A-6D07-45E5-AA27-F2BBFF47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F05D4E0-4B18-4AD1-BDD9-BCEC3620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B1F-22D9-4247-8991-96AE24DC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9C827-8CAB-4B7C-9F77-390EB928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5C75CB6-B2BD-4EA4-B83A-504FB703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F1A1039-B06B-48DC-BA90-080D08E8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9603E28-CB71-4742-87ED-08D9B757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C57D64B-E58E-4409-99C1-6D2EE8B9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3B92D2F-4FA8-4D07-A685-66F92AB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066088-0F7C-44D1-A562-1B0F61EC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72587AE-6E00-43D1-8A79-4942D31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D383E28-969F-43EE-95D4-A330D15A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E62A4A5-8B5B-4196-8833-32239A02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13E7CF0-6E98-43F1-B9FB-82615E94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A5D97-462F-49F3-ADE1-FCBA539B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D2E139C-8C03-4119-A463-AEC80A67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ECFD1B6-5EEA-4FA7-8EBD-739D21CF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DBF1A7-3C14-486E-9437-2DF5DA34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005978-0A5E-4634-BF19-E733DC61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43F2C6-8BD6-43D3-83E2-AEC5DA0E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F72FB1F-02B8-417E-A078-2BA5F120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1DD949B-2F7E-46B8-BADA-281D4C71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FC2D291-9FF8-473E-85B8-2B712D62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2F5ECE4-08B2-4271-8E1D-EADCD59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8156B0-72AB-4A39-97C2-7B41724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40F81-DC92-4B26-A86A-87D61563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E653B08-CCBD-4ACB-A573-F75C110B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EFB7296-0C3A-400A-BD73-18A01740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ACACA93-BBD6-4802-AADE-6D199AC6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6135C38-4BBC-475B-9FA8-9289E096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5786E5-01C2-4F09-8A14-68540589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E0ED326-77D3-48B3-8C68-715BAABD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1A0F13F-D011-414F-8BDC-5776DAA9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151C75B-AE7D-4867-BFBC-83F15F30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138BB6B-FD98-490D-992F-94A9EDEA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8B89CFC-6942-4668-B9CA-0C07C2D7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3ED0-1412-4D46-AB8F-1130E5D2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5C12B35-825C-4718-951D-8C1583C4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2AC55D-31F2-4E80-A9F6-26B32888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56B854-F00F-4660-8A8C-A6E0D1E1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5574E62-E14A-41F7-A693-F7BDD516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D78B7FB-97AD-40F5-B6AB-3018D673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3C4F964-7C4E-4EA0-B40B-15884AAB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7ED432E-DB0F-4044-9B7B-6F3AAEA4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685D6BE-7BE4-4558-A66A-8866E22D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07FE669-A92D-455F-ACB7-62BA233E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FF09D75-2662-4689-AB1D-8D52619B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C5A9F-DD69-445B-B693-523E757B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FAB60E5-904F-4453-9F0A-422DA7AD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760095B-1B76-49E3-85F3-F688B77F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1F8BDB5-843D-4226-8CFA-CF245FBB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7487602-E574-4204-9372-FAB9EC92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D1DADFE-7EF7-470D-805A-4A0EBC55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7496C8-2669-4F8C-922A-05F38A91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99E7F6F-42B6-4DC7-A938-46AAD19F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F6BDCC4-4948-4517-A4EF-ACAB8E8F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089AD53-CFFC-42D1-998A-39F6F135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C046AB0-DA19-4AB0-A2A0-AC35753D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EA8C-D7FB-4C91-A678-16B57455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8AC1A85-BCE9-4E1D-A224-9BE4F25A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952E203-7733-47BC-8010-A08BBACA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A0E764D-6A1C-43EE-B454-747918BB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B7D778F-06A5-470A-B264-08A4E2C6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E9B2724-384D-40EB-9F59-9E9EB7C4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76923D2-B74C-4367-B407-4000FCB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8891268-D506-42DE-A58D-FC3D4D8E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4718A96-9714-4E57-AAEB-EFB7B53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B451D34-1B3F-4715-8B65-B56DEC3E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533BFA5-F8B5-4BED-B18D-7685B6FB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51329-A67B-4CB3-8157-17E3CE21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8C50E3-D4F7-4DA5-9328-449D5741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7C6F5D0-D034-46C2-BE8C-356B40AD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DDF1DB7-79E9-4D8C-B30A-7F170A1A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362CFF6-2921-4164-B8DE-FE5032F9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BDA1F5C-9285-4EB5-B7DE-78CC0146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F8AE83-AF23-4422-BD5A-31680791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F2FE4F7-E3AC-458F-B646-E6FCF1ED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DFAD700-D693-4445-B0DD-8A1BAA6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26F68F-24E6-43A6-90F5-5F9EAE7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E50BD4-CC29-41E9-8CCA-79F1F2FB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D5462-F20E-4499-82F2-09B09AE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78A4E6-94C8-4218-BB0A-319B63E3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FC17154-6FFE-4CAC-B019-D5553911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75B690B-BC6C-4272-A145-B2B0DA45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DB6AC03-9BBB-449C-A6FC-27E6DC63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0AA15FF-86A6-48F0-BA57-15EE5FEA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613759B-ECE4-4B8F-B9E7-1F70FED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0152E4E-D7C4-4764-A1AB-F97C4F01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B767497-100C-4695-856A-D9043C6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E9B3A11-E9C6-4017-A029-D45D109B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53BF5F2-B7EF-4AA4-890A-1BF21040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1FDA-BED2-4F5D-9C7B-FE5FAFA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4395680-1D2F-4F99-B5AB-96784216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165A74C-3338-4F7F-9500-85C72CF4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54E75C-51DC-4771-8F41-0BC57E6F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777EC03-B437-4865-AFC2-ADF9F85E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D8E5760-8BBE-4885-B1EB-391841D8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B1C48BD-1F9D-4A1F-8368-F63965F6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4B4964-10C4-4B1C-859A-7C4C7C83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FC5B470-688F-4212-A735-6613E5AD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AA73B59-DF1F-43C8-BAE4-91A42102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BAFF3F-6C5B-4352-8F87-B95E0B98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99222-95E3-4042-9E45-E7BB91D2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7F2FB73-0E59-42FB-9417-A9E70268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2D25A21-FDDA-4BC1-9BCE-EA5F9CEB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20EBC34-3E64-4538-997B-AC2AFE5F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EA6793B-1C23-4461-8AB0-B8BDFE9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BDDEE12-0136-440A-B155-D9A0E0F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38F432C-D677-4E29-AACE-1477A1A5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78A7B60-D7BC-41F0-9245-70263DB0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6AFFC87-5026-4DFB-B6C3-F0A45E59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690AAAB-CD51-437E-8009-9B15F167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B471AB1-32E4-4CF2-B9AB-BB849F1E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006-8357-4DAC-B093-55DE5157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77F3D-95A7-4360-9ECA-BACA436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0203265-E187-4B9B-8AB2-1A766FBE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3D9FD88-68C4-4AC4-841B-3D5FC4D7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9E3282-DE61-4721-A662-D38CA036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EE45B4-9D7A-444C-B7C5-95F74F65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4EA24A9-1C6C-46D7-948B-1DAE473D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D625858-DEB7-4AD0-9F7C-C8EC075F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335A6FD-D03C-4415-A1D9-9F815B7B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3A952D2-994C-4F02-AAEA-9A292755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1085AD2-1722-4A59-8E90-00811648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70CCE1A-9A15-443C-A84E-C8AE7679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BDD18-6B03-40E5-8104-76D634A9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2F99A29-7CA3-489C-8068-535D301E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8DDF679-6537-40EB-A7AD-96662B84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EEC69B6-C51C-43C4-BD94-D9268614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F123608-0C95-423B-8CDF-581A0375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92438CB-6AC8-4BFF-B839-E849C8A7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7CE87D4-428E-4970-BF68-F0B687E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B1EDC40-5CA9-4A50-8FB5-C4EDB26C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1CD33AF-B40F-4EA4-8746-A1F9C74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4DB7B2A-63A9-40B4-86FB-3DB1CFA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650C124-2CF5-411F-B282-0A20AEF4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336CB-344F-4211-9C5E-841FBB45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DE8EF7B-033D-471E-95A6-0DD59281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6C4A3A5-B23E-4F20-9750-2D136583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730BFA1-8A44-4AAE-A7EF-CB6CC667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9781125-C941-473E-86EE-7D0CDCA1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95DC072-FF88-4A3C-B439-979E98F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43D6B9E-5E67-4BBE-A761-CFD4606B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E0F7223-7C91-4F9C-8B6D-F0DC112E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25FB808-BADF-4FC2-9236-FEC655A4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74230D0-E173-4903-BA13-65C6B62D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F5F727C-5AD1-4EF6-942D-A0D00BD0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EE55D-1A5C-43D9-B443-9E6FE688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F06D129-F436-40A0-A0E9-36F850A9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2B10317-1EBF-4E90-AFC7-4742BDBF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E5949E3-132A-41B5-87D3-C00636AA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9C3B40C-9B65-4DC6-8D7A-35222A34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7A83CF1-A25C-4460-B201-B7428FEA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92D1730-3816-42B3-A330-50A2369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1F5AE8-B716-4F6F-85E6-A0D571F4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872452E-1FAA-4F54-A368-6114BF4F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0D45932-3D16-4601-A15A-1AC5E7BE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8E07DF4-02F8-4A5D-A9E6-DF3A9817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538B-83ED-40E1-9983-0766F036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D992ADF-5EA7-4467-8589-7AFB1D92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AAD1D80-2379-4380-B7CA-D6AD17D0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D72F7EB-6343-4390-9082-08FB4FFA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4A091E4-A31A-45AA-8414-A518C80C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67FD21B-4D43-431D-9096-87D0739B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22CB9CA-0D1A-42BC-8B71-C6FD1646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BC2737A-8029-4830-AD95-D1FF7602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B73F7E5-5423-4071-B825-A322750E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757E619-4F60-4F6C-A23B-24CF0375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81D1900-CB44-430A-A260-07008E15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041FF-0492-4C98-BB27-D6501F59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938A868-9221-4D8B-85F7-8D0DA8E9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BAF84BD-17F9-46E4-9670-F0CCD5DE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16201D4-38ED-4486-B086-1B88F7D7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3EE71C4-E687-4495-A494-31D5DE7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E147A72-88B3-4C20-B3B4-D3FA5B00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5D973BD-F7F2-477C-B053-D52AF748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9C499FE-CADA-4A5C-BB18-5804B3F0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5C807-1972-49A5-A319-7E95606F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BA4E8-8A74-4793-8AA4-CF98BB55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45745-890C-47BF-9C8F-03073B8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FCB47-1599-401E-AFD1-22DE11D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9E6-F1A2-4271-AD64-629117E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6D9B1-A8CC-46C1-A850-3DD9003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A7B56-44F0-4459-A8E2-8FEAE2F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5A9D-5201-4C78-AEB0-E9376598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81B6F-457E-4641-856D-97EBD6A7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B56E8-FA89-46B1-BA7C-E84F0A3B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4FE7A-BC1B-4E8D-8D52-BE7E71BD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239A-C549-426D-8B85-E69BCE75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69D57-7010-445E-9CDD-B2516720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44034-0EF0-47DF-8760-25FE6065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CAE6B-628A-4147-9C90-5193060E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98B-9D83-4417-A48E-7EBDC55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70B18-87A4-4433-9699-7C8C382C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1685F-07C6-44FF-BF47-C017FE5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00B6D-1B24-4E94-92DC-8F69E83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C1C89-5B5A-452A-A392-08F52383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E0596-BEF8-41E9-8638-A0C96E7D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A0B8A-2E66-4BB5-BD91-DC8672F8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E2826-6006-4FB2-AFD4-B39B4E02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E687D-91BF-45B7-ACD1-B5725D8E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ADFF5-C3DA-419D-B0F6-B09C638D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B7BE8-2329-4D6A-A428-FC4A98ED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08D7A75C-3313-45E9-B00D-3531FF6690A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6EB46A2-0945-4E95-97C0-25D91F56C3D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E120952-8580-4456-BB03-1AD6C71FFED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B7FAD65-71E9-46CC-B456-D41B11BA638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46399F60-5907-4210-84C3-49F513DF3E4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6597770B-0888-4CFB-830D-9354148532B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00A20467-24AB-4C56-8012-52AE76DAD6B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785F9E83-3A04-4C4E-8776-AE9D784B936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43139FDA-F429-4047-8928-F9E071A94F9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F308B08-5AF0-49B7-ABCA-1141912C363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E934-7E97-444B-B114-D9D02985E0F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11ED-DFA0-441C-8ABC-D883F7AC6AE2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B8EA-8F7A-47B6-9177-C4DFDB478D8A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A6AD-3A79-434D-AD53-FBC2B9CC82A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FBB4-8BA6-4EE2-9A7E-F94DDFB243B4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A72C-DD67-403B-AE8E-AF133F1BEB85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1D30-4C7F-4BD3-9BE0-467F47368572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C6C4-95EE-49C5-8587-1DF2634482C8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7A00-631C-4F03-B231-824E4D833E7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E564-1D9A-454D-8D96-5908D1E49CCA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08C0-CA90-4186-BC76-8D1413C41EA4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35BC-3F17-45A6-8846-28B071038AC2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6BA45AD-1545-4095-9B6D-7C42A57AA57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97BE-AA88-40B3-A087-79353353F47B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72CC82E0-EB73-497E-A501-FC2379084A1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56A2932-C5B1-4A2C-81EE-0813402E2A9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648011E-45FC-46B3-82A1-92A4A381FBC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E17859C-7D28-45ED-91EF-20A9DB0CAF8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4C4DBDD-5341-48FD-8B53-D19CDC7EA21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A9B3677-AE1F-4036-9A1B-15B80256354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CF06286-213F-428A-BDEF-1659B058740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59DB2C6-2F76-48D7-A781-F240DA0DC2A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0A477AA-5BCB-49CB-8688-E4C90145650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51CC-0807-4EC8-8E77-DBBF0620FE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4078AD2B-F84B-4406-8A1C-72242A4580F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F5D5116-F8B2-404D-A5F0-2162BFF0C98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570-795D-4A9F-8CFA-1D4D12DE2D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AFCC-2F74-4615-A9BF-1DA46D8BC5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BFE8-CA38-4054-9828-CC492E1B8C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A1C1-47F1-4941-A436-B1C36026BB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E818-3BB6-48ED-9474-D0C815324D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73CC-2DCC-4A34-B30B-DA27B70A07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CCA0-4014-49CB-92CD-B35096EC2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E426-18C5-4EFD-A912-1C05907A97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1933-15CA-4484-BB01-9A873DB99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31AF-8865-4525-8CF0-C0AA06208C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2B15-C0B3-418E-B7EA-943160B309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22B7-4F24-4056-B10D-FA2E7CC867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C821-BEC7-44D9-8A78-4D5FD374B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D173-151B-4D78-9821-FE28ECA8D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55BB-4640-452D-BDB7-E9D7BC4C7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37C3-F538-4B45-AA59-897971A7A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A36E-459E-4D3F-8AB9-818968228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7FFB-0994-4A76-A75C-A5B8A7BEA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B99D-C9DC-4F6E-8297-DE1993EF6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8BC8E1E-1436-4E2D-9E6C-04E09F4FD1A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93DF-B243-4CDF-A4DD-DF86DC070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B1E3-378F-4053-90D4-54B2ED5A7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AC05-AC1A-4FB7-B2E6-09166A5C4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45EF-8546-4CF5-B7CA-B90B3ACCC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A4CD58D-BDDE-4A8E-B08D-C7047F691FA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3708256-D986-483B-BF24-D8EA181BD16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0C2352A7-FF58-48E6-B445-0A1A45A66B8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Text Box 9"/>
          <p:cNvSpPr/>
          <p:nvPr/>
        </p:nvSpPr>
        <p:spPr>
          <a:xfrm>
            <a:off x="200160" y="189000"/>
            <a:ext cx="48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uk-UA" sz="4400" spc="-1" strike="noStrike">
                <a:solidFill>
                  <a:srgbClr val="9933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906120" cy="660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2" name="" descr=""/>
          <p:cNvPicPr/>
          <p:nvPr/>
        </p:nvPicPr>
        <p:blipFill>
          <a:blip r:embed="rId1"/>
          <a:stretch/>
        </p:blipFill>
        <p:spPr>
          <a:xfrm>
            <a:off x="128520" y="189000"/>
            <a:ext cx="957744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10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Прямоугольник 5"/>
          <p:cNvSpPr/>
          <p:nvPr/>
        </p:nvSpPr>
        <p:spPr>
          <a:xfrm>
            <a:off x="328680" y="609480"/>
            <a:ext cx="9329760" cy="1295640"/>
          </a:xfrm>
          <a:prstGeom prst="rect">
            <a:avLst/>
          </a:prstGeom>
          <a:solidFill>
            <a:srgbClr val="4b5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на програма запобіг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дзвичайним ситуаціям та ліквідації їх наслід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м. Чернівцях на 2016-2020 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Прямоугольник 6"/>
          <p:cNvSpPr/>
          <p:nvPr/>
        </p:nvSpPr>
        <p:spPr>
          <a:xfrm>
            <a:off x="271440" y="6597720"/>
            <a:ext cx="9401040" cy="71280"/>
          </a:xfrm>
          <a:prstGeom prst="rect">
            <a:avLst/>
          </a:prstGeom>
          <a:solidFill>
            <a:srgbClr val="403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Номер слайда 11"/>
          <p:cNvSpPr/>
          <p:nvPr/>
        </p:nvSpPr>
        <p:spPr>
          <a:xfrm>
            <a:off x="9323280" y="6492960"/>
            <a:ext cx="50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Прямоугольник 12"/>
          <p:cNvSpPr/>
          <p:nvPr/>
        </p:nvSpPr>
        <p:spPr>
          <a:xfrm>
            <a:off x="4569840" y="1467000"/>
            <a:ext cx="200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Прямоугольник 8"/>
          <p:cNvSpPr/>
          <p:nvPr/>
        </p:nvSpPr>
        <p:spPr>
          <a:xfrm>
            <a:off x="2806560" y="2209680"/>
            <a:ext cx="2146320" cy="4267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забезпечення пожежної та техногенної безп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Прямоугольник 20"/>
          <p:cNvSpPr/>
          <p:nvPr/>
        </p:nvSpPr>
        <p:spPr>
          <a:xfrm>
            <a:off x="5283360" y="2209680"/>
            <a:ext cx="2146320" cy="4267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створення, накопичення та використання матеріальних резервів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4,9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(придбання речового майна для запобігання, ліквідації надзвичайних ситуаці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Прямоугольник 22"/>
          <p:cNvSpPr/>
          <p:nvPr/>
        </p:nvSpPr>
        <p:spPr>
          <a:xfrm>
            <a:off x="247680" y="2209680"/>
            <a:ext cx="2146320" cy="4264200"/>
          </a:xfrm>
          <a:prstGeom prst="rect">
            <a:avLst/>
          </a:prstGeom>
          <a:solidFill>
            <a:srgbClr val="c6d9f1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забезпечення укриття населення в захисних спорудах цивільного захисту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39,9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ремонт захисних споруд цив</a:t>
            </a:r>
            <a:r>
              <a:rPr b="0" i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ільного захисту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TextBox 11"/>
          <p:cNvSpPr/>
          <p:nvPr/>
        </p:nvSpPr>
        <p:spPr>
          <a:xfrm>
            <a:off x="2889360" y="2438280"/>
            <a:ext cx="189864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150840" indent="-150840"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забезпечення пожежної та техногенної безп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Прямоугольник 20"/>
          <p:cNvSpPr/>
          <p:nvPr/>
        </p:nvSpPr>
        <p:spPr>
          <a:xfrm>
            <a:off x="7759800" y="2209680"/>
            <a:ext cx="1898640" cy="4267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організації рятування людей на водних об'єктах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5,0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(придбання спеціального обладнанн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Прямоугольник 8"/>
          <p:cNvSpPr/>
          <p:nvPr/>
        </p:nvSpPr>
        <p:spPr>
          <a:xfrm>
            <a:off x="2806560" y="2209680"/>
            <a:ext cx="2146320" cy="4267440"/>
          </a:xfrm>
          <a:prstGeom prst="rect">
            <a:avLst/>
          </a:prstGeom>
          <a:solidFill>
            <a:srgbClr val="c6d9f1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а забезпечення пожежної та техногенної безпек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50,0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(придбання спеціального обладнання для забезпечення пожежної безпек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5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906120" cy="65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10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6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777600" cy="68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руктура видатків на освіту за рахунок залишку коштів міського бюджету, який утворився станом на 1 січня 2017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9" name="Object 4"/>
          <p:cNvGraphicFramePr/>
          <p:nvPr/>
        </p:nvGraphicFramePr>
        <p:xfrm>
          <a:off x="272880" y="1197000"/>
          <a:ext cx="928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197000"/>
                    <a:ext cx="928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8852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руктура видатків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 освіту за напрямками за рахунок залишку коштів міського бюджету, який утворився станом на 1 січня 2017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2" name="Object 3"/>
          <p:cNvGraphicFramePr/>
          <p:nvPr/>
        </p:nvGraphicFramePr>
        <p:xfrm>
          <a:off x="84240" y="1700280"/>
          <a:ext cx="982188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1700280"/>
                    <a:ext cx="98218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4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990612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Text Box 5"/>
          <p:cNvSpPr/>
          <p:nvPr/>
        </p:nvSpPr>
        <p:spPr>
          <a:xfrm>
            <a:off x="2592360" y="4456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6" name="Object 6"/>
          <p:cNvGraphicFramePr/>
          <p:nvPr/>
        </p:nvGraphicFramePr>
        <p:xfrm>
          <a:off x="41400" y="2060640"/>
          <a:ext cx="986472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2060640"/>
                    <a:ext cx="986472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598" name="AutoShape 38"/>
          <p:cNvCxnSpPr/>
          <p:nvPr/>
        </p:nvCxnSpPr>
        <p:spPr>
          <a:xfrm flipH="1" rot="16200000">
            <a:off x="7527960" y="3284280"/>
            <a:ext cx="2160" cy="216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99" name="Text Box 40"/>
          <p:cNvSpPr/>
          <p:nvPr/>
        </p:nvSpPr>
        <p:spPr>
          <a:xfrm>
            <a:off x="1052640" y="907920"/>
            <a:ext cx="74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 ВИДАТКІВ ЗА НАПРЯМКАМИ ВИКОРИСТАННЯ КОШТІВ (МЛН.ГР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WordArt 41"/>
          <p:cNvSpPr txBox="1"/>
          <p:nvPr/>
        </p:nvSpPr>
        <p:spPr>
          <a:xfrm>
            <a:off x="1521000" y="333360"/>
            <a:ext cx="670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ізична культура і спорт</a:t>
            </a:r>
            <a:endParaRPr b="0" lang="en-US" sz="19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10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10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57:48Z</dcterms:created>
  <dc:creator>budg_1</dc:creator>
  <dc:description/>
  <dc:language>en-US</dc:language>
  <cp:lastModifiedBy>Ivancheskyl</cp:lastModifiedBy>
  <dcterms:modified xsi:type="dcterms:W3CDTF">2017-03-23T12:14:36Z</dcterms:modified>
  <cp:revision>472</cp:revision>
  <dc:subject/>
  <dc:title>Слайд 1</dc:title>
</cp:coreProperties>
</file>