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</p:sldMasterIdLst>
  <p:sldIdLst>
    <p:sldId id="256" r:id="rId65"/>
    <p:sldId id="257" r:id="rId66"/>
    <p:sldId id="258" r:id="rId67"/>
    <p:sldId id="259" r:id="rId68"/>
    <p:sldId id="260" r:id="rId69"/>
    <p:sldId id="261" r:id="rId70"/>
    <p:sldId id="262" r:id="rId71"/>
    <p:sldId id="263" r:id="rId72"/>
    <p:sldId id="264" r:id="rId73"/>
    <p:sldId id="265" r:id="rId74"/>
    <p:sldId id="266" r:id="rId7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" Target="slides/slide1.xml"/><Relationship Id="rId66" Type="http://schemas.openxmlformats.org/officeDocument/2006/relationships/slide" Target="slides/slide2.xml"/><Relationship Id="rId67" Type="http://schemas.openxmlformats.org/officeDocument/2006/relationships/slide" Target="slides/slide3.xml"/><Relationship Id="rId68" Type="http://schemas.openxmlformats.org/officeDocument/2006/relationships/slide" Target="slides/slide4.xml"/><Relationship Id="rId69" Type="http://schemas.openxmlformats.org/officeDocument/2006/relationships/slide" Target="slides/slide5.xml"/><Relationship Id="rId70" Type="http://schemas.openxmlformats.org/officeDocument/2006/relationships/slide" Target="slides/slide6.xml"/><Relationship Id="rId71" Type="http://schemas.openxmlformats.org/officeDocument/2006/relationships/slide" Target="slides/slide7.xml"/><Relationship Id="rId72" Type="http://schemas.openxmlformats.org/officeDocument/2006/relationships/slide" Target="slides/slide8.xml"/><Relationship Id="rId73" Type="http://schemas.openxmlformats.org/officeDocument/2006/relationships/slide" Target="slides/slide9.xml"/><Relationship Id="rId74" Type="http://schemas.openxmlformats.org/officeDocument/2006/relationships/slide" Target="slides/slide10.xml"/><Relationship Id="rId75" Type="http://schemas.openxmlformats.org/officeDocument/2006/relationships/slide" Target="slides/slide11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711A-B53A-4216-877D-9EA17DF75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AA37-C11C-4F3A-A21E-B1035652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12CB6-1E5C-40F6-94AF-E8CA4EAC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E0012-6884-4607-AEE0-B7AE602E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3A269-8600-4C61-810F-2EDBFE57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3FE66-8527-4AE0-BAD4-CF674E8D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1AFCE-A2F1-4D46-840C-63068BE7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4800D-03B9-40F0-A820-6D93F13F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C1D3D-E153-45B3-9FC5-50DF7746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C4E93-0D90-40A7-B41B-9C9B92C9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30881-C6B8-400F-8739-470F803E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E1055-CA45-407C-9AF3-455531D8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439F-6E06-49DF-A80F-5EDDF82F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66229-57AA-4EB8-9858-70439F58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55045-6313-4894-98D3-30119357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063A9-8B59-4FC5-949B-5C45314B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3DDEA-BCC6-46CB-BB5D-9490EF87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25F6F-B2C7-47F3-B934-DD8BB533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E90C7-3BFE-42B0-A115-EF7511AD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D9F7D-4D4D-4718-82E2-DE501110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E8FD9-6E8B-4548-B74E-94F978DE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A1C8B-B0CA-4475-B2E9-B0C1D9B2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C0E97-3A0C-42EC-92D3-9EA4E28F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53E2-A968-46DB-88CB-9D06CEF1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157CC-9FD9-4FF9-BB1B-AD774B83C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B3FD7-398C-47A6-B7C2-F007BBA6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41D16-4C70-4E97-8D4F-F62A4AC7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2A1A7-8E14-487E-8393-473AC39B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61629-50AF-4899-8B4A-E26E0EBC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87AB4-6527-4BD2-932D-0013136E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6117A-6C9A-4241-9C19-66E406BC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77947-087A-49A3-8EFE-7D550D13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07EC1-A476-431B-841F-1FC5E1A4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B0E16-107E-4489-BE35-7F276505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3DFC-6B6F-4A07-843A-02B7CBA9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D2020-777C-4564-9332-2BC9876D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7733A-8DDB-4BC3-915D-1DAA10B1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E6B02-87A1-4C89-8685-5B7D2FB1B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66413-8E81-4A18-ACA7-9A48F778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BDBAD-4842-4C0D-B114-FAC33564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85BB4-D4F5-4F8A-B1EB-7D713EEB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8633C-7D80-451E-8322-A92CAAFB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95702-F142-44A3-9B17-A0A17EB0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E07CC-2305-42A6-8110-BFB8F410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D7D1C-3AAD-4494-97E7-9E079BEA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3DA5-A610-457C-A38B-2C411FA8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F78C0-84FC-40AC-8A57-00BB5D22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1B860F-9427-4074-B7D4-87CE94C3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2B47F-9D6D-4A5F-85A0-3B0C3B8B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E21EB-CC1D-4DFE-896E-327D7683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D12C8-7315-46D8-A8F7-82AEB65F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9DF518-BFD8-46D8-B553-15F8D814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36EE60-098F-44AF-9AA6-7E24D135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E4A6C2-FF0B-4029-A533-488F3B72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F8AF77-16FE-4A9E-91CC-F0DA0C3E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DCC7FB-FEA1-4FA1-8FFB-5457FF26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9653-49BD-43EC-A138-3B9209CC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1DC3B9-1350-47E8-AB2D-7E7A2E62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32368-2E4C-4C6E-85CD-9270D96B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8A9DA6-7A39-4D31-B122-E53D27A7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F45DA3-8A41-44E4-BC88-100BFD17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B36ED6-6534-49CB-AD9E-A7B56AA0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0A2A57-8636-41C8-B6C4-7282B8AA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F4E27E-E0E5-4AB5-809D-92052CD6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7E3413-1A4E-4FF9-9662-15B78630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8F8930-7A0E-418A-A83B-8CF1801B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1465F4-05EF-463F-9B70-ACE72C7E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6839-9525-4CD6-A2C4-2791BCB3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30AD1D-221A-4A6D-8D1F-2B201790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E9C3C4-B719-4BD2-A89D-6763E5D7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262604-CF40-4D6E-B368-C75CCD16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32DC90-D3DE-4614-B832-7E7B8F23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F9F55D-AA2C-4D6E-987C-6DEC7A5F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C544EB-A300-46CB-BDB0-FEEF1D95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61C5B4-B6D6-4760-9B7C-8130BA7D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29E412-F9EB-47EE-8219-71A0A2058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D7C2B4-A17B-449D-BEB5-2150D0F2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E1454A-BC9F-434A-8B20-F6DBB32A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100D-F639-453B-8E17-7444BDE8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5C9FB8-66AA-4145-A139-A2650303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7FA46D-9576-4A83-8916-82FC4AAF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E5CB82-5114-413A-962F-209022AF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C009EA-18FF-4ACE-A478-1CA296FE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71E34C-4E91-408C-97A0-DB9BBFA9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BB4085-07E6-457C-9C6A-DF9FD098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338FF7-6F00-4EE7-B116-211432F0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2D06A4-4FBB-4DC1-BD4D-D6641B7C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77D6FB-9389-42EC-A006-41337BF5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76F03A-E2D8-4088-9207-8D6BBBD8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52CE-241A-412B-A881-ACCDF6E7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F82265-0C71-4920-9F75-0C47EFDB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E6FFC5-EDB1-4773-B59B-BB0D5FFC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AA4A58-75C3-4B88-AE6C-26DE96D0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437791-941A-4FEF-BFFB-1ACAB796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9F3734-5AD3-4520-90BE-44B51BFA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30C58E-2F09-4174-AC86-394BC58D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816F3E-50CC-4BE4-BEE6-490C93BB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9B9582-9C55-4994-B263-72973425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5B5D97-FEF5-4E76-91C3-A2EE4249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A56B3C-1945-40CD-82DA-738398EF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D6A4-2D81-45B8-BFA9-2C0EB182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59F610-6B66-4265-B551-287319FE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24CB3E-BEEA-44A9-9981-7A696AD2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559722-3523-4C6B-8AE0-E4413022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602685-869B-4875-AA9A-AB439085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D3529D-EF0C-4761-A16D-005E0118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3D4DF6-3B5A-4484-B7B9-C7B9D78A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4DA52E-AA8F-495D-9E6C-A4815ED9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5CB350-8FF2-4284-B434-5EB9CEBF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81AFA5-4220-41D2-B95E-7810A27F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2DB612-2926-406F-B2A0-B1DBD389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BA09-52C5-4681-A6BA-11C7EF1E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B097-0EDF-4067-8F5F-045F82CE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D9649F-9192-421D-8D7C-DB604D1E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29A0E5-751C-45AA-9895-CBA8B930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94EF87-4224-4952-8861-CD8AD4FC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CFFC8E-E628-42DF-92C9-3BC553EB3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3C0930-D5E9-42FF-A019-5C4E8BA4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09B2D9-BC24-44DA-BA1A-962F2768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712994-3F80-4AB1-BAC8-C5D127AB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CC4340-1283-4D7E-9DA3-3DD35D88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BFEE53-0596-4198-9738-C5155D55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05B0C1-5821-4502-8DF5-7B605E3D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303A-CEBE-4FA4-B4C8-92E333FB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D666A1-7585-4CF7-9D9F-DC2672FE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CE4FEC-1A10-4B62-A220-59407432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DB9C3A-AC76-4103-BB4C-8AC7875E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A2C24E-5391-42C2-9456-510F242E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3F3814-24B2-4E05-93D1-854C5C3D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BCAB75-4379-4C9A-B39A-E970DDF3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E77894-EA23-4089-BAAC-381883F7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083585-EBD3-4E6E-B8CC-E7F9EE85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ACD71D-0796-42FD-946E-C58E22E8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09092F-77CB-496D-A1FE-3DEB7996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9A1B-E178-4BAB-9741-E5599EDD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74A6A1-A34B-4CC6-8C86-7596EDA7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E296DC-38CD-4038-81FB-8A1CFF7D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3BA0CF-95CD-4DA6-8657-BDA99049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F9A016-F671-4FBD-80B9-3AD88C70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FA8DA4-7A61-477F-B166-A13B0E39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8DE158-7CE8-4E76-A1DB-3524B645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4E3AAA-936E-49EE-9F5D-16FE878F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E83674-BDF5-4F39-A57B-3AB6A31E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9A0643-111A-426F-8E6F-1D0C0839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EF6262-5C04-46E4-B59D-B87FB741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44D1-AB19-418B-889F-0775A0A0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BDEA70-7978-4DC5-B753-4AF5F193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F57273-F91A-41C6-AC66-45430B7D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183CC8-D264-4046-A739-7559B2D6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7F881C-D5BD-4E71-9960-C3457650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A3ACD1-DA3F-4E6A-B29F-F90B8E2E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9E458D-C0DC-4413-B62D-31037C83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B18A35-2451-4FE3-8350-6057AC64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FC3DD0-8254-4E0F-8E87-737A7D23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7D1622-421E-48A2-ADA1-C697AFC9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9C49E5-F86F-4998-AF27-71C984DD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6765-0C3E-4E2A-9515-D7E1A6F8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9A32A2-5BE3-4F03-ADE5-B6B475D4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63C89F-4A1F-4310-A5E8-0136FE4D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95310C-9C88-4657-9C03-DF041AD1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656B30-4DD5-45E9-BF19-EA2F99F1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30DBBC-61AD-45ED-8221-A7BD5F46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AA8025-8351-48E5-9884-399222D9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72C457-9F71-4F80-BDD2-78C68AF8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084087-ECA4-4529-820A-E0BB41A9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2B7772-70FA-49B7-8599-E08E7408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5FE635-EF25-4C49-B17C-D0E8CC84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182D0-76FF-47EE-815F-E0AE1038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2D8BE8-8236-4E7D-8C2B-A2C04752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513965-33A9-4A1B-8C85-E85DDECC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909970-B96D-41F0-AD13-A0484DB7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69338C-6403-413E-A7BF-AFEE4E6A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E17DE4-B560-4F4A-BA5B-33DCB174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1EAA2E-6BB9-46E4-A7F4-ADC2D16C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4A0893-6156-406E-A3AD-2F065F82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B74AE5-B094-49AB-8016-D15555F2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B0CFE1-982E-4060-A8AE-9BE1602B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3F5250-8179-4A89-8404-681BA06B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25E72-0C17-4766-8FDA-64B00365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6F89A0-3218-42D8-8A3E-9BDE9107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5358D7-5F15-47EC-8126-90B0DDD7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891CF2-6AF5-42A7-B79D-EEA53B43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F838C1-78A3-4AB3-B186-C6420F85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FDDB67-4841-48E5-9A81-174D62C1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E089B1-41C8-4C00-AAF7-35438202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C2A91D-A9E2-45B9-AFB3-74671C07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12998A-64D1-4EFF-9312-0088713C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1838A3-4212-43D1-9A3F-5F311F33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34BB02-33E4-458B-9ECE-6835D8F8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01E50-5ABE-42C3-BA93-A6EF12FA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5CD8A6-0BC6-42E3-84C7-1C6F988A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C1A609-53AA-4B2E-8261-9BE9C32A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5FA04A-5718-464E-85B0-CB2DA664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445B8B-9A8E-4E11-A98F-7B2AFAAF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42E557-58DD-4741-8CED-55AD2C7F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CBEFA6-9CFB-41BF-B221-A3026702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C5EC9C-EE55-4632-AD32-7CFFDE7C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62BCD1-CBE9-43B2-82E3-901E777F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604BA8-272F-4B25-A358-1853C219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706AAE-BBB9-4ADE-B1A2-89017587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E5898-3268-473A-8A4C-FCABD614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B5CA81-DFB1-4DC4-B0B6-7B88D298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5CEB14-77CE-4CBC-9A28-3DDDD635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109EE9-748C-428A-B158-493D20E4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A15C44-DA19-4AA5-A8AA-15474A5A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35E994-31B2-4DB8-A19E-C3399602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C11B50-396F-4AAA-98C3-CD882454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EEA6C5-741C-4404-A526-61F8B564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6844C7-39AF-4A61-8462-356D401E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21983C-33A8-4666-BDF6-633A740A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91210D-4A02-430F-A4D9-8003B341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91749-602C-46AA-900F-C9A5E66F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985AAE-5549-47ED-9358-FF1CFECE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D13D84-8BAE-405B-BD0A-BF42908C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5AED09-6D43-4E2A-B25C-804304E1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415788-86C4-46A2-BCEE-62C9100B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3B71C4-829D-464F-9276-BA7500EC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B76900-0FE6-4E84-A383-5050845D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C19BF9-DAE8-45B1-9B8B-A05F2177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59E5A1-1535-4A02-B2E0-013DFD56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8339C9-CDB0-41D0-AF2A-BB44F2B2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E6FD94-6E7D-45EF-B879-982BAD58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710A-D4EB-4771-957C-E53172D2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1F1EF-B354-486D-A675-7D35D90C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3D2B46-AB28-43D2-9056-0DA4867E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01479C-5138-46BF-968A-19F4560C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5B6F38-19BE-48FC-B95F-9623B01F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8AEBCE5-AECA-4975-93E2-569174E8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D02864-692C-4732-B996-8175689B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1E8A2B-C385-4D51-A6E8-DDB718A0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C5A883-07C9-40CE-9D26-989EE6A9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EC9783-91F9-4B9F-9DC7-9C6B257D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63527D-64BB-44CC-BAED-75880D55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61EE9E-2044-4847-8D89-AA10A7A1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CCA44-E41E-4048-9F84-C59E4C65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6D461D-942A-4273-ACDC-BE68A0BA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7DA53B-AF50-4AA8-BBBB-13D5B60D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66EDD0-CA33-47BE-9027-8AE1D136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448B56-0D29-4756-83FE-ADE4B38C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63DB1B-3265-4B24-BB65-44F9DA02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0A3D7C-01C0-4156-B172-A7A31211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0474A9-573E-43E5-BB28-9EBAAEB5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FBADB3-D43B-4349-922F-84E17B67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BD8A16-7053-457B-874D-A733EF20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88BABB-A89A-4BDC-B9D4-4CF4F7C5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E0BFD-F683-4552-8296-A5864C40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D9DBE0-012E-404F-A9C2-F03EF851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1B2112-37B8-4EC9-8DC4-A1DFD799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238AAF-9469-4184-A41D-FEA4B8B9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6BA48A-1F3B-42EF-82F7-1AA13F74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E1D57A-73DD-4A0B-8B26-B6E592D7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A8796B-41C5-43CB-B670-BFA3AD48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9EB7C3-C27E-4DEC-8AD2-403B4D56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160216-D8B5-43E7-AA4D-21888313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9D93F7-3AED-470F-B9D6-3FDDC615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935A1E-309A-4F92-848B-A90242B5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7FCB5-30E5-475B-840D-A929460A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CCB90B-1050-44E4-8A7D-4BC2BE6D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B3579A-96C7-416C-A2E9-FC7E0A34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9B2D4D-8922-4BC7-AAEE-1EB02146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FBF311-F31C-4F42-86AD-C393DA84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1A381F-7977-43E5-BF4C-2C1DAC3D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B647D9-747D-434D-A74B-83902E42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5E0466-21F7-4D6B-AC1E-B337F088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18061E-575B-4613-8A8C-6D159A03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C9A346D-7486-4367-A754-72D0B106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370F730-9A9A-4209-87B5-23D63C28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90B20-11F8-44B0-8F16-86780F89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3067FC-3263-4260-9346-43C93BC5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7BFDE2C-0EC5-4E5E-AED1-E6E7204E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8ECA63-E5D3-44B3-99BA-D73185D6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0EBC20-428A-481F-AE4B-414064E0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3DCDA1-A092-4398-86F2-B46F361F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5EC68E-8FFA-4434-9765-68E9D221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4E5469C-588B-4F0F-9981-8C070B2C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6AACAF-9755-49A0-9F76-4E1CD72C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5A8E1C-6334-4542-B9DA-E4E8CE80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C59E37-965B-4665-AB42-D11C9A9E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65044-7BD4-4C6B-A4E5-2008003D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F64721-EDFB-449E-B12F-B2D30F82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9EEC25-001F-4837-9198-34D7F029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5391EC-F913-41F2-8839-522927FF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DB26C99-FB8D-400C-9373-4D18957B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406453-FA9E-4207-A325-C37B5FA0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66BB598-4715-4EC8-8BAE-D376A91A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F61284-BD4A-4275-A85C-E8577942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A001A2-C175-40C9-8B9E-16CDDF3C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7806336-E8A7-46F4-A183-B5835B65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0B1835-F586-44B4-A9B1-00715215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3FC2F-A582-4775-BDA7-DD01D48C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88427E9-DA32-49BA-BD5F-EE040892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31DF2F-8E5E-430D-9800-E0DEC562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5534A7F-BFBA-481F-B69B-52CA8413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EF66F3-6EC8-45D8-83B9-C92B23FD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A2D349-A976-4C48-B3EE-94C15AE1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3E79805-5D1B-4C33-BFB5-4245A0AD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C575A7-D4A1-4C20-AD78-38957F93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66896AE-07BD-4917-90A9-8C91C7B7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5CAE18B-9445-4CE8-98BC-B0F6D50B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9893D4D-9B0F-4FAB-9EDE-5069AFA2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28B16-9B63-4511-8EE5-C8BEA61C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636E840-D348-4B33-9B3B-300FC69E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5DE6FAC-A436-44C9-A284-B0061D1B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F694D3-B003-4872-B237-26C22E88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547EE75-E6D9-4045-8B2B-82CB6E26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305B7C9-9474-493D-91A0-66A09A54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81F8DB1-C4FF-4767-AB3B-A9C36EB4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80D5E6D-4A42-4873-A55B-EDCB8101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EDE83CB-F31B-4C4D-961F-202B5634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36B8C57-1603-4BFD-BBEE-6D9953D4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D0D799-4FD1-406E-8E14-0828CFE3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88AA0-C9BB-4475-8487-4D76F389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8E0A8C6-5150-455C-9EAE-6CC4CB87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005B7FC-3B86-4063-BD1A-B929E2AB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0709BD6-CD8D-4E31-A672-6C1144E5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C615528-0610-424F-A590-8AEBA252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800F59-5CDB-4C34-9D2A-A8CADC9F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302215C-E505-4596-A3CE-AFF38F07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213C132-5EA3-4655-B9C8-411DCF8A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91296D8-BA7E-4DDF-9838-1BDD8ECB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DA70752-DAE8-420D-9A94-A3D3869F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988812A-694E-49C4-AEB3-3E93FFFF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7B89C-84B7-454E-BE41-3EDF9346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8B2B3AD-B1BB-4C76-B7AA-0FCCE3A6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6A2C9EC-EE77-4760-9A70-54D7C5BF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7F51750-82A9-4675-8DB3-248477D4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72B5EAA-8A43-40F1-8C9B-BDB34F3B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D120E67-DF6F-427D-A4FB-D4101286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51389E4-4EE1-4D85-94FA-2A3F06DE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6FB8658-6A9E-4D27-B117-55806107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5092841-A74C-45DF-9C19-C6996AEA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8FE7D5C-8209-4C02-9B00-761B4E0A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D66AFE1-885E-4C03-A463-D59C88D6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61AD-F196-456D-9444-7413817B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0CD6B-016D-432F-B2D4-632253C6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9ED0421-621A-4F02-904C-3EDA30BF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8DE69F9-5463-4813-83C4-4E4AABED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CB8D82A-E304-46EB-B354-8FFC7BB8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D02338F-2BDA-4108-8BB2-D562DAF0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AFA93BB-4832-408C-ACE7-382B760E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0CC757-3683-490C-BFFE-575E22C6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8992C9E-C13C-4BC3-8AB7-00968D7D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E156F54-D43A-4002-B327-E6D16F8E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0417A8D-91F7-490E-8C15-0757AAFC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442594D-77F3-4A20-9B4D-24525CDB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AA7BF-0A4E-4A2C-AE8B-F070295D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A6606D6-F56D-4010-8D0D-51943176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9A688D5-546D-4420-8B1E-A5A5E542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8D1B2EF-017B-4225-9CD2-B3F7AC2B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C68A04E-F612-439B-90E5-679172BF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3A5CB2F-B978-4D00-9E15-D6E40390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74C3988-32CB-4AC5-9B08-50ADE20E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429B1DD-EC5F-4374-BA64-B5CC35E6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B0E53C5-3549-448B-9912-4E17978D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603E157-4BA6-4637-AE26-3A95CF3D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8DA352C-AAE4-4EC8-AB42-13308229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E7562-F316-476A-B6E8-8661F25D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1052308-F670-4E96-A38F-CE7A1DE1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A8E4F05-42FA-45B6-89F2-A25DE7A7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742B6E2-2D7A-48FC-88B0-62A72F9A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589061A-66FA-474E-820F-25707C25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56DB3FF-BA8E-460B-80E2-41FDA5E1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C2A006B-B3B2-4458-98DA-87AD0A55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38F0F7F-D2C3-4891-A903-8F8EFB79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1470F1E-90C4-4884-8BB2-3EC8CBDF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FDC79E4-771F-457A-9399-AF72E45A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FC03987-EDB9-404A-9BF4-C0259CBE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2282C-C1D8-46F3-A0EE-72ADC61E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7F7783-3BB2-408C-A5C1-34773B0C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03C1075-AE42-4315-8DAB-925B4CD6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AB11FBD-2C5F-4979-AC45-26B2594D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90E0722-0FCE-4C9F-96DA-BD42B150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9C292D7-3055-460B-A838-5F7E9705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68505E7-104E-49D0-8D80-4A13476C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6D08E7B-68A6-40A7-A6D6-5A48AB42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C756ED4-6EFD-47EE-BEB0-26008A93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693A06A-B118-4397-95E1-A4D9848A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9A3C972-DEFD-4175-BBE5-848B3897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3079A-9D51-4393-A004-C1F521C7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89915A1-0D73-4112-920E-8CFE8EE5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195EC18-DEB9-409F-B6AF-2CFCC79B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293245D-2AB6-48FD-B7E5-6D084798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FC27E39-A1F8-4937-84C6-885BB0E5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0DBC072-546E-472C-B28A-92A9D903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EDDFB07-AF63-46DC-818B-53C4CAC3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9F7080A-55E6-4994-8B08-49D2F5A1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E8BECE6-DE4A-4680-999C-0A59D8E1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947C07C-B402-42BC-BE27-3D2D8A73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1352440-DFBE-40E6-9F6F-430B3189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4E03D-6EAC-4D91-8F94-BC77478D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1D94EC5-824D-4D03-9DAC-EAB755EC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9EB4B80-FBCD-45E0-BD92-5DA6A530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C938D9D-E4F4-4CCC-AEB8-D62959A0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F404A6B-4E66-4BBE-8036-2FF552DF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EB3037B-15B2-4E6A-8E26-8066F3CF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62C6B9C-733B-44FE-B51E-5DE1668C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36CD0F1-0BFC-4BD3-8C11-EDA295449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86092AF-45D2-4610-84E8-6EDD93CC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EBAD8DA-3890-4A65-A5EE-8CAC911D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49305BF-BA05-4B84-B10E-CDB2709A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B7AC7-0D43-4D4D-A35F-9E13C209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93F472E-AB2E-4132-A3CE-DA2667DA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5EC72A2-FA92-48E1-9E32-D86235BB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19C4B97-B5A6-4902-ADEC-EE1C553B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CB099C5-F640-4D9F-A571-E10A1A21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2F801FB-D845-41FA-8BD4-52F4531F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96E7EED-82A8-4A95-986D-6C676463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B2F3FC1-25B3-4777-9894-BDA933BE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D541994-C6EC-4BB8-B352-6A2E15A0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75B79E1-B838-4713-8E59-8E60FA5C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2C22DE6-630B-47BE-A811-17FB49BA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D0996-7F05-40CD-9FFD-685CD36B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D1D8967-0E45-4B02-9375-CE7D0065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AC878FF-BB47-47DE-B0E8-1EFE7061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5494B96-AC17-4B63-A677-963EB57C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7312650-473B-4B16-B965-272AC071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D6F9C14-8E1E-450F-AD8D-752105B1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8610B0B-4E08-41CE-9503-81CB09EB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AD52A60-7F0E-4B81-832B-794842CC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A9E1364-8632-4019-9730-8D8BC90D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5690430-F776-43D3-90BA-D9B95086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BC7F943-9A5D-40C1-AB54-8575BDFE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F4D1E-F54D-457C-A618-99AE0282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945BCDE-5E4F-4F7E-96E9-C063ACBC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DEEEF61-BF0A-4639-A233-5D6F2DB3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E686AAE-DB8B-4A58-9230-084BE835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DBB0229-98FD-4199-8A43-8D0A56E7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EF0D4BB-DD2F-455D-B495-C1CEA853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DEDF43C-F290-45BC-910F-7F6BF3F1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64FB16E-5247-4091-80EE-CD9A408C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6C2353A-2CBC-4CE8-90D6-0281C76B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BDA4BE1-05A9-4029-A41B-D10E1795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9A30C72-B88F-4F77-BA81-75A4267F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3A8FE-054D-4801-B57E-9CBBA138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AAA6AEA-3DA5-4B14-BF3F-8E5A349E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B9E3592-E0DD-4922-A780-A5BDE942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3886777-DE09-4C81-83AD-37BD97BB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18ACB63-E3C6-42B5-BA63-0699C732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05575BF-D76A-47C6-A586-DAF4A9DA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0111008-0DBE-4D16-A5F9-09484B88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711C8DB-69E8-4E6C-BB89-D69BE334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2B99555-BBC0-420F-82F7-2179EB84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4DCDFE5-A84B-4BD5-9644-FE9318E6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983D0BC-54B6-46CC-A4A0-5B2E9365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D25B-CDF2-40C2-9E3A-9F38D269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F6AA7-163E-4D77-BE57-D61AD47C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89A734B-F821-429C-91AC-019C78E4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F49BFCD-9BC2-477C-AC32-B8A90359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627D656-A9FE-4424-B74B-2BEA2C1B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FC67778-4CBF-486B-9D04-41F02312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48F4F35-8A3F-4BB5-91E7-F3E93E94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1840DA0-57DF-4F55-BAD1-B1CB4CEB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EF1FE8E-4D7A-4B09-8175-3E4E8D2F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475CF5E-0596-4D19-8742-B37DA63A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5B42FFF-7C43-4557-8905-CF3C7D04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D4311B3-D666-4F26-BBC5-CB7E71AD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66599-AD0D-4216-A706-CB45CEC8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4D30DCB-0B25-42EB-B395-6F0A686E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9877654-A04B-4671-BF4F-83CDAB57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2A45E18-708A-451A-8A43-B4A19BCC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663112B-1D50-4122-A356-B24E7A6F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DCF74B9-D31D-4006-A6EE-FCCE44C4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ABB315E-C292-4A08-897C-9872D4FC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AD740D3-713E-464C-9271-50AD5DF4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4C1518F-88C1-477A-9C7C-BAD396BF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E2E5018-C7F9-433B-8A5D-0D3C1000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3566D04-B7AB-48F5-B4D3-9D6D4D04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6C5BC-BD7A-4B16-AC1C-B7F023E6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FCA0651-59B1-4A73-8E9B-1E09583C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64927DA-1A03-45BE-902B-2599DBD1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0708F81-DCBD-4B62-AC6A-9A38D885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65B9D5F-F0C6-427E-8AA4-E7908C68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4DA3C12-B18A-45E1-9173-FE7E05D8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85347E9-00F6-4ED4-9D88-4B07C61D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7616C91-E67A-442A-8121-B951060C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5C19B51-B1BF-4420-841A-D0F117CC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1A7EE98-7E3D-4B58-839C-78A2A6C4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D0B7353-39C1-4F09-87D7-863B5979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AE61C-ACC8-4955-9B03-5D45E86F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B7328DD-0D31-491D-AE01-A100DDF3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ADEE06C-13A8-45F5-AC82-093A7E6E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31C6A65-AB4C-4391-A965-D6B76588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F1ECB13-4A96-4CE0-A223-CC09032F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77254AD-1DD2-45CE-8170-7907647E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6F31948-D8C9-4005-8719-2DCFB822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7D1D9A8-1087-44E5-8374-5CDCBE31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C5EF09D-2FAF-4C24-B0AB-6C33ABA4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2BDA56E-6FA1-4B06-AAE0-D861D18C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D049754-39A6-4042-8AE7-09B49020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6D43D-AC5D-4793-8ECB-758AE5D1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98BD598-5F84-43E5-88C0-B00B080A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B540F0B-D5AF-47F0-85E0-3C6A34E5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8CC6863-37F5-474E-AD83-8B5470EC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DDC3728-21EB-4A14-97C7-61AC1CA8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B2635E2-1DD7-4317-8602-51A46899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659D5C2-3321-43C0-ABBD-CB338443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CAC543F-2FF6-454B-8EC6-DC04C29D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97B0155-164D-437C-B531-C77A8F98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68AE334-DC14-4AB5-8D77-7FEE50C9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A5576EE-B7BB-4DF2-AA66-C6319436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90E34-5296-4884-AAD5-9C3D4A9E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D33D1C7-4DA1-4C81-8FE6-3C700000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17AA7EF-62F2-4801-BA76-CC3FE926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3A70FE8-EFB3-4CBF-9D83-0328415A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2498D6D-707F-49B4-A55F-110F4DE3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BFA8BA6-FACD-413B-9630-4DBC787F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B8FCDC0-02A2-4CBD-840E-260C1318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BDCECDE-CFAA-482A-8005-D7FB30CA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C30B543-A8CD-4257-9CAB-C96553F0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50402B8-E186-4424-BADB-3C475F5B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F02A26B-F315-474A-8790-22B69A9C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1A7A6-17CB-4787-8A1D-44ACC08C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CA3356F-DF29-4C68-BDA6-BDF76FD5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DCB8876-809A-4B34-8E3B-6C405B52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2AB09CE-9891-4055-ACF6-A2772495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D4F5350-3CCF-457A-8847-107FE58A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98F6198-A330-4B07-B09E-0D47868C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5B04CD4-53AF-405D-9989-7A28A075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A644A9E-4119-48A5-B802-A1889D9D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A94156C-F2E7-4EE1-9102-BF8847D4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B5E8EFB-4533-4B71-87D7-120FBC5C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BDD07EA-F9C1-4EC5-BCE7-D9D01F13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BE81A-8EFD-4EAD-AAF6-1517DF63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D0C9475-96D3-4DEA-A1C6-7EC9C0A3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A0E6C36-5569-4C20-B27B-81FB1AD2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E7E19B8-B07D-4B23-83F2-EBC8EB3D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8341193-6812-4112-AFF5-0D4E88EA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EB1346F-3A6F-463B-9042-28B0A087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2041BD1-2BD4-4327-A61B-4351A020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15C8089-7BD8-4823-A64E-E452C4C6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7C4A042-5A6B-4E8B-A37B-6547CCD7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F98B154-045C-4C09-AD2C-DFAB9C6E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ED74169-4377-4966-AB62-BD13B52C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6D7F2-0807-4345-ACF4-22248CFE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59DB054-BF38-4B37-897B-BB909BA4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B7EA25B-3CEA-4E7C-B5C0-56A4ABEA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60529C4-D9C3-437D-AF4C-1ADD17BC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49EF363-3517-4973-BFCF-AFB34508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020B907-E5DC-4DEB-82B3-E3DABB7E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A300A68-05AB-450E-9D8B-E1B1BD03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FA3CFB6-34E8-469C-B8F0-64F8AD8B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14B5D5F-6CFD-494E-866E-51A987BE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3B26E2C-ED83-4912-9049-6519C6EB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9DAE79F-2A95-4F98-B676-8EAC099E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C31D0-DC21-4348-84DD-2A37F6F9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CFEFAFB-69CC-4CF6-808D-73FCFD34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0143015-2B73-47CB-8DCE-AF9A2875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B51A562-F1B0-4843-A137-992475A3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CF9F07F-172F-4CC4-A754-AD04B5E4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8CF9D59-4BEF-4A80-9118-93242AA3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FFADCDA-6D6B-4F56-B14D-AD96EE0B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04A6EDC-ACD0-4F5C-B555-92FB4CD7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3365DE1-0727-4934-8EB8-7C1C3F1B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41DC589-C2F4-49F5-8D22-874978F0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0919169-3D66-4CF6-AC38-EDEF94A2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9FC8-5B1B-466C-997A-74A8DD4A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D8BA0-4B7F-45ED-BB65-89B60CC5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18D8833-7791-44A8-8603-12B3E3C7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0CBC6B8-DB70-4596-98E8-85971F8B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8CD2792-4B93-46A2-A579-B4CDA2D5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A35851A-EB8D-4AAE-A977-A0FCDE5E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0AF26D3-084E-4A7C-93BF-7353983C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D339838-4845-4D6C-B5BE-B83EFDB2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0E74D22-8FBF-489C-B350-72B0E6C4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BFEA316-7C34-4FED-A404-7E63A5C0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AA16F09-6D21-4513-9961-F74AE098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CA44428-E91F-4576-8B7E-B958BB61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4D256-ED90-481B-A963-0FC79D5E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6A50835-696B-4A89-B371-1B588B9F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0D27C3B-61FA-444A-A180-D4A793AB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AA75BC3-0289-4673-AC9E-8B4E1B54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2809AC8-BE80-4B58-95E4-17FC3184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DDF5C76-7224-403F-BF8F-E08EB2CB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DF3534D-3646-41AC-9760-C758D349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B3026AC-8B53-461F-ACAD-0F0BF6BE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1C60DE9-6D0F-41EA-A716-55110AB6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2DC264F-56F0-4AFF-97FE-2B9C631B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B503E03-FCC1-43CC-804A-C6BFFA8E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7BDA4-8866-4093-BC80-241B795D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FFFF938-5C96-42B6-9356-C8216545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219D44B-E90B-477E-8AAD-0E5D5930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709D24D-8789-4C56-A61B-5BA8EA2A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5B5C7D4-28D4-4EB4-9BE7-B64532A8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A5C7B83-A7C5-4729-A148-69FF66E1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F67CD91-B237-498A-8112-580FB630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E6EA2E9-6EC0-4DE1-8048-58AEF7F5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5B9FA7E-B40B-4B92-8D73-F44A2238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49F8ADE-1ED4-4890-8830-FE63DE06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68C9ED4-969A-48C4-B2FF-43A21FCC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9E5B3-B215-44CF-82C9-07B009F9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71AB369-5A00-459E-930A-F1E1F0E4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A6355DB-C8E8-48BE-9E07-DC765AAB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E03AFE0-9F3D-4516-A2D2-22C32EDF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874BABD-E028-4234-94C8-B33B23D1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FDDECDF-FF3F-418B-9953-C73168CE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6CA77D3-FCF7-416E-AFEC-D28B8A19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CD266F8-BC02-4D29-B44A-3622CEBB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F7CC31D-C66F-4E1B-AEBF-A4327995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6426A66-B552-43A8-AC55-4893C001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05AF4AA-05E5-4F9A-9F6F-6E0D6486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47BB4-2F11-4A65-956C-28F2FEF4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AFB25C7-1E39-4C07-A748-92F45B0E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8EEF5D2-1EAE-4239-9FC9-18238032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7AB7BBC-AFD7-455D-BB2B-7D43F7AD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EC8C8A3-6842-42EA-B063-D477675C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1EAF727-46CE-4E5B-B0EF-8AEAA9C5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B3D441E-C55F-4B41-86A0-80094FD3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B2D8892-FAC6-43C3-848B-157B5B08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931BB01-593F-49FB-B213-2BE238D0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E627EF8-803B-443B-8C77-28EDA606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1787E70-93CE-4F6F-9542-59CD9BB1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4BD8E-50F5-4CE6-858F-C945444C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862858D-0850-4F14-9480-06554A64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C0DD738-8237-41AB-BE0F-A5F03C6A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0A4DC01-E154-4B2A-99B7-FE013840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0BC0254-AB75-41F5-8EA8-49D40FB3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60D339D-C685-4B1E-BD35-B87EEE30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BF1B19B-FBAB-47EF-96B3-CB82FBA3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ED218CD-089F-4413-ABFA-86E79D04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19FD80A-A4C7-41C9-8B64-A0F9D155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DA7DA97-15F5-4051-AC83-09E74657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5AEAF0E-CF37-41AE-B6CE-4CF9C505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0E64B-4A1A-4928-9BB0-A59CA1D8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373224C-A9B9-4287-A10B-CBA98EBD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C7FA572-C10F-4063-AB26-9B2D65B1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0C4BBBF-380F-4151-8C92-A9223A7A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25D26D8-FE69-4456-BA93-D8F3BF02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E4DA7D3-A555-471C-8B4E-D9A21F08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BC248C3-A9F3-44C1-A8C0-835F146C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26A7ADF-BC8E-4DF3-A4BA-1BD03D5F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904D71D-FEB4-4E49-A56F-03BCB3F4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054F61E-F310-40E3-8A6B-4DE05770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5A7CB23-89A6-48C6-94D4-709A49E4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8E69E-7A63-40D1-B678-61D41A25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98BAE63-B2E1-4D67-AA64-46D4994B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FFF4735-FA2B-4CEE-9B43-52C0F557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D4B6F06-1A9C-41B2-AB8A-E631E7FB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48246FA-05E4-494A-8638-36F03A77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7106571-EED2-49B0-AA6A-DFD4FD65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C898FFB-8700-40F9-B7A1-AA0ADFEC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715A8CE-9A6D-4038-986D-4A6F3219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25450F7-C938-4388-B492-1EE43ABA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FB7FA98-423E-46D5-9FF6-11FA4120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C37BA63-214A-475F-9D6F-9342C328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E9CE6-053F-4660-99BE-536DEF82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E8C0F0D-A85A-4D2B-9BE8-795DFCEE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E8891EB-7342-40A0-A162-850AC46B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85051F3-C9A2-44AE-B156-69095AC9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9BD970E-2FCF-4A7F-9D72-EA4E77B1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5AD3FD7-788B-40DF-9A96-FC7075A7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520ECDA-12D9-4AD7-8523-0BC0409C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83B67BD-3CA1-4D45-9325-6028F80C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BC6C383-C131-455D-A266-7D7B5F36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7B1FFFB-E3CD-465A-AFDB-2E6EFA87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34C0D46-C141-471C-8428-4395B988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29355-D7D5-4CA2-AC6A-086D8A8C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898CD2A-4BBF-406F-80A1-9DA3FB63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687EBD9-0011-4944-A499-AE25C2B6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9982EC6-B56C-434F-86F9-74D2CD71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0C2E5CF-C39C-491F-9D31-7E1DC7D9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1936099-28AC-4A04-AB75-8F91A7EE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30D78FD-63FA-4EF4-BDD7-5E7359DA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9B920FD-833C-48C3-AC14-CD9CCBD3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99B7959-D36E-4B69-82C2-E2EE7D35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ACF4F3D-DE5C-4F7B-A8DB-C3FA6ACD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5369778-8BEC-4555-9D72-AFB3FCD2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ACE-D49F-4693-8F78-05002D0B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2CCCF-4AA7-43C8-B956-D5FEACE0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AB2F1B0-E3EF-46BB-8145-992FED5A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257E680-21FA-4B02-8C5A-8CFEBECF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E6FFF66-D856-4F6D-953A-8347B5F8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6BF8E02-0312-4683-AD93-C4618361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5B93D87-D63A-4087-B7DF-DCC3EBAF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9DB0FFE-19F9-450E-89A1-4918EB32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F5C506A-6BD6-4C2F-B701-94AAE4C3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0E2EFD0-FC65-4E1F-A184-2D060BF2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53F750D-6206-410E-841E-F3B3D072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661AE14-CBD8-459D-8666-AD53C0BF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CDF78-4CFC-4446-98E4-AF57DD19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ABEFE59-5884-4382-A08B-760AB024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A6239C3-11D3-43F9-9063-C3145998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AD8F0B9-9243-4458-9049-13FC33BF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D35E633-60AA-4A05-9FE3-18FD29B3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0DB3B0F-FFDF-4F4F-B795-D3B94BE3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FBAD741-88E9-4B16-8883-C61A84BA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5A9399F-D959-4B43-8453-1CA1819C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7C3AB4A-065C-47F6-830B-02CC240D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8200237-07A4-4017-B629-12F90FBC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F932F90-D972-478E-9166-4DB8AED5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2D5D7-94FB-4043-AA3E-81DC69D4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415ECA8-3C4A-423B-8FF4-0CECD7F6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DF9590D-114F-47EA-8734-F82A81B8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68B623C-A663-4A23-9EC7-FE7CB69C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0FFDDC7-83BE-4EB9-AEB3-CBB9F957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AE106E2-BCB6-4872-A59F-15155EC4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7380CE4-A00D-477A-98F4-651C5728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B45C906-F45C-4ADA-85D2-2A22923E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C3A901C-5912-419A-B7E6-D42074E6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2C8B203-FB40-4A83-95AC-4BE9BA4A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3DEBBFA-4E6E-4E3C-A57F-E6A1299B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B05A1-11F5-4CE1-B474-CBF2A671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0D4B4F4-FBBF-4438-B26A-EB496B7F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2580001-D849-4CEE-9DDF-6136ECD6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B04E10C-A841-41C7-98AA-EA0F19D3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87DED91-02BB-46CE-997C-3B142607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65DF3C0-4AB2-4F8B-87FA-2B4560C0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060AE2A-3966-42AF-A9B2-0790ADB8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D5BA6C7-3895-45C4-A0A5-FF39D9AF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2762366-3604-4EF9-B288-D2FD0D6F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C622CD3-7AF5-4853-8F31-845A50F6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A48AA96-D801-4455-9716-80962F4E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099D8-1FE4-4D5B-948E-D82CF25F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F5CAABD-A98A-4D77-835F-9786DAB0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290419D-A712-4C7F-81C0-2D349D04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41452B3-9AB8-4671-8307-CFED8A98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20E7DC9-F2CB-450E-AB5A-F46FA824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A0765A6-5A7A-4353-B5FE-F5806886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81F18B6-FD00-4F24-AFBD-27D1592D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CB3E5BF-3BC0-4856-AC83-522E0486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C8A2A52-C48E-4E7D-A93F-57DE2B04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6D160BA-09D7-4E86-9C91-26B63E3C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944CF00-B8A5-4B64-A13D-273801C0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CACC1-4848-4EE2-B61E-00633092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DD3A184-B2C7-4673-A414-ACDA1113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1491424-EFB4-4F59-944F-F83A7B81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D7663FA-428A-4B8E-A920-601F8D2E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1CE882B-EEC2-4EDF-BD5C-09B68067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F9F0317-E557-4DBF-A051-F41A62B2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82CE717-3364-4D15-AD1F-6C5E870F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DCA2504-AB1A-4A65-9AC8-D56DDB86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FFFB0-6DA6-4563-B793-D815C322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EA62E-4ADD-4400-A544-E00AEF39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F3E5A-4F16-4C64-B281-D6AF23C9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24B6D-94AA-49F4-B776-8264EA40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89C2-B697-4B51-80CC-01EC293C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E875F-6D96-4A74-A3A6-4FB560B3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87819-D953-4A0C-8D73-F5C75A38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405BE-CBE0-4C43-B0F8-4F33E4F8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194C0-C4A9-4F9A-A6BC-F414B9E7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00935-4F92-4315-B4EA-411F0383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D8139-5C88-410B-BA5C-E2BA1730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4AB57-A49A-41E6-9EC5-8AC48A12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A29D0-FC9A-442E-A20C-0EB16857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48FEF-AA13-46E9-A79B-AD7D7D02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430C2-5102-45FE-B073-D29F2B61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7D11-3A59-438E-9B63-757AD9E9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785E5-8F36-4701-8FF1-55795CBA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394DE-F757-4371-94E3-585BA3B1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CCCC0-E299-4BCC-9073-FB24064C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24785-D5C8-462B-8CE9-3B3984B8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72442-D9E6-442C-B0E9-D04E9EF2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110EB-0D27-4D9B-A67E-0EE5BDAE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716D3-125C-408E-89E6-FDE1C58B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6FC6B-7857-409F-8F11-573D9B7D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509CE-30A7-4935-BB5A-9F130A14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BCCB5-11AE-4FF6-8A28-3DD28731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CD103B31-7EE0-4189-9DF0-75FFA61EC009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42601E3D-4DDA-4748-8085-E9D34EF3C133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6933A551-C470-4BFF-B651-CB6E5FB8CE47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90843071-25B4-49E2-AB51-8B66BCFD30B0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59720C39-4AEA-4C96-A6E8-FB7AAB9D8C25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8933E4C8-9272-43FC-9412-8237211A1CC7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85DD182F-36E4-4D32-B93D-2A07EF0F7840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1966D32D-113C-4964-B70B-AABD33747245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A3B4837A-81AE-47BC-BB66-0F7825EB116E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9D1FAB42-F630-4922-A19A-311FE12C35E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97F4-18E2-40C0-BB61-21AD653E06EC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682E-5625-4A3E-85F4-915AEEDD89FC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DDF2-70A0-4284-BAE6-137F97EC9AE9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C4F6-197F-4A59-A2E3-BD3F4ED7045E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69F1-F259-44C1-B137-C864F555B7B8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1D61-AD94-47CB-A02F-505F8596852E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F276-CA9A-4678-A509-67B940950C05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1D7E-009C-4DD5-8668-4A57D0A39C0E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187A-5940-4CA8-B3C7-8A4E02095017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13B9-C4C7-444E-BDA8-869981A19C5F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3AA3-5370-4249-A65C-D00592F5857D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4C69-2902-4C45-BD09-A8D5B3125444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D98E4AF3-F14C-42AD-9967-90B02FDF777D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B03D-B221-4CBD-A1FF-A45E6E5D4AD6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EAE946AC-2FBD-4970-8CA4-3FA57048450D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28AE1059-E253-41BB-AD3F-A14FC85CFA95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3439A8D9-B627-43D0-A99F-169B38299CD2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FB6895C1-3F26-485C-91E4-585DC3E42907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72F79A90-2055-44CB-B116-2ED2F87EF124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1364A31A-C34D-4E36-A7A1-34C40E0D351C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51446A11-1389-4047-AFA9-721ADF79CF90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B4F36623-F4D0-42D1-90A0-95BAFA940EB0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8090C240-1A19-45CA-9A59-A8148555F384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C2C1-5D76-4D83-BE85-323030F60A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B6993584-BE44-4097-906C-D6308554F4DF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64A1CF84-396C-44E1-9481-85B51AA11BD6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3CC4-B828-49E0-9708-688EEBA703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C001-A9CA-4053-8DCE-75CF14E945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89B4-79AD-4CC4-8123-4C721374C7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C059-AF38-44D4-9B97-85EB9DA16E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5DEE-F910-4940-8F74-9E67E27911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07C7-C0D0-4675-95B1-CDC86BE87B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2485-1431-4DBC-83A2-7C0864DC0C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A4EB-755C-4175-91B6-32B997451F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62F9-CD06-4CBD-A1DA-7ABA55B963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53E0-5C14-4357-929D-A1C9F01D8C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1707-C569-49A8-9C77-3E3E1368BE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C9F4-7FA6-49AC-A5E5-205342CC93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B72E-6187-48B6-9FCF-89D690A745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F51B-BA69-409F-A2C4-2E4A44FFAA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8A69-696B-4EF5-BCC4-CCA4727F00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6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6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6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658C-DC1A-4334-8A33-6A2D63EA7F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dt" idx="169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70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71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51E7-9095-45F1-9445-06117FCE56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 type="dt" idx="17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 type="ftr" idx="173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 type="sldNum" idx="174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3449-548C-4688-AE47-B809F7B8DC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7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7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7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004B-2DC9-47A1-80EF-0B33A13C98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BDD61011-5FE4-4BD6-BFC9-4A4A43E10856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78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7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8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DED1-18A1-4B91-9FC5-DE87A2ADE4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 type="dt" idx="18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 type="ftr" idx="18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 type="sldNum" idx="18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C292-BA54-4E02-ADF0-B8D9B7FEFF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 type="dt" idx="18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 type="ftr" idx="18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 type="sldNum" idx="18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31AC-4693-4DEA-B3A6-B0538CAD99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 type="dt" idx="18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 type="ftr" idx="18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 type="sldNum" idx="189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3A62-EA1B-4A2C-91CC-8576272C98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0795B45E-C16E-4EA1-BF17-710B14628A9D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7EC19033-0D9F-4F85-83EE-08197CD70289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3FA7124A-2B4D-47A3-8EE3-5B3CEA179FDE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6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Text Box 9"/>
          <p:cNvSpPr/>
          <p:nvPr/>
        </p:nvSpPr>
        <p:spPr>
          <a:xfrm>
            <a:off x="200160" y="189000"/>
            <a:ext cx="482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i="1" lang="uk-UA" sz="4400" spc="-1" strike="noStrike">
                <a:solidFill>
                  <a:srgbClr val="9933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4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906120" cy="660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2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2" name="" descr=""/>
          <p:cNvPicPr/>
          <p:nvPr/>
        </p:nvPicPr>
        <p:blipFill>
          <a:blip r:embed="rId1"/>
          <a:stretch/>
        </p:blipFill>
        <p:spPr>
          <a:xfrm>
            <a:off x="128520" y="189000"/>
            <a:ext cx="957744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10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Прямоугольник 5"/>
          <p:cNvSpPr/>
          <p:nvPr/>
        </p:nvSpPr>
        <p:spPr>
          <a:xfrm>
            <a:off x="328680" y="609480"/>
            <a:ext cx="9329760" cy="1295640"/>
          </a:xfrm>
          <a:prstGeom prst="rect">
            <a:avLst/>
          </a:prstGeom>
          <a:solidFill>
            <a:srgbClr val="4b58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ctr">
            <a:noAutofit/>
          </a:bodyPr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мплексна програма запобіг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дзвичайним ситуаціям та ліквідації їх наслідк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 м. Чернівцях на 2016-2020 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Прямоугольник 6"/>
          <p:cNvSpPr/>
          <p:nvPr/>
        </p:nvSpPr>
        <p:spPr>
          <a:xfrm>
            <a:off x="271440" y="6597720"/>
            <a:ext cx="9401040" cy="71280"/>
          </a:xfrm>
          <a:prstGeom prst="rect">
            <a:avLst/>
          </a:prstGeom>
          <a:solidFill>
            <a:srgbClr val="4031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Номер слайда 11"/>
          <p:cNvSpPr/>
          <p:nvPr/>
        </p:nvSpPr>
        <p:spPr>
          <a:xfrm>
            <a:off x="9323280" y="6492960"/>
            <a:ext cx="50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Прямоугольник 12"/>
          <p:cNvSpPr/>
          <p:nvPr/>
        </p:nvSpPr>
        <p:spPr>
          <a:xfrm>
            <a:off x="4569840" y="1467000"/>
            <a:ext cx="200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Century Gothic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Прямоугольник 8"/>
          <p:cNvSpPr/>
          <p:nvPr/>
        </p:nvSpPr>
        <p:spPr>
          <a:xfrm>
            <a:off x="2806560" y="2209680"/>
            <a:ext cx="2146320" cy="42674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грама забезпечення пожежної та техногенної безпе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Прямоугольник 20"/>
          <p:cNvSpPr/>
          <p:nvPr/>
        </p:nvSpPr>
        <p:spPr>
          <a:xfrm>
            <a:off x="5283360" y="2209680"/>
            <a:ext cx="2146320" cy="4267440"/>
          </a:xfrm>
          <a:prstGeom prst="rect">
            <a:avLst/>
          </a:prstGeom>
          <a:solidFill>
            <a:srgbClr val="c6d9f1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грама створення, накопичення та використання матеріальних резервів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4,9 тис.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uk-UA" sz="1500" spc="-1" strike="noStrike">
                <a:solidFill>
                  <a:srgbClr val="000000"/>
                </a:solidFill>
                <a:latin typeface="Arial"/>
                <a:ea typeface="Arial"/>
              </a:rPr>
              <a:t>(придбання речового майна для запобігання, ліквідації надзвичайних ситуацій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Прямоугольник 22"/>
          <p:cNvSpPr/>
          <p:nvPr/>
        </p:nvSpPr>
        <p:spPr>
          <a:xfrm>
            <a:off x="247680" y="2209680"/>
            <a:ext cx="2146320" cy="4264200"/>
          </a:xfrm>
          <a:prstGeom prst="rect">
            <a:avLst/>
          </a:prstGeom>
          <a:solidFill>
            <a:srgbClr val="c6d9f1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грама забезпечення укриття населення в захисних спорудах цивільного захисту 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39,9 тис.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ремонт захисних споруд цив</a:t>
            </a:r>
            <a:r>
              <a:rPr b="0" i="1" lang="uk-UA" sz="1500" spc="-1" strike="noStrike">
                <a:solidFill>
                  <a:srgbClr val="000000"/>
                </a:solidFill>
                <a:latin typeface="Arial"/>
                <a:ea typeface="Arial"/>
              </a:rPr>
              <a:t>ільного захисту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TextBox 11"/>
          <p:cNvSpPr/>
          <p:nvPr/>
        </p:nvSpPr>
        <p:spPr>
          <a:xfrm>
            <a:off x="2889360" y="2438280"/>
            <a:ext cx="1898640" cy="14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marL="150840" indent="-150840"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грама забезпечення пожежної та техногенної безпе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Прямоугольник 20"/>
          <p:cNvSpPr/>
          <p:nvPr/>
        </p:nvSpPr>
        <p:spPr>
          <a:xfrm>
            <a:off x="7759800" y="2209680"/>
            <a:ext cx="1898640" cy="4267440"/>
          </a:xfrm>
          <a:prstGeom prst="rect">
            <a:avLst/>
          </a:prstGeom>
          <a:solidFill>
            <a:srgbClr val="c6d9f1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грама організації рятування людей на водних об'єктах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5,0 тис.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uk-UA" sz="1500" spc="-1" strike="noStrike">
                <a:solidFill>
                  <a:srgbClr val="000000"/>
                </a:solidFill>
                <a:latin typeface="Arial"/>
                <a:ea typeface="Arial"/>
              </a:rPr>
              <a:t>(придбання спеціального обладнання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Прямоугольник 8"/>
          <p:cNvSpPr/>
          <p:nvPr/>
        </p:nvSpPr>
        <p:spPr>
          <a:xfrm>
            <a:off x="2806560" y="2209680"/>
            <a:ext cx="2146320" cy="4267440"/>
          </a:xfrm>
          <a:prstGeom prst="rect">
            <a:avLst/>
          </a:prstGeom>
          <a:solidFill>
            <a:srgbClr val="c6d9f1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грама забезпечення пожежної та техногенної безпек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50,0 тис.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uk-UA" sz="1500" spc="-1" strike="noStrike">
                <a:solidFill>
                  <a:srgbClr val="000000"/>
                </a:solidFill>
                <a:latin typeface="Arial"/>
                <a:ea typeface="Arial"/>
              </a:rPr>
              <a:t>(придбання спеціального обладнання для забезпечення пожежної безпеки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000"/>
                                        <p:tgtEl>
                                          <p:spTgt spid="2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1000"/>
                                        <p:tgtEl>
                                          <p:spTgt spid="2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2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2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2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2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1000"/>
                                        <p:tgtEl>
                                          <p:spTgt spid="2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1000"/>
                                        <p:tgtEl>
                                          <p:spTgt spid="2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1000"/>
                                        <p:tgtEl>
                                          <p:spTgt spid="2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2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5" name="" descr=""/>
          <p:cNvPicPr/>
          <p:nvPr/>
        </p:nvPicPr>
        <p:blipFill>
          <a:blip r:embed="rId1"/>
          <a:stretch/>
        </p:blipFill>
        <p:spPr>
          <a:xfrm>
            <a:off x="0" y="120600"/>
            <a:ext cx="9906120" cy="654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1000"/>
                                        <p:tgtEl>
                                          <p:spTgt spid="2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6" name="" descr=""/>
          <p:cNvPicPr/>
          <p:nvPr/>
        </p:nvPicPr>
        <p:blipFill>
          <a:blip r:embed="rId1"/>
          <a:stretch/>
        </p:blipFill>
        <p:spPr>
          <a:xfrm>
            <a:off x="71280" y="0"/>
            <a:ext cx="9777600" cy="68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1000"/>
                                        <p:tgtEl>
                                          <p:spTgt spid="2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2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труктура видатків на освіту за рахунок залишку коштів міського бюджету, який утворився станом на 1 січня 2017 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9" name="Object 4"/>
          <p:cNvGraphicFramePr/>
          <p:nvPr/>
        </p:nvGraphicFramePr>
        <p:xfrm>
          <a:off x="272880" y="1197000"/>
          <a:ext cx="928872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1197000"/>
                    <a:ext cx="928872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488520" y="404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труктура видатків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а освіту за напрямками за рахунок залишку коштів міського бюджету, який утворився станом на 1 січня 2017 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2" name="Object 3"/>
          <p:cNvGraphicFramePr/>
          <p:nvPr/>
        </p:nvGraphicFramePr>
        <p:xfrm>
          <a:off x="84240" y="1700280"/>
          <a:ext cx="982188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1700280"/>
                    <a:ext cx="982188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4" name="Picture 3" descr=""/>
          <p:cNvPicPr/>
          <p:nvPr/>
        </p:nvPicPr>
        <p:blipFill>
          <a:blip r:embed="rId1"/>
          <a:stretch/>
        </p:blipFill>
        <p:spPr>
          <a:xfrm>
            <a:off x="0" y="115920"/>
            <a:ext cx="9906120" cy="65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1000"/>
                                        <p:tgtEl>
                                          <p:spTgt spid="2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Text Box 5"/>
          <p:cNvSpPr/>
          <p:nvPr/>
        </p:nvSpPr>
        <p:spPr>
          <a:xfrm>
            <a:off x="2592360" y="4456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6" name="Object 6"/>
          <p:cNvGraphicFramePr/>
          <p:nvPr/>
        </p:nvGraphicFramePr>
        <p:xfrm>
          <a:off x="41400" y="2060640"/>
          <a:ext cx="9864720" cy="445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0" y="2060640"/>
                    <a:ext cx="986472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598" name="AutoShape 38"/>
          <p:cNvCxnSpPr/>
          <p:nvPr/>
        </p:nvCxnSpPr>
        <p:spPr>
          <a:xfrm flipH="1" rot="16200000">
            <a:off x="7527960" y="3284280"/>
            <a:ext cx="2160" cy="2160"/>
          </a:xfrm>
          <a:prstGeom prst="bentConnector3">
            <a:avLst>
              <a:gd name="adj1" fmla="val 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99" name="Text Box 40"/>
          <p:cNvSpPr/>
          <p:nvPr/>
        </p:nvSpPr>
        <p:spPr>
          <a:xfrm>
            <a:off x="1052640" y="907920"/>
            <a:ext cx="741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РУКТУРА ВИДАТКІВ ЗА НАПРЯМКАМИ ВИКОРИСТАННЯ КОШТІВ (МЛН.ГР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WordArt 41"/>
          <p:cNvSpPr txBox="1"/>
          <p:nvPr/>
        </p:nvSpPr>
        <p:spPr>
          <a:xfrm>
            <a:off x="1521000" y="333360"/>
            <a:ext cx="670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ізична культура і спорт</a:t>
            </a:r>
            <a:endParaRPr b="0" lang="en-US" sz="1900" spc="1" strike="noStrike">
              <a:ln w="19080">
                <a:solidFill>
                  <a:srgbClr val="99ccff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1000"/>
                                        <p:tgtEl>
                                          <p:spTgt spid="2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6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1000"/>
                                        <p:tgtEl>
                                          <p:spTgt spid="2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1:57:48Z</dcterms:created>
  <dc:creator>budg_1</dc:creator>
  <dc:description/>
  <dc:language>en-US</dc:language>
  <cp:lastModifiedBy>Ivancheskyl</cp:lastModifiedBy>
  <dcterms:modified xsi:type="dcterms:W3CDTF">2017-03-23T12:14:36Z</dcterms:modified>
  <cp:revision>472</cp:revision>
  <dc:subject/>
  <dc:title>Слайд 1</dc:title>
</cp:coreProperties>
</file>