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4.wmf" ContentType="image/x-wmf"/>
  <Override PartName="/ppt/media/image27.wmf" ContentType="image/x-wmf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A8F2-7FA3-4F59-8218-5201E912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D0EF-2E9D-4733-9601-D0E81A07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9E4-1251-48D1-84ED-6C659B08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AC2-1748-4EAF-8FFC-04B77ED2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B706-690A-41A7-8AA5-B3CFB2A3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96C-4D64-4BD9-BE50-0615B8FA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B01-89F0-4740-AC08-EC4343EA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0F5-8338-4226-A8FC-8DB92EE1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90D9-0C7A-4A02-A53B-FEB17386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343-4363-4244-BFFB-F895BEEF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FC6-3960-4D69-A4A0-68480CA7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32D4-9345-48FC-93FB-F6D20AAA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BDEE7896-822F-45ED-8431-CCC160F336F7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160" y="189000"/>
            <a:ext cx="482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i="1" lang="uk-UA" sz="4400" spc="-1" strike="noStrike">
                <a:solidFill>
                  <a:srgbClr val="9933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906120" cy="6164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906120" cy="633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7600" y="404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Структура видатків</a:t>
            </a:r>
            <a:br>
              <a:rPr sz="2500"/>
            </a:b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на освіту за економічною класифікацією видатків на 2017 рік (проект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1663560"/>
          <a:ext cx="9906120" cy="51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63560"/>
                    <a:ext cx="990612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Arial"/>
              </a:rPr>
              <a:t>Структура видатків на освіту в розрізі бюджетних програм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06520" y="1460520"/>
          <a:ext cx="8959680" cy="47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1460520"/>
                    <a:ext cx="8959680" cy="47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8520" y="404640"/>
            <a:ext cx="8915400" cy="101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Динаміка видатків на освіту по міському бюджету </a:t>
            </a:r>
            <a:br>
              <a:rPr sz="2500"/>
            </a:b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м. Чернівців за 2013-2017 роки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1433520"/>
          <a:ext cx="9906120" cy="50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3520"/>
                    <a:ext cx="990612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958320" cy="610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58320" cy="68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0"/>
          <a:ext cx="10209240" cy="724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209240" cy="724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8520" y="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Структура видатків на культу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8520" y="83664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rmAutofit/>
          </a:bodyPr>
          <a:p>
            <a:pPr marL="357120" indent="-357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9600" y="83664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rmAutofit/>
          </a:bodyPr>
          <a:p>
            <a:pPr marL="357120" indent="-357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017 рік (проек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8880" y="0"/>
            <a:ext cx="89154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Структура видатків на культу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-231840" y="836640"/>
          <a:ext cx="9931320" cy="671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1840" y="836640"/>
                    <a:ext cx="9931320" cy="67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33200" y="-572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94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906120" cy="616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906120" cy="616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209600" y="404640"/>
            <a:ext cx="6708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ізична  культура  і спор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99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Picture 4" descr="000803_1055_5843_vnvv"/>
          <p:cNvPicPr/>
          <p:nvPr/>
        </p:nvPicPr>
        <p:blipFill>
          <a:blip r:embed="rId1"/>
          <a:stretch/>
        </p:blipFill>
        <p:spPr>
          <a:xfrm>
            <a:off x="7977240" y="189000"/>
            <a:ext cx="1778040" cy="1655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92360" y="4456080"/>
            <a:ext cx="19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244520"/>
          <a:ext cx="9274320" cy="5613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44520"/>
                    <a:ext cx="9274320" cy="56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 rot="20276400">
            <a:off x="3310560" y="5914440"/>
            <a:ext cx="858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0276400">
            <a:off x="5248440" y="5352840"/>
            <a:ext cx="79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09600" y="404640"/>
            <a:ext cx="6708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ізична  культура  і спор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99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Picture 4" descr="000803_1055_5843_vnvv"/>
          <p:cNvPicPr/>
          <p:nvPr/>
        </p:nvPicPr>
        <p:blipFill>
          <a:blip r:embed="rId1"/>
          <a:stretch/>
        </p:blipFill>
        <p:spPr>
          <a:xfrm>
            <a:off x="7756560" y="189000"/>
            <a:ext cx="1778040" cy="1655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92360" y="4456080"/>
            <a:ext cx="19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195560"/>
          <a:ext cx="9489960" cy="566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5560"/>
                    <a:ext cx="948996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 rot="20276400">
            <a:off x="3310560" y="5914440"/>
            <a:ext cx="858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990612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0"/>
          <a:ext cx="990612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90440" y="-2286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1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906120" cy="685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83680" cy="710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90440" y="7262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906120" cy="615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8520" y="259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781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33480" y="3933720"/>
            <a:ext cx="6551640" cy="208908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Ріст тарифів на енергонос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  <a:ea typeface="Arial"/>
              </a:rPr>
              <a:t>Теплопостачання  + 12,3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  <a:ea typeface="Arial"/>
              </a:rPr>
              <a:t>Водопостачання  + 8,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  <a:ea typeface="Arial"/>
              </a:rPr>
              <a:t>Електроенергія  + 9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  <a:ea typeface="Arial"/>
              </a:rPr>
              <a:t>Газопостачання  + 14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86520" y="1628640"/>
            <a:ext cx="4214520" cy="201636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осадовий оклад праців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1-го тарифного розря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Єдиної тарифної сіт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  <a:ea typeface="Arial"/>
              </a:rPr>
              <a:t>з 1 січня – 1 600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7960" y="1628640"/>
            <a:ext cx="4367160" cy="201636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Ріст мінімальної заробітно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пл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  <a:ea typeface="Arial"/>
              </a:rPr>
              <a:t>з 1 січня – 3 200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97080" y="333360"/>
            <a:ext cx="7256520" cy="100800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  <a:ea typeface="Arial"/>
              </a:rPr>
              <a:t>Особливості формування бюджет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  <a:ea typeface="Arial"/>
              </a:rPr>
              <a:t>на 2017 рі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51000" y="404640"/>
            <a:ext cx="9245520" cy="885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Розподіл субвенцій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з державного бюджету міському  бюджету м. Чернівців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на 2017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рі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5"/>
          <p:cNvSpPr/>
          <p:nvPr/>
        </p:nvSpPr>
        <p:spPr>
          <a:xfrm>
            <a:off x="0" y="4005360"/>
            <a:ext cx="160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6"/>
          <p:cNvSpPr/>
          <p:nvPr/>
        </p:nvSpPr>
        <p:spPr>
          <a:xfrm>
            <a:off x="776160" y="2708280"/>
            <a:ext cx="3978360" cy="17272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Медична субвенці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17432,7 тис.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7"/>
          <p:cNvSpPr/>
          <p:nvPr/>
        </p:nvSpPr>
        <p:spPr>
          <a:xfrm>
            <a:off x="5030640" y="2781360"/>
            <a:ext cx="4524480" cy="164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Освітня субвенція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оплату праці з нарахуванн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едагогічних працівникі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240200,7 тис.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16"/>
          <p:cNvSpPr/>
          <p:nvPr/>
        </p:nvSpPr>
        <p:spPr>
          <a:xfrm>
            <a:off x="2457360" y="1413000"/>
            <a:ext cx="525600" cy="1366560"/>
          </a:xfrm>
          <a:prstGeom prst="downArrow">
            <a:avLst>
              <a:gd name="adj1" fmla="val 50000"/>
              <a:gd name="adj2" fmla="val 80106"/>
            </a:avLst>
          </a:prstGeom>
          <a:solidFill>
            <a:srgbClr val="fffff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17"/>
          <p:cNvSpPr/>
          <p:nvPr/>
        </p:nvSpPr>
        <p:spPr>
          <a:xfrm>
            <a:off x="6980400" y="1413000"/>
            <a:ext cx="525240" cy="1368360"/>
          </a:xfrm>
          <a:prstGeom prst="downArrow">
            <a:avLst>
              <a:gd name="adj1" fmla="val 50000"/>
              <a:gd name="adj2" fmla="val 80267"/>
            </a:avLst>
          </a:prstGeom>
          <a:solidFill>
            <a:srgbClr val="fffff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1" descr="1368909991"/>
          <p:cNvPicPr/>
          <p:nvPr/>
        </p:nvPicPr>
        <p:blipFill>
          <a:blip r:embed="rId1"/>
          <a:stretch/>
        </p:blipFill>
        <p:spPr>
          <a:xfrm>
            <a:off x="7761240" y="1484280"/>
            <a:ext cx="1714680" cy="151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3" descr="102967_html_75a8686b"/>
          <p:cNvPicPr/>
          <p:nvPr/>
        </p:nvPicPr>
        <p:blipFill>
          <a:blip r:embed="rId2"/>
          <a:stretch/>
        </p:blipFill>
        <p:spPr>
          <a:xfrm>
            <a:off x="415800" y="1341360"/>
            <a:ext cx="1725840" cy="1800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0"/>
          <p:cNvSpPr/>
          <p:nvPr/>
        </p:nvSpPr>
        <p:spPr>
          <a:xfrm>
            <a:off x="4795920" y="4508640"/>
            <a:ext cx="486072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ff"/>
                </a:solidFill>
                <a:latin typeface="Arial"/>
                <a:ea typeface="Arial"/>
              </a:rPr>
              <a:t>Загальноосвітніх навчальни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ff"/>
                </a:solidFill>
                <a:latin typeface="Arial"/>
                <a:ea typeface="Arial"/>
              </a:rPr>
              <a:t>закладів – 212102,5 тис. грн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4795920" y="5445000"/>
            <a:ext cx="491652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ff"/>
                </a:solidFill>
                <a:latin typeface="Arial"/>
                <a:ea typeface="Arial"/>
              </a:rPr>
              <a:t>Професійно-технічних навчальних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ff"/>
                </a:solidFill>
                <a:latin typeface="Arial"/>
                <a:ea typeface="Arial"/>
              </a:rPr>
              <a:t>закладів в частині забезпеченн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ff"/>
                </a:solidFill>
                <a:latin typeface="Arial"/>
                <a:ea typeface="Arial"/>
              </a:rPr>
              <a:t>видатків на здобуття повної загальної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ff"/>
                </a:solidFill>
                <a:latin typeface="Arial"/>
                <a:ea typeface="Arial"/>
              </a:rPr>
              <a:t>середньої освіти</a:t>
            </a:r>
            <a:r>
              <a:rPr b="0" lang="ru-RU" sz="1700" spc="-1" strike="noStrike">
                <a:solidFill>
                  <a:srgbClr val="0000ff"/>
                </a:solidFill>
                <a:latin typeface="Arial"/>
                <a:ea typeface="Arial"/>
              </a:rPr>
              <a:t> – </a:t>
            </a:r>
            <a:r>
              <a:rPr b="1" lang="ru-RU" sz="1700" spc="-1" strike="noStrike">
                <a:solidFill>
                  <a:srgbClr val="0000ff"/>
                </a:solidFill>
                <a:latin typeface="Arial"/>
                <a:ea typeface="Arial"/>
              </a:rPr>
              <a:t>28098,2 тис. грн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906120" cy="616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57:48Z</dcterms:created>
  <dc:creator>budg_1</dc:creator>
  <dc:description/>
  <dc:language>en-US</dc:language>
  <cp:lastModifiedBy>Bydgetnui</cp:lastModifiedBy>
  <dcterms:modified xsi:type="dcterms:W3CDTF">2016-12-12T11:56:07Z</dcterms:modified>
  <cp:revision>433</cp:revision>
  <dc:subject/>
  <dc:title>Слайд 1</dc:title>
</cp:coreProperties>
</file>