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F0D-CC05-463E-9C97-DAEABBC7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E79-5311-4B13-A6AC-02F978F5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9E5-AB4D-4A87-8536-DD38B64A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2A8-DE12-445A-834F-AFB6745B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127-255C-4039-99AB-2AB4E193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FBE-3DF1-4103-A3FE-9BD88641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2F4-ED8E-4ACE-8495-5B8AC45E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54F-21BB-4E3B-98E8-02B0692C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0FD-782C-416B-9478-057CA562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BEC-E084-4409-876B-6E5D4EFE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BDC-4C3B-421C-84E7-33138C77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667-C4E4-4207-B0F5-ADDB9805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FDD29190-490B-43AD-AC25-F982206AF17A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160" y="189000"/>
            <a:ext cx="482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i="1" lang="uk-UA" sz="4400" spc="-1" strike="noStrike">
                <a:solidFill>
                  <a:srgbClr val="9933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9906120" cy="691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9906120" cy="691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9906120" cy="691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600" y="404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Структура видатків</a:t>
            </a:r>
            <a:br>
              <a:rPr sz="2500"/>
            </a:b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а освіту за економічною класифікацією видатків на 2016 рік (проект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663560"/>
          <a:ext cx="990612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3560"/>
                    <a:ext cx="990612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915400" cy="101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Динаміка видатків на освіту по міському бюджету </a:t>
            </a:r>
            <a:br>
              <a:rPr sz="2500"/>
            </a:b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м. Чернівців за 2012-2016 роки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68280"/>
          <a:ext cx="990612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90612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іка видатків на освіт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-231840" y="880920"/>
          <a:ext cx="1029960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1840" y="880920"/>
                    <a:ext cx="1029960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Динаміка видатків на освіту за їх структурою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907920"/>
          <a:ext cx="9906120" cy="589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906120" cy="58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eadc"/>
                                      </p:to>
                                    </p:animClr>
                                    <p:set>
                                      <p:cBhvr>
                                        <p:cTn id="1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9"/>
                                      </p:to>
                                    </p:animClr>
                                    <p:set>
                                      <p:cBhvr>
                                        <p:cTn id="2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0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set>
                                      <p:cBhvr>
                                        <p:cTn id="2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5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33200" y="-572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906120" cy="66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906120" cy="691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7360" y="138240"/>
            <a:ext cx="8915400" cy="890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Times New Roman"/>
              </a:rPr>
              <a:t>Динаміка видатків на культуру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1125360"/>
            <a:ext cx="9906120" cy="5732640"/>
            <a:chOff x="0" y="1125360"/>
            <a:chExt cx="9906120" cy="5732640"/>
          </a:xfrm>
        </p:grpSpPr>
        <p:graphicFrame>
          <p:nvGraphicFramePr>
            <p:cNvPr id="110" name=""/>
            <p:cNvGraphicFramePr/>
            <p:nvPr/>
          </p:nvGraphicFramePr>
          <p:xfrm>
            <a:off x="0" y="1125360"/>
            <a:ext cx="9906120" cy="573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25360"/>
                      <a:ext cx="9906120" cy="573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 rot="20276400">
              <a:off x="3660840" y="3252600"/>
              <a:ext cx="86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4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276400">
              <a:off x="6321240" y="3036960"/>
              <a:ext cx="79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4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317200">
              <a:off x="6261120" y="3573000"/>
              <a:ext cx="923760" cy="285840"/>
            </a:xfrm>
            <a:prstGeom prst="rightArrow">
              <a:avLst>
                <a:gd name="adj1" fmla="val 50000"/>
                <a:gd name="adj2" fmla="val 80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317200">
              <a:off x="3728880" y="3789000"/>
              <a:ext cx="924120" cy="276120"/>
            </a:xfrm>
            <a:prstGeom prst="rightArrow">
              <a:avLst>
                <a:gd name="adj1" fmla="val 50000"/>
                <a:gd name="adj2" fmla="val 836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8520" y="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труктура видатків на культ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8520" y="836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rmAutofit/>
          </a:bodyPr>
          <a:p>
            <a:pPr marL="357120" indent="-357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15 рік (пл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68880" y="836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rmAutofit/>
          </a:bodyPr>
          <a:p>
            <a:pPr marL="357120" indent="-357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16 рік (проек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8880" y="0"/>
            <a:ext cx="89154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труктура видатків на культ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32160" y="1989000"/>
          <a:ext cx="5673960" cy="411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2160" y="1989000"/>
                    <a:ext cx="567396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0" y="1052640"/>
          <a:ext cx="5235480" cy="58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52640"/>
                    <a:ext cx="523548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0160" y="-360"/>
            <a:ext cx="8915400" cy="98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труктура видатків на культуру за економічною класифікацією видат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68520" y="981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15 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31800" y="1405080"/>
          <a:ext cx="8840880" cy="54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405080"/>
                    <a:ext cx="884088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1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76160" y="189000"/>
            <a:ext cx="8915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ctr">
            <a:noAutofit/>
          </a:bodyPr>
          <a:p>
            <a:pPr algn="ct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Структура видатків на культуру за економічною класифікацією видатків</a:t>
            </a:r>
            <a:br>
              <a:rPr sz="30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(проект на 2016 рі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44520" y="1197000"/>
          <a:ext cx="9309240" cy="58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197000"/>
                    <a:ext cx="930924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-144360"/>
            <a:ext cx="9705960" cy="7002360"/>
            <a:chOff x="0" y="-144360"/>
            <a:chExt cx="9705960" cy="7002360"/>
          </a:xfrm>
        </p:grpSpPr>
        <p:graphicFrame>
          <p:nvGraphicFramePr>
            <p:cNvPr id="132" name=""/>
            <p:cNvGraphicFramePr/>
            <p:nvPr/>
          </p:nvGraphicFramePr>
          <p:xfrm>
            <a:off x="0" y="-144360"/>
            <a:ext cx="9705960" cy="700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-144360"/>
                      <a:ext cx="9705960" cy="700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 rot="20276400">
              <a:off x="3589560" y="37875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Arial"/>
                </a:rPr>
                <a:t>+1,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276400">
              <a:off x="6037560" y="34272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Arial"/>
                </a:rPr>
                <a:t>+1,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317200">
              <a:off x="6032520" y="3933360"/>
              <a:ext cx="923760" cy="285840"/>
            </a:xfrm>
            <a:prstGeom prst="rightArrow">
              <a:avLst>
                <a:gd name="adj1" fmla="val 50000"/>
                <a:gd name="adj2" fmla="val 80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317200">
              <a:off x="3657240" y="4220640"/>
              <a:ext cx="923760" cy="276480"/>
            </a:xfrm>
            <a:prstGeom prst="rightArrow">
              <a:avLst>
                <a:gd name="adj1" fmla="val 50000"/>
                <a:gd name="adj2" fmla="val 8352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90612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90612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30240"/>
            <a:ext cx="9960120" cy="6827760"/>
            <a:chOff x="0" y="30240"/>
            <a:chExt cx="9960120" cy="682776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0" y="30240"/>
              <a:ext cx="9960120" cy="68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rot="20276400">
              <a:off x="3510360" y="3881160"/>
              <a:ext cx="107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lang="uk-UA" sz="2200" spc="-1" strike="noStrike">
                  <a:solidFill>
                    <a:srgbClr val="ffffff"/>
                  </a:solidFill>
                  <a:latin typeface="Arial"/>
                </a:rPr>
                <a:t>60,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276400">
              <a:off x="6031440" y="3472920"/>
              <a:ext cx="100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r>
                <a:rPr b="1" lang="uk-UA" sz="2200" spc="-1" strike="noStrike">
                  <a:solidFill>
                    <a:srgbClr val="ffffff"/>
                  </a:solidFill>
                  <a:latin typeface="Arial"/>
                </a:rPr>
                <a:t>+55,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68400"/>
            <a:ext cx="9906120" cy="667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90440" y="-228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990612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906120" cy="66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174600"/>
          <a:ext cx="9906120" cy="63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600"/>
                    <a:ext cx="990612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90440" y="7262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0"/>
          <a:ext cx="9906120" cy="71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1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10066320" cy="68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6632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51000" y="404640"/>
            <a:ext cx="9245520" cy="885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Розподіл субвенцій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з державного бюджету міському  бюджету м. Чернівців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на 2016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5"/>
          <p:cNvSpPr/>
          <p:nvPr/>
        </p:nvSpPr>
        <p:spPr>
          <a:xfrm>
            <a:off x="0" y="4005360"/>
            <a:ext cx="160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776160" y="2708280"/>
            <a:ext cx="3978360" cy="17272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едична субвенц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172073,8 тис.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7"/>
          <p:cNvSpPr/>
          <p:nvPr/>
        </p:nvSpPr>
        <p:spPr>
          <a:xfrm>
            <a:off x="5264280" y="2781360"/>
            <a:ext cx="3979800" cy="164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Освітня субвен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186628,8 тис.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6"/>
          <p:cNvSpPr/>
          <p:nvPr/>
        </p:nvSpPr>
        <p:spPr>
          <a:xfrm>
            <a:off x="2457360" y="1413000"/>
            <a:ext cx="525600" cy="1366560"/>
          </a:xfrm>
          <a:prstGeom prst="downArrow">
            <a:avLst>
              <a:gd name="adj1" fmla="val 50000"/>
              <a:gd name="adj2" fmla="val 80106"/>
            </a:avLst>
          </a:prstGeom>
          <a:solidFill>
            <a:srgbClr val="fffff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7"/>
          <p:cNvSpPr/>
          <p:nvPr/>
        </p:nvSpPr>
        <p:spPr>
          <a:xfrm>
            <a:off x="6980400" y="1413000"/>
            <a:ext cx="525240" cy="1368360"/>
          </a:xfrm>
          <a:prstGeom prst="downArrow">
            <a:avLst>
              <a:gd name="adj1" fmla="val 50000"/>
              <a:gd name="adj2" fmla="val 80267"/>
            </a:avLst>
          </a:prstGeom>
          <a:solidFill>
            <a:srgbClr val="fffff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1" descr="1368909991"/>
          <p:cNvPicPr/>
          <p:nvPr/>
        </p:nvPicPr>
        <p:blipFill>
          <a:blip r:embed="rId1"/>
          <a:stretch/>
        </p:blipFill>
        <p:spPr>
          <a:xfrm>
            <a:off x="7605720" y="1773360"/>
            <a:ext cx="1714320" cy="1511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102967_html_75a8686b"/>
          <p:cNvPicPr/>
          <p:nvPr/>
        </p:nvPicPr>
        <p:blipFill>
          <a:blip r:embed="rId2"/>
          <a:stretch/>
        </p:blipFill>
        <p:spPr>
          <a:xfrm>
            <a:off x="741240" y="1484280"/>
            <a:ext cx="1725840" cy="1800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0"/>
          <p:cNvSpPr/>
          <p:nvPr/>
        </p:nvSpPr>
        <p:spPr>
          <a:xfrm>
            <a:off x="4851360" y="4508640"/>
            <a:ext cx="486108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ff"/>
                </a:solidFill>
                <a:latin typeface="Arial"/>
                <a:ea typeface="Arial"/>
              </a:rPr>
              <a:t>Загальноосвітні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4875120" y="5229360"/>
            <a:ext cx="48373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ff"/>
                </a:solidFill>
                <a:latin typeface="Arial"/>
                <a:ea typeface="Arial"/>
              </a:rPr>
              <a:t>Шкільні відділення навч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ff"/>
                </a:solidFill>
                <a:latin typeface="Arial"/>
                <a:ea typeface="Arial"/>
              </a:rPr>
              <a:t>виховних комплек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4875120" y="6021360"/>
            <a:ext cx="48373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ff"/>
                </a:solidFill>
                <a:latin typeface="Arial"/>
                <a:ea typeface="Arial"/>
              </a:rPr>
              <a:t>Військово-спортивний ліцей-інтер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3680" y="260280"/>
            <a:ext cx="7256520" cy="100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Особливості формування бюдже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на 2015 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4280" y="1413000"/>
            <a:ext cx="436860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ст мінімальної заробітн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л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1218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378 грн</a:t>
            </a:r>
            <a:r>
              <a:rPr b="0" lang="uk-UA" sz="2000" spc="-1" strike="noStrike">
                <a:solidFill>
                  <a:srgbClr val="ffffd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64280" y="1413000"/>
            <a:ext cx="421308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садовий оклад праців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-го тарифного розр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Єдиної тарифної сі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852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012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3480" y="4005360"/>
            <a:ext cx="6551640" cy="244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ст тарифів на енергоносії (січень 2015 ро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січня 2014 ро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Теплопостачання  + 9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Водопостачання  + 1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Електроенергія  + 28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Газопостачання  + 128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52520" y="260280"/>
            <a:ext cx="7256520" cy="100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Особливості формування бюдже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на 2015 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0520" y="1413000"/>
            <a:ext cx="436860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ст мінімальної заробітн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л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1218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378 грн</a:t>
            </a:r>
            <a:r>
              <a:rPr b="0" lang="uk-UA" sz="2000" spc="-1" strike="noStrike">
                <a:solidFill>
                  <a:srgbClr val="ffffd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28760" y="260280"/>
            <a:ext cx="7256520" cy="100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Особливості формування бюдже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на 2015 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40160" y="1413000"/>
            <a:ext cx="421344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садовий оклад праців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-го тарифного розр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Єдиної тарифної сі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852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012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6400" y="1413000"/>
            <a:ext cx="436896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ст мінімальної заробітн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л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1218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378 грн</a:t>
            </a:r>
            <a:r>
              <a:rPr b="0" lang="uk-UA" sz="2000" spc="-1" strike="noStrike">
                <a:solidFill>
                  <a:srgbClr val="ffffd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05000" y="260280"/>
            <a:ext cx="7256520" cy="100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Особливості формування бюдже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на 2015 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57240" y="4005360"/>
            <a:ext cx="6551640" cy="244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ст тарифів на енергонос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Теплопостачання  + 10,16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Водопостачання  + 10,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Електроенергія  + 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Газопостачання  + 1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64280" y="1413000"/>
            <a:ext cx="421308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садовий оклад праців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-го тарифного розр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Єдиної тарифної сі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1012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ffd9"/>
                </a:solidFill>
                <a:latin typeface="Arial"/>
              </a:rPr>
              <a:t>з 1 травня – 1084 гр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184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0520" y="1413000"/>
            <a:ext cx="436860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ст мінімальної заробітн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л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1378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ffd9"/>
                </a:solidFill>
                <a:latin typeface="Arial"/>
              </a:rPr>
              <a:t>з 1 травня – 1450 гр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550 грн</a:t>
            </a:r>
            <a:r>
              <a:rPr b="0" lang="uk-UA" sz="2000" spc="-1" strike="noStrike">
                <a:solidFill>
                  <a:srgbClr val="ffffd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28760" y="260280"/>
            <a:ext cx="7256520" cy="100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Особливості формування бюдже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на 2016 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57:48Z</dcterms:created>
  <dc:creator>budg_1</dc:creator>
  <dc:description/>
  <dc:language>en-US</dc:language>
  <cp:lastModifiedBy>Ivancheskyl</cp:lastModifiedBy>
  <dcterms:modified xsi:type="dcterms:W3CDTF">2015-12-18T13:27:26Z</dcterms:modified>
  <cp:revision>390</cp:revision>
  <dc:subject/>
  <dc:title>Слайд 1</dc:title>
</cp:coreProperties>
</file>