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5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6.wmf" ContentType="image/x-wmf"/>
  <Override PartName="/ppt/media/image29.wmf" ContentType="image/x-wmf"/>
  <Override PartName="/ppt/media/image11.wmf" ContentType="image/x-wmf"/>
  <Override PartName="/ppt/media/image16.wmf" ContentType="image/x-wmf"/>
  <Override PartName="/ppt/media/image8.png" ContentType="image/png"/>
  <Override PartName="/ppt/media/image7.wmf" ContentType="image/x-wmf"/>
  <Override PartName="/ppt/media/image12.wmf" ContentType="image/x-wmf"/>
  <Override PartName="/ppt/media/image13.png" ContentType="image/png"/>
  <Override PartName="/ppt/media/image17.wmf" ContentType="image/x-wmf"/>
  <Override PartName="/ppt/media/image9.png" ContentType="image/png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41FD-EE6F-47A8-B09C-4D6FF431E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51BC-0CC3-43F1-A38E-D2795BBA5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9A0F-03AB-4C9E-85A9-4C7C8ABBC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D07F-B55B-4150-B54B-CB30A1DB0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8BDB-0E32-4B9B-98AD-8728C2FAA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523E-5E73-42AB-A6C8-EC3DFB037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9D44-FF88-46F9-B876-889390695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8741-86AA-4739-A2A7-7D793C451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3348-0B41-4CAB-A1A2-86F6D149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D3F6-5B03-4CFC-B03A-3C445746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2600-63D7-43A7-A95A-535F0F62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C22D-D1A5-4DD3-9B84-54C9C066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7120" indent="-3571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84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2383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70040" indent="-23976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146320" indent="-2383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5800" y="6244920"/>
            <a:ext cx="313380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EF8AC90F-18A2-4D17-93AC-F67449B5B300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0160" y="189000"/>
            <a:ext cx="482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i="1" lang="uk-UA" sz="4400" spc="-1" strike="noStrike">
                <a:solidFill>
                  <a:srgbClr val="993300"/>
                </a:solidFill>
                <a:latin typeface="Bookman Old Sty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0" y="0"/>
          <a:ext cx="9906120" cy="691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691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0" y="0"/>
          <a:ext cx="9906120" cy="691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691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r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0" y="0"/>
          <a:ext cx="9906120" cy="691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691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7600" y="4042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Arial"/>
              </a:rPr>
              <a:t>Структура видатків</a:t>
            </a:r>
            <a:br>
              <a:rPr sz="2500"/>
            </a:br>
            <a:r>
              <a:rPr b="1" lang="uk-UA" sz="2500" spc="-1" strike="noStrike">
                <a:solidFill>
                  <a:srgbClr val="000000"/>
                </a:solidFill>
                <a:latin typeface="Arial"/>
              </a:rPr>
              <a:t>на освіту за економічною класифікацією видатків на 2016 рік (проект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0" y="1663560"/>
          <a:ext cx="9906120" cy="519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63560"/>
                    <a:ext cx="9906120" cy="519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88520" y="404640"/>
            <a:ext cx="8915400" cy="101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Arial"/>
              </a:rPr>
              <a:t>Динаміка видатків на освіту по міському бюджету </a:t>
            </a:r>
            <a:br>
              <a:rPr sz="2500"/>
            </a:br>
            <a:r>
              <a:rPr b="1" lang="uk-UA" sz="2500" spc="-1" strike="noStrike">
                <a:solidFill>
                  <a:srgbClr val="000000"/>
                </a:solidFill>
                <a:latin typeface="Arial"/>
              </a:rPr>
              <a:t>м. Чернівців за 2012-2016 роки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0" y="1268280"/>
          <a:ext cx="9906120" cy="535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8280"/>
                    <a:ext cx="9906120" cy="53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4903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uk-UA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аміка видатків на освіту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-231840" y="880920"/>
          <a:ext cx="10299600" cy="597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31840" y="880920"/>
                    <a:ext cx="10299600" cy="59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5619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Arial"/>
              </a:rPr>
              <a:t>Динаміка видатків на освіту за їх структурою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0" y="907920"/>
          <a:ext cx="9906120" cy="589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9906120" cy="589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ceadc"/>
                                      </p:to>
                                    </p:animClr>
                                    <p:set>
                                      <p:cBhvr>
                                        <p:cTn id="19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7" dur="1000" fill="hold"/>
                                        <p:tgtEl>
                                          <p:spTgt spid="102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d9"/>
                                      </p:to>
                                    </p:animClr>
                                    <p:set>
                                      <p:cBhvr>
                                        <p:cTn id="20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90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ffff"/>
                                      </p:to>
                                    </p:animClr>
                                    <p:set>
                                      <p:cBhvr>
                                        <p:cTn id="21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52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133200" y="-5724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0" y="0"/>
          <a:ext cx="9906120" cy="669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66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0" y="0"/>
          <a:ext cx="9906120" cy="691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691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r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77360" y="138240"/>
            <a:ext cx="8915400" cy="890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uk-UA" sz="4600" spc="-1" strike="noStrike">
                <a:solidFill>
                  <a:srgbClr val="000000"/>
                </a:solidFill>
                <a:latin typeface="Times New Roman"/>
              </a:rPr>
              <a:t>Динаміка видатків на культуру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0" y="1125360"/>
            <a:ext cx="9906120" cy="5732640"/>
            <a:chOff x="0" y="1125360"/>
            <a:chExt cx="9906120" cy="5732640"/>
          </a:xfrm>
        </p:grpSpPr>
        <p:graphicFrame>
          <p:nvGraphicFramePr>
            <p:cNvPr id="110" name=""/>
            <p:cNvGraphicFramePr/>
            <p:nvPr/>
          </p:nvGraphicFramePr>
          <p:xfrm>
            <a:off x="0" y="1125360"/>
            <a:ext cx="9906120" cy="5732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125360"/>
                      <a:ext cx="9906120" cy="573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2" name=""/>
            <p:cNvSpPr/>
            <p:nvPr/>
          </p:nvSpPr>
          <p:spPr>
            <a:xfrm rot="20276400">
              <a:off x="3660840" y="3252600"/>
              <a:ext cx="860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54000"/>
                  <a:tab algn="l" pos="1908000"/>
                  <a:tab algn="l" pos="2862360"/>
                  <a:tab algn="l" pos="3816360"/>
                  <a:tab algn="l" pos="4770360"/>
                  <a:tab algn="l" pos="5724360"/>
                  <a:tab algn="l" pos="6678720"/>
                  <a:tab algn="l" pos="7632720"/>
                  <a:tab algn="l" pos="8586720"/>
                  <a:tab algn="l" pos="9540720"/>
                  <a:tab algn="l" pos="104950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4,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20276400">
              <a:off x="6321240" y="3036960"/>
              <a:ext cx="792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54000"/>
                  <a:tab algn="l" pos="1908000"/>
                  <a:tab algn="l" pos="2862360"/>
                  <a:tab algn="l" pos="3816360"/>
                  <a:tab algn="l" pos="4770360"/>
                  <a:tab algn="l" pos="5724360"/>
                  <a:tab algn="l" pos="6678720"/>
                  <a:tab algn="l" pos="7632720"/>
                  <a:tab algn="l" pos="8586720"/>
                  <a:tab algn="l" pos="9540720"/>
                  <a:tab algn="l" pos="104950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4,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20317200">
              <a:off x="6261120" y="3573000"/>
              <a:ext cx="923760" cy="285840"/>
            </a:xfrm>
            <a:prstGeom prst="rightArrow">
              <a:avLst>
                <a:gd name="adj1" fmla="val 50000"/>
                <a:gd name="adj2" fmla="val 8079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20317200">
              <a:off x="3728880" y="3789000"/>
              <a:ext cx="924120" cy="276120"/>
            </a:xfrm>
            <a:prstGeom prst="rightArrow">
              <a:avLst>
                <a:gd name="adj1" fmla="val 50000"/>
                <a:gd name="adj2" fmla="val 836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88520" y="0"/>
            <a:ext cx="8915400" cy="7063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Структура видатків на культур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8520" y="836640"/>
            <a:ext cx="4537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rmAutofit/>
          </a:bodyPr>
          <a:p>
            <a:pPr marL="357120" indent="-3571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2015 рік (пла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68880" y="836640"/>
            <a:ext cx="4537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rmAutofit/>
          </a:bodyPr>
          <a:p>
            <a:pPr marL="357120" indent="-3571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2016 рік (проек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88880" y="0"/>
            <a:ext cx="89154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Структура видатків на культур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232160" y="1989000"/>
          <a:ext cx="5673960" cy="411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32160" y="1989000"/>
                    <a:ext cx="5673960" cy="41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0" y="1052640"/>
          <a:ext cx="5235480" cy="580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052640"/>
                    <a:ext cx="5235480" cy="58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60160" y="-360"/>
            <a:ext cx="8915400" cy="981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Структура видатків на культуру за економічною класифікацією видатк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68520" y="981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2015 рі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31800" y="1405080"/>
          <a:ext cx="8840880" cy="54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1800" y="1405080"/>
                    <a:ext cx="8840880" cy="54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7" dur="1000" fill="hold"/>
                                        <p:tgtEl>
                                          <p:spTgt spid="125"/>
                                        </p:tgtEl>
                                      </p:cBhvr>
                                      <p:to x="14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76160" y="189000"/>
            <a:ext cx="89154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ctr">
            <a:noAutofit/>
          </a:bodyPr>
          <a:p>
            <a:pPr algn="ctr"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Arial"/>
              </a:rPr>
              <a:t>Структура видатків на культуру за економічною класифікацією видатків</a:t>
            </a:r>
            <a:br>
              <a:rPr sz="3000"/>
            </a:b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(проект на 2016 рі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44520" y="1197000"/>
          <a:ext cx="9309240" cy="582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4520" y="1197000"/>
                    <a:ext cx="9309240" cy="58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0" y="-144360"/>
            <a:ext cx="9705960" cy="7002360"/>
            <a:chOff x="0" y="-144360"/>
            <a:chExt cx="9705960" cy="7002360"/>
          </a:xfrm>
        </p:grpSpPr>
        <p:graphicFrame>
          <p:nvGraphicFramePr>
            <p:cNvPr id="132" name=""/>
            <p:cNvGraphicFramePr/>
            <p:nvPr/>
          </p:nvGraphicFramePr>
          <p:xfrm>
            <a:off x="0" y="-144360"/>
            <a:ext cx="9705960" cy="70023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-144360"/>
                      <a:ext cx="9705960" cy="700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 rot="20276400">
              <a:off x="3589560" y="378756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54000"/>
                  <a:tab algn="l" pos="1908000"/>
                  <a:tab algn="l" pos="2862360"/>
                  <a:tab algn="l" pos="3816360"/>
                  <a:tab algn="l" pos="4770360"/>
                  <a:tab algn="l" pos="5724360"/>
                  <a:tab algn="l" pos="6678720"/>
                  <a:tab algn="l" pos="7632720"/>
                  <a:tab algn="l" pos="8586720"/>
                  <a:tab algn="l" pos="9540720"/>
                  <a:tab algn="l" pos="10495080"/>
                </a:tabLst>
              </a:pPr>
              <a:r>
                <a:rPr b="1" lang="uk-UA" sz="2400" spc="-1" strike="noStrike">
                  <a:solidFill>
                    <a:srgbClr val="ffffff"/>
                  </a:solidFill>
                  <a:latin typeface="Arial"/>
                </a:rPr>
                <a:t>+1,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20276400">
              <a:off x="6037560" y="342720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54000"/>
                  <a:tab algn="l" pos="1908000"/>
                  <a:tab algn="l" pos="2862360"/>
                  <a:tab algn="l" pos="3816360"/>
                  <a:tab algn="l" pos="4770360"/>
                  <a:tab algn="l" pos="5724360"/>
                  <a:tab algn="l" pos="6678720"/>
                  <a:tab algn="l" pos="7632720"/>
                  <a:tab algn="l" pos="8586720"/>
                  <a:tab algn="l" pos="9540720"/>
                  <a:tab algn="l" pos="10495080"/>
                </a:tabLst>
              </a:pPr>
              <a:r>
                <a:rPr b="1" lang="uk-UA" sz="2400" spc="-1" strike="noStrike">
                  <a:solidFill>
                    <a:srgbClr val="ffffff"/>
                  </a:solidFill>
                  <a:latin typeface="Arial"/>
                </a:rPr>
                <a:t>+1,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20317200">
              <a:off x="6032520" y="3933360"/>
              <a:ext cx="923760" cy="285840"/>
            </a:xfrm>
            <a:prstGeom prst="rightArrow">
              <a:avLst>
                <a:gd name="adj1" fmla="val 50000"/>
                <a:gd name="adj2" fmla="val 8079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20317200">
              <a:off x="3657240" y="4220640"/>
              <a:ext cx="923760" cy="276480"/>
            </a:xfrm>
            <a:prstGeom prst="rightArrow">
              <a:avLst>
                <a:gd name="adj1" fmla="val 50000"/>
                <a:gd name="adj2" fmla="val 8352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71280"/>
            <a:ext cx="9906120" cy="659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71280"/>
            <a:ext cx="9906120" cy="659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0" y="30240"/>
            <a:ext cx="9960120" cy="6827760"/>
            <a:chOff x="0" y="30240"/>
            <a:chExt cx="9960120" cy="6827760"/>
          </a:xfrm>
        </p:grpSpPr>
        <p:pic>
          <p:nvPicPr>
            <p:cNvPr id="141" name="" descr=""/>
            <p:cNvPicPr/>
            <p:nvPr/>
          </p:nvPicPr>
          <p:blipFill>
            <a:blip r:embed="rId1"/>
            <a:stretch/>
          </p:blipFill>
          <p:spPr>
            <a:xfrm>
              <a:off x="0" y="30240"/>
              <a:ext cx="9960120" cy="682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 rot="20276400">
              <a:off x="3510360" y="3881160"/>
              <a:ext cx="107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54000"/>
                  <a:tab algn="l" pos="1908000"/>
                  <a:tab algn="l" pos="2862360"/>
                  <a:tab algn="l" pos="3816360"/>
                  <a:tab algn="l" pos="4770360"/>
                  <a:tab algn="l" pos="5724360"/>
                  <a:tab algn="l" pos="6678720"/>
                  <a:tab algn="l" pos="7632720"/>
                  <a:tab algn="l" pos="8586720"/>
                  <a:tab algn="l" pos="9540720"/>
                  <a:tab algn="l" pos="10495080"/>
                </a:tabLst>
              </a:pPr>
              <a:r>
                <a:rPr b="1" lang="uk-UA" sz="20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1" lang="uk-UA" sz="2200" spc="-1" strike="noStrike">
                  <a:solidFill>
                    <a:srgbClr val="ffffff"/>
                  </a:solidFill>
                  <a:latin typeface="Arial"/>
                </a:rPr>
                <a:t>60,4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20276400">
              <a:off x="6031440" y="3472920"/>
              <a:ext cx="1008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54000"/>
                  <a:tab algn="l" pos="1908000"/>
                  <a:tab algn="l" pos="2862360"/>
                  <a:tab algn="l" pos="3816360"/>
                  <a:tab algn="l" pos="4770360"/>
                  <a:tab algn="l" pos="5724360"/>
                  <a:tab algn="l" pos="6678720"/>
                  <a:tab algn="l" pos="7632720"/>
                  <a:tab algn="l" pos="8586720"/>
                  <a:tab algn="l" pos="9540720"/>
                  <a:tab algn="l" pos="10495080"/>
                </a:tabLst>
              </a:pPr>
              <a:r>
                <a:rPr b="1" lang="uk-UA" sz="2200" spc="-1" strike="noStrike">
                  <a:solidFill>
                    <a:srgbClr val="ffffff"/>
                  </a:solidFill>
                  <a:latin typeface="Arial"/>
                </a:rPr>
                <a:t>+55,8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68400"/>
            <a:ext cx="9906120" cy="667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-190440" y="-2286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0" y="0"/>
          <a:ext cx="9906120" cy="687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68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9906120" cy="669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66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0" y="174600"/>
          <a:ext cx="9906120" cy="634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4600"/>
                    <a:ext cx="9906120" cy="634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-190440" y="72626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0" y="0"/>
          <a:ext cx="9906120" cy="7149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714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0" y="0"/>
          <a:ext cx="10066320" cy="680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0066320" cy="68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351000" y="404640"/>
            <a:ext cx="9245520" cy="8859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Розподіл субвенцій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з державного бюджету міському  бюджету м. Чернівців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на 2016 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рі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5"/>
          <p:cNvSpPr/>
          <p:nvPr/>
        </p:nvSpPr>
        <p:spPr>
          <a:xfrm>
            <a:off x="0" y="4005360"/>
            <a:ext cx="160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6"/>
          <p:cNvSpPr/>
          <p:nvPr/>
        </p:nvSpPr>
        <p:spPr>
          <a:xfrm>
            <a:off x="776160" y="2708280"/>
            <a:ext cx="3978360" cy="17272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Медична субвенці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172073,8 тис. гр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7"/>
          <p:cNvSpPr/>
          <p:nvPr/>
        </p:nvSpPr>
        <p:spPr>
          <a:xfrm>
            <a:off x="5264280" y="2781360"/>
            <a:ext cx="3979800" cy="1646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Освітня субвенці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186628,8 тис. гр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трелка вниз 16"/>
          <p:cNvSpPr/>
          <p:nvPr/>
        </p:nvSpPr>
        <p:spPr>
          <a:xfrm>
            <a:off x="2457360" y="1413000"/>
            <a:ext cx="525600" cy="1366560"/>
          </a:xfrm>
          <a:prstGeom prst="downArrow">
            <a:avLst>
              <a:gd name="adj1" fmla="val 50000"/>
              <a:gd name="adj2" fmla="val 80106"/>
            </a:avLst>
          </a:prstGeom>
          <a:solidFill>
            <a:srgbClr val="fffff7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трелка вниз 17"/>
          <p:cNvSpPr/>
          <p:nvPr/>
        </p:nvSpPr>
        <p:spPr>
          <a:xfrm>
            <a:off x="6980400" y="1413000"/>
            <a:ext cx="525240" cy="1368360"/>
          </a:xfrm>
          <a:prstGeom prst="downArrow">
            <a:avLst>
              <a:gd name="adj1" fmla="val 50000"/>
              <a:gd name="adj2" fmla="val 80267"/>
            </a:avLst>
          </a:prstGeom>
          <a:solidFill>
            <a:srgbClr val="fffff7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1" descr="1368909991"/>
          <p:cNvPicPr/>
          <p:nvPr/>
        </p:nvPicPr>
        <p:blipFill>
          <a:blip r:embed="rId1"/>
          <a:stretch/>
        </p:blipFill>
        <p:spPr>
          <a:xfrm>
            <a:off x="7605720" y="1773360"/>
            <a:ext cx="1714320" cy="1511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102967_html_75a8686b"/>
          <p:cNvPicPr/>
          <p:nvPr/>
        </p:nvPicPr>
        <p:blipFill>
          <a:blip r:embed="rId2"/>
          <a:stretch/>
        </p:blipFill>
        <p:spPr>
          <a:xfrm>
            <a:off x="741240" y="1484280"/>
            <a:ext cx="1725840" cy="18003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20"/>
          <p:cNvSpPr/>
          <p:nvPr/>
        </p:nvSpPr>
        <p:spPr>
          <a:xfrm>
            <a:off x="4851360" y="4508640"/>
            <a:ext cx="4861080" cy="576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99ff"/>
                </a:solidFill>
                <a:latin typeface="Arial"/>
                <a:ea typeface="Arial"/>
              </a:rPr>
              <a:t>Загальноосвітні шк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0"/>
          <p:cNvSpPr/>
          <p:nvPr/>
        </p:nvSpPr>
        <p:spPr>
          <a:xfrm>
            <a:off x="4875120" y="5229360"/>
            <a:ext cx="483732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99ff"/>
                </a:solidFill>
                <a:latin typeface="Arial"/>
                <a:ea typeface="Arial"/>
              </a:rPr>
              <a:t>Шкільні відділення навчаль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99ff"/>
                </a:solidFill>
                <a:latin typeface="Arial"/>
                <a:ea typeface="Arial"/>
              </a:rPr>
              <a:t>виховних комплекс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0"/>
          <p:cNvSpPr/>
          <p:nvPr/>
        </p:nvSpPr>
        <p:spPr>
          <a:xfrm>
            <a:off x="4875120" y="6021360"/>
            <a:ext cx="4837320" cy="503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99ff"/>
                </a:solidFill>
                <a:latin typeface="Arial"/>
                <a:ea typeface="Arial"/>
              </a:rPr>
              <a:t>Військово-спортивний ліцей-інтерн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363680" y="260280"/>
            <a:ext cx="7256520" cy="1008000"/>
          </a:xfrm>
          <a:prstGeom prst="flowChartProcess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d9"/>
                </a:solidFill>
                <a:latin typeface="Arial"/>
              </a:rPr>
              <a:t>Особливості формування бюджету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d9"/>
                </a:solidFill>
                <a:latin typeface="Arial"/>
              </a:rPr>
              <a:t>на 2015 рі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84280" y="1413000"/>
            <a:ext cx="4368600" cy="2447640"/>
          </a:xfrm>
          <a:prstGeom prst="flowChartProcess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Ріст мінімальної заробітної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ла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d9"/>
                </a:solidFill>
                <a:latin typeface="Arial"/>
              </a:rPr>
              <a:t>з 1 січня – 1218 гр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d9"/>
                </a:solidFill>
                <a:latin typeface="Arial"/>
              </a:rPr>
              <a:t>з 1 грудня – 1378 грн</a:t>
            </a:r>
            <a:r>
              <a:rPr b="0" lang="uk-UA" sz="2000" spc="-1" strike="noStrike">
                <a:solidFill>
                  <a:srgbClr val="ffffd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264280" y="1413000"/>
            <a:ext cx="4213080" cy="2447640"/>
          </a:xfrm>
          <a:prstGeom prst="flowChartProcess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осадовий оклад працівн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-го тарифного розряд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Єдиної тарифної сіт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d9"/>
                </a:solidFill>
                <a:latin typeface="Arial"/>
              </a:rPr>
              <a:t>з 1 січня – 852 гр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d9"/>
                </a:solidFill>
                <a:latin typeface="Arial"/>
              </a:rPr>
              <a:t>з 1 грудня – 1012 гр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833480" y="4005360"/>
            <a:ext cx="6551640" cy="2448000"/>
          </a:xfrm>
          <a:prstGeom prst="flowChartProcess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Ріст тарифів на енергоносії (січень 2015 рок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до січня 2014 рок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d9"/>
                </a:solidFill>
                <a:latin typeface="Arial"/>
              </a:rPr>
              <a:t>Теплопостачання  + 99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d9"/>
                </a:solidFill>
                <a:latin typeface="Arial"/>
              </a:rPr>
              <a:t>Водопостачання  + 15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d9"/>
                </a:solidFill>
                <a:latin typeface="Arial"/>
              </a:rPr>
              <a:t>Електроенергія  + 28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d9"/>
                </a:solidFill>
                <a:latin typeface="Arial"/>
              </a:rPr>
              <a:t>Газопостачання  + 128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52520" y="260280"/>
            <a:ext cx="7256520" cy="1008000"/>
          </a:xfrm>
          <a:prstGeom prst="flowChartProcess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d9"/>
                </a:solidFill>
                <a:latin typeface="Arial"/>
              </a:rPr>
              <a:t>Особливості формування бюджету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d9"/>
                </a:solidFill>
                <a:latin typeface="Arial"/>
              </a:rPr>
              <a:t>на 2015 рі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60520" y="1413000"/>
            <a:ext cx="4368600" cy="2447640"/>
          </a:xfrm>
          <a:prstGeom prst="flowChartProcess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Ріст мінімальної заробітної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ла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d9"/>
                </a:solidFill>
                <a:latin typeface="Arial"/>
              </a:rPr>
              <a:t>з 1 січня – 1218 гр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d9"/>
                </a:solidFill>
                <a:latin typeface="Arial"/>
              </a:rPr>
              <a:t>з 1 грудня – 1378 грн</a:t>
            </a:r>
            <a:r>
              <a:rPr b="0" lang="uk-UA" sz="2000" spc="-1" strike="noStrike">
                <a:solidFill>
                  <a:srgbClr val="ffffd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328760" y="260280"/>
            <a:ext cx="7256520" cy="1008000"/>
          </a:xfrm>
          <a:prstGeom prst="flowChartProcess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d9"/>
                </a:solidFill>
                <a:latin typeface="Arial"/>
              </a:rPr>
              <a:t>Особливості формування бюджету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d9"/>
                </a:solidFill>
                <a:latin typeface="Arial"/>
              </a:rPr>
              <a:t>на 2015 рі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40160" y="1413000"/>
            <a:ext cx="4213440" cy="2447640"/>
          </a:xfrm>
          <a:prstGeom prst="flowChartProcess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осадовий оклад працівн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-го тарифного розряд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Єдиної тарифної сіт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d9"/>
                </a:solidFill>
                <a:latin typeface="Arial"/>
              </a:rPr>
              <a:t>з 1 січня – 852 гр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d9"/>
                </a:solidFill>
                <a:latin typeface="Arial"/>
              </a:rPr>
              <a:t>з 1 грудня – 1012 гр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6400" y="1413000"/>
            <a:ext cx="4368960" cy="2447640"/>
          </a:xfrm>
          <a:prstGeom prst="flowChartProcess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Ріст мінімальної заробітної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ла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d9"/>
                </a:solidFill>
                <a:latin typeface="Arial"/>
              </a:rPr>
              <a:t>з 1 січня – 1218 гр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d9"/>
                </a:solidFill>
                <a:latin typeface="Arial"/>
              </a:rPr>
              <a:t>з 1 грудня – 1378 грн</a:t>
            </a:r>
            <a:r>
              <a:rPr b="0" lang="uk-UA" sz="2000" spc="-1" strike="noStrike">
                <a:solidFill>
                  <a:srgbClr val="ffffd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05000" y="260280"/>
            <a:ext cx="7256520" cy="1008000"/>
          </a:xfrm>
          <a:prstGeom prst="flowChartProcess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d9"/>
                </a:solidFill>
                <a:latin typeface="Arial"/>
              </a:rPr>
              <a:t>Особливості формування бюджету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d9"/>
                </a:solidFill>
                <a:latin typeface="Arial"/>
              </a:rPr>
              <a:t>на 2015 рі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57240" y="4005360"/>
            <a:ext cx="6551640" cy="2448000"/>
          </a:xfrm>
          <a:prstGeom prst="flowChartProcess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Ріст тарифів на енергоносі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d9"/>
                </a:solidFill>
                <a:latin typeface="Arial"/>
              </a:rPr>
              <a:t>Теплопостачання  + 10,16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d9"/>
                </a:solidFill>
                <a:latin typeface="Arial"/>
              </a:rPr>
              <a:t>Водопостачання  + 10,4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d9"/>
                </a:solidFill>
                <a:latin typeface="Arial"/>
              </a:rPr>
              <a:t>Електроенергія  + 5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d9"/>
                </a:solidFill>
                <a:latin typeface="Arial"/>
              </a:rPr>
              <a:t>Газопостачання  + 10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264280" y="1413000"/>
            <a:ext cx="4213080" cy="2447640"/>
          </a:xfrm>
          <a:prstGeom prst="flowChartProcess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осадовий оклад працівн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-го тарифного розряд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Єдиної тарифної сіт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d9"/>
                </a:solidFill>
                <a:latin typeface="Arial"/>
              </a:rPr>
              <a:t>з 1 січня – 1012 гр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ffffd9"/>
                </a:solidFill>
                <a:latin typeface="Arial"/>
              </a:rPr>
              <a:t>з 1 травня – 1084 грн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d9"/>
                </a:solidFill>
                <a:latin typeface="Arial"/>
              </a:rPr>
              <a:t>з 1 грудня – 1184 гр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60520" y="1413000"/>
            <a:ext cx="4368600" cy="2447640"/>
          </a:xfrm>
          <a:prstGeom prst="flowChartProcess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Ріст мінімальної заробітної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ла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d9"/>
                </a:solidFill>
                <a:latin typeface="Arial"/>
              </a:rPr>
              <a:t>з 1 січня – 1378 гр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ffffd9"/>
                </a:solidFill>
                <a:latin typeface="Arial"/>
              </a:rPr>
              <a:t>з 1 травня – 1450 грн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d9"/>
                </a:solidFill>
                <a:latin typeface="Arial"/>
              </a:rPr>
              <a:t>з 1 грудня – 1550 грн</a:t>
            </a:r>
            <a:r>
              <a:rPr b="0" lang="uk-UA" sz="2000" spc="-1" strike="noStrike">
                <a:solidFill>
                  <a:srgbClr val="ffffd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328760" y="260280"/>
            <a:ext cx="7256520" cy="1008000"/>
          </a:xfrm>
          <a:prstGeom prst="flowChartProcess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d9"/>
                </a:solidFill>
                <a:latin typeface="Arial"/>
              </a:rPr>
              <a:t>Особливості формування бюджету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d9"/>
                </a:solidFill>
                <a:latin typeface="Arial"/>
              </a:rPr>
              <a:t>на 2016 рі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11:57:48Z</dcterms:created>
  <dc:creator>budg_1</dc:creator>
  <dc:description/>
  <dc:language>en-US</dc:language>
  <cp:lastModifiedBy>Ivancheskyl</cp:lastModifiedBy>
  <dcterms:modified xsi:type="dcterms:W3CDTF">2015-12-18T13:27:26Z</dcterms:modified>
  <cp:revision>390</cp:revision>
  <dc:subject/>
  <dc:title>Слайд 1</dc:title>
</cp:coreProperties>
</file>