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40F-8AE9-4A6F-B79D-600F716E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B90-63C5-453B-B374-30946140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D20-8D02-4098-93AB-441274C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7CF-DF08-4CA9-A04B-83593282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ACEA-E4D5-4113-9978-C1A2C7B8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E7F8-790A-4D52-804B-4C89C26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631-B3FA-468D-8537-214447F4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82A-6D98-46FC-9E20-6D3CB8A9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E772-38B0-492D-A00D-9F6B6F2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AE15-0EB0-4FC8-9AC9-16DAF606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099-70FC-4F22-8563-2F06E131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FA4-170E-4F56-AD6A-990F2F2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76F9-C3B5-4B66-B60B-A520D1F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0EDC-9F5B-475D-BE30-339BB0DF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3363-9AA4-4048-A6DF-30E770D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F64C-23B5-4004-B333-6694A488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85F3-B527-4C5E-BC16-FD048C5D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102-BDD6-4A0F-A6C2-1E6EEE2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50F-198A-419C-8BFD-3365FD7B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9C8-D945-4BFF-9D5F-F61E4BE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C44-BBBC-4FB0-98D8-5FA643C1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D9F-0C00-45C8-9463-A621B5F1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175-8CBF-4F8C-BA1A-876FBF09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6C3-6E19-4CEB-A97C-3B61B49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30B-CCD9-4565-B246-FFCB20A06963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FF19-037D-449C-B1DD-5206C44A1B3D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Дорожня карт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имання суб'єктами господарювання державної підтримки, передбаченої законодавством України, для реалізації інвестиційних проектів у пріоритетних галузях економі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2720" y="59659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cc"/>
                </a:solidFill>
                <a:latin typeface="Arial"/>
              </a:rPr>
              <a:t>201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cc"/>
                </a:solidFill>
                <a:latin typeface="Arial"/>
              </a:rPr>
              <a:t>Міністерство економічного розвитку і торгівлі Украї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ані суб’єктами господарювання заяви разом з документами перевіряються Радою міністрів Автономної Республіки Крим, обласними, Київською та Севастопольською міськими держадміністраціями </a:t>
            </a:r>
            <a:r>
              <a:rPr b="0" i="1" lang="en-US" sz="2000" spc="-1" strike="noStrike">
                <a:solidFill>
                  <a:srgbClr val="0713f9"/>
                </a:solidFill>
                <a:latin typeface="Arial"/>
              </a:rPr>
              <a:t>протягом п’яти робочих дні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з дати їх надходження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а у разі їх невідповідності повертаються суб’єкту господар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’єкт господарювання після доопрацювання повернутих документів може повторно подати Раді міністрів Автономної Республіки Крим, обласній, Київській та Севастопольській міській держадміністрації заяву разом з відповідними документами, зазначивши результати попереднього розгляду і вжиті за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6c05"/>
                </a:solidFill>
                <a:latin typeface="Arial"/>
              </a:rPr>
              <a:t>Етап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ідбір здійснюється Радою міністрів Автономної Республіки Крим, обласними, Київською та Севастопольською міськими держадміністраціями з урахуванням Вимог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інвестиційних проектів на регулярній основі, але 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не рідше одного разу в тижд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13f9"/>
                </a:solidFill>
                <a:latin typeface="Arial"/>
              </a:rPr>
              <a:t>(у разі наявності відповідних пропозицій суб’єктів господарюва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56c05"/>
                </a:solidFill>
                <a:latin typeface="Arial"/>
              </a:rPr>
              <a:t>Етап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ода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дою міністрів Автономної Республіки Крим, обласними, Київською та Севастопольською міськими державними адміністраціям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ідібраних інвестиційних проектів до Мінекономрозвитк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зом із заявами суб'єктів господарювання та документами, які до них дода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(не пізніше, ніж на третій календарний день після проведення відб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п’ятнадцяти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дня надходження від Ради міністрів Автономної Республіки Крим, обласної, Київської та Севастопольської міських держадміністрацій відібраних інвестиційних проектів та документів розглядає їх та подає в установленому порядку Кабінетові Міністрів України пропозиції щодо схвалення інвестиційних проект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(проект рішення, погоджений із заінтересованими органами виконавчої вл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56c05"/>
                </a:solidFill>
                <a:latin typeface="Arial"/>
              </a:rPr>
              <a:t>Етап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ісля схвале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Кабінетом Міністрів України інвестиційних проектів у пріоритетних галузях економік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протягом п’яти робочих дн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дійснює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їх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ержавну реєстрацію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шляхом внесення відомостей про ці проекти до Державного реєстру інвестиційних проектів у пріоритетних галузях економіки, який розміщується на офіційному веб-сайті Мінеконом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сля державної реєстрації інвестиційних проектів Мінекономрозвитку повідомляє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дво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аду міністрів Автономної Республіки Крим, обласні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у та Севастопольську міські держадміністрації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 схвалення Кабінетом Міністрів України зазначених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ектів та їх державну реєстрацію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Після схвалення Кабінетом Міністрів України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 інвестиційного </a:t>
            </a:r>
            <a:br>
              <a:rPr sz="1800"/>
            </a:b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проекту суб’єкт господарювання 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набуває право на застосування передбачених Податковим і Митним кодексами України особливостей оподаткування, пов’язаних з реалізацією інвестиційних проектів у пріоритетних галузях економік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даткуванн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ибутк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отриманого від реалізації інвестиційних проект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 01.01.2018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18 до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(звичайна ставка податку на прибуток з 1 січня 2013 року - 19%, з 1 січня 2014 року - 1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ання до 31.12.2022 включно митному орган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аткового вексел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на суму податкового зобов'язання з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Д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троком на 60 днів для ввезення в Україну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, що звільняються від оподаткування ввізним ми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ільнення до 01.01.2018 від оподаткуванн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ізним мит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 за умови, що зазначені това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) не є підакциз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б) виготовлені не більше трьох років до моменту державної реєстрації інвестиційного проекту та не були у використа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) не виробляються в Україні та не мають аналогів 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У разі виявлення суб’єктом господарювання бажання отримати державну підтримку для реалізації інвестиційного проекту у пріоритетній галузі економіки </a:t>
            </a:r>
            <a:r>
              <a:rPr b="1" i="1" lang="en-US" sz="2400" spc="-1" strike="noStrike" u="sng">
                <a:solidFill>
                  <a:srgbClr val="0713f9"/>
                </a:solidFill>
                <a:uFillTx/>
                <a:latin typeface="Arial"/>
              </a:rPr>
              <a:t>за рахунок коштів державного чи місцевого бюджетів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, відповідний проект повинен бути включений також до </a:t>
            </a:r>
            <a:r>
              <a:rPr b="1" i="1" lang="en-US" sz="2400" spc="-1" strike="noStrike">
                <a:solidFill>
                  <a:srgbClr val="0713f9"/>
                </a:solidFill>
                <a:latin typeface="Arial"/>
              </a:rPr>
              <a:t>Державного реєстру інвестиційних проектів та проектних (інвестиційних) пропозицій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 у порядку, встановленому статтею 12-2 Закону України </a:t>
            </a:r>
            <a:br>
              <a:rPr sz="2400"/>
            </a:b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"Про інвестиційну діяльніс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рмативно-правова основа стимулювання інвестиційної діяльності у пріоритетних галузях економіки з метою створення нових робочих місц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Податковий кодекс України </a:t>
            </a:r>
            <a:br>
              <a:rPr sz="2800"/>
            </a:br>
            <a:r>
              <a:rPr b="0" i="1" lang="uk-UA" sz="2800" spc="-1" strike="noStrike">
                <a:solidFill>
                  <a:srgbClr val="0713f9"/>
                </a:solidFill>
                <a:latin typeface="Arial"/>
              </a:rPr>
              <a:t>(підрозділ 3, пункт 29 підрозділу 4 розділу 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Митний кодекс України </a:t>
            </a:r>
            <a:br>
              <a:rPr sz="2800"/>
            </a:br>
            <a:r>
              <a:rPr b="0" i="1" lang="uk-UA" sz="2800" spc="-1" strike="noStrike">
                <a:solidFill>
                  <a:srgbClr val="0713f9"/>
                </a:solidFill>
                <a:latin typeface="Arial"/>
              </a:rPr>
              <a:t>(підпункт 10 пункту 4 розділу ХХ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Закон України</a:t>
            </a:r>
            <a:r>
              <a:rPr b="0" lang="uk-UA" sz="2800" spc="-1" strike="noStrike">
                <a:solidFill>
                  <a:srgbClr val="0713f9"/>
                </a:solidFill>
                <a:latin typeface="Arial"/>
              </a:rPr>
              <a:t> “Про стимулювання інвестиційної діяльності у пріоритетних </a:t>
            </a:r>
            <a:br>
              <a:rPr sz="2800"/>
            </a:br>
            <a:r>
              <a:rPr b="0" lang="uk-UA" sz="2800" spc="-1" strike="noStrike">
                <a:solidFill>
                  <a:srgbClr val="0713f9"/>
                </a:solidFill>
                <a:latin typeface="Arial"/>
              </a:rPr>
              <a:t>галузях економіки з метою створення </a:t>
            </a:r>
            <a:br>
              <a:rPr sz="2800"/>
            </a:br>
            <a:r>
              <a:rPr b="0" lang="uk-UA" sz="2800" spc="-1" strike="noStrike">
                <a:solidFill>
                  <a:srgbClr val="0713f9"/>
                </a:solidFill>
                <a:latin typeface="Arial"/>
              </a:rPr>
              <a:t>нових робочих місц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Постанова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715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br>
              <a:rPr sz="1800"/>
            </a:b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“Про затвердження Порядку відбору, схвалення і реєстрації інвестиційних проектів у пріоритетних галузях економіки </a:t>
            </a:r>
            <a:br>
              <a:rPr sz="1800"/>
            </a:b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та вимог до таких проекті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Розпорядження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843-р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“Про затвердження переліку пріоритетних галузей економі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итерії відбору інвестиційних проектів у пріоритетних галузях економі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Для отримання державної підтримки інвестиційний проект </a:t>
            </a:r>
            <a:r>
              <a:rPr b="1" lang="uk-UA" sz="2200" spc="-1" strike="noStrike">
                <a:solidFill>
                  <a:srgbClr val="0713f9"/>
                </a:solidFill>
                <a:latin typeface="Arial"/>
              </a:rPr>
              <a:t>має відповідати таким критеріям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альна кошторисна варт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роекту має перевищувати суму, еквівалент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3 мільйон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 мільйону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0 тисяч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ількість створених нових робочих міс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ля працівників, які безпосередньо задіяні у виробничих процесах, має перевищув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25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ередня заробітна плата працівник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має бути не менш як </a:t>
            </a:r>
            <a:br>
              <a:rPr sz="1600"/>
            </a:b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у 2,5 раза вища за розмір мінімальної заробітної пл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МОГИ до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713f9"/>
                </a:solidFill>
                <a:latin typeface="Arial"/>
              </a:rPr>
              <a:t>Інвестиційні проекти у пріоритетних галузях економіки повинні відповідати таким вимог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тьс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- у пріоритетній галузі економіки, визначеній Кабінетом Міністрів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- на новоствореному або діючому підприємстві, на якому буде проведено реконструкцію або модернізац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ділення окремого структурного підрозділу, на якому планується реалізація інвестиційного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- досягнення протягом двох років з дня державної реєстрації інвестиційного проекту у пріоритетній галузі економіки показників, установлених частиною другою статті 4 Закону України 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“Про стимулювання інвестиційної діяльності у пріоритетних галузях економіки з метою створення нових робочих місц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ЛІК пріоритетних галузей економі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713f9"/>
                </a:solidFill>
                <a:latin typeface="Arial"/>
              </a:rPr>
              <a:t>(затверджено розпорядженням Кабінету Міністрів України від 14.08.2013 № 843-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гропромисловий компле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, зберігання харчових продуктів, в тому числі дитячого харчування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а також виробництво біопалива, з орієнтацією на імпортозаміщ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тлово-комуналь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створення об’єктів поводження з відходами (побутовими, промисловими та відходами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які утворилися в результаті добування та перероблення корисних копалин і виробництва електричної та теплової енергії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еплопостачання, централізованого водопостачання та водовідвед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ашинобудів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 нових та імпортозаміщуючих видів комп’ютерів, електронної та оптичної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продукції, машин і устатковання, електричного устатковання, автотранспортних та інших транспортних засоб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ранспортна інфраструкт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ранспорт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урортно-рекреаційна сфера і туриз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 курортно-рекреаційних об’єктів та об’єктів туристич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реробна промислов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імпортозаміщуюче металургійне виробниц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6c0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56c05"/>
                </a:solidFill>
                <a:latin typeface="Arial"/>
              </a:rPr>
              <a:t>Етап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Суб’єкти господарюванн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що мають намір взяти участь у відборі інвестиційних проектів у пріоритетних галузях економі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дают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Раді міністрів Автономної Республіки Крим, обласним, Київській та Севастопольській міським державним адміністраціям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заяву разом із відповідними докумен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Якщо для реалізації проекту передбачається ввезення обладнання та устаткування, а також комплектуючих до нього, суб'єкт господарювання готує відповідний перелік товарів, який також має міститися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 бізнес-плані проекту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з урахуванням вимог підпункту 10 пункту 4 розділу ХХІ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итного кодексу Украї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713f9"/>
                </a:solidFill>
                <a:latin typeface="Arial"/>
              </a:rPr>
              <a:t>Форма заяви про участь у відборі та інструкція щодо </a:t>
            </a:r>
            <a:br>
              <a:rPr sz="2000"/>
            </a:br>
            <a:r>
              <a:rPr b="1" i="1" lang="en-US" sz="20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713f9"/>
                </a:solidFill>
                <a:latin typeface="Arial"/>
              </a:rPr>
              <a:t>її заповнення затверджується Мінеконом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13f9"/>
                </a:solidFill>
                <a:latin typeface="Arial"/>
              </a:rPr>
              <a:t>Перелік документів, які подаються для відб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исновки незалежних експертних організацій (за наявност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пія інвестиційного проекту, що прошита, пронумерована, засвідчена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ідписом уповноваженої особи суб’єкта господарювання, а також скріплена печаткою (для юридичної особи)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ект готується відповідно до форми, затвердженої наказом Мінекономрозвитку від 19.06.2012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№ 7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податків і зборів (обов’язкових платеж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кумент про відсутність стосовно суб’єкта господарювання порушеної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прави про банкру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єдиного внеску на загальнообов’язкове,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ержавне соціальне страх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иписка з Єдиного державного реєстру юридичних осіб та фізичних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іб - підприєм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Для участі у відборі не допускаються інвестиційні проекти, як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’єкти господарювання, які їх реалізують, визнані банкрутами, перебувають у стадії припинення, мають прострочену заборгованість із сплати податків і зборів (обов’язкових платежів), єдиного внеску на загальнообов’язкове, державне соціальне страхування, а також із заробітної плати або щодо яких порушено справу про банкру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акі проекти не відповідають затвердженим Кабінетом Міністрів України вимогам до інвестиційних проектів у пріоритетних галузях економ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56c05"/>
                </a:solidFill>
                <a:latin typeface="Arial"/>
              </a:rPr>
              <a:t>Ета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евір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адою міністрів Автономної Республіки Крим, обласними, Київською та Севастопольською міськими державними адміністрація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аних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інвестиційних проектів та їх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відбі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для подання на розгляд Кабінету Міністрів Україн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або відхилення та поверне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з обґрунтуванням при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Для участі у відборі допускаються інвестиційні проекти суб'єктів господарювання, які відповідають Вимогам до інвестиційних проектів у пріоритетних галузях економ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3-12-23T07:50:2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