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895-FFAA-4EC6-B86E-A612B48B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B68-86B2-49F4-82CE-83176DBA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CC9-F8D6-43D3-A858-D1A40B02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887-FCF8-47A4-BF98-A47515E9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BDE3-E70E-41CD-9889-AE6FC5C8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20F4-2FEA-4588-B7F5-4B4A7FA3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D90C-A54F-4FF0-B31C-F19333E2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DDF9-7CE0-4B4E-B951-A6469E3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FAE8-7B9F-49B1-8951-306B192D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85EC-2176-4473-9C47-60A06AFA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6C16-9A11-43CC-9447-E4C92C0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493-B3E3-4BD2-B545-856FC837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0852-4B80-4B95-A3F9-F0B9E84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483D-7134-4097-9669-B6F4432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5E6E-ADC2-4D45-85B8-253E8FC2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F670-8C9A-47E6-A9B3-8B63FF2D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913-8780-4A59-9C2A-F8686022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610-7C3C-4790-AEA7-D8EA059B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918-CC48-4E62-8E84-349C6A2B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415-DEC2-473A-9513-111E6C6B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429-0630-4A04-A5CB-0440CF86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F77-1021-449B-8037-F893D36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3CA-2E5A-414F-B681-1CD00735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8D6-7375-4FD4-927B-F46CC0C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3235-0FE5-4B6F-8C4C-6105C141402A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81BA-0119-405C-A9C7-DB1940579FCD}" type="slidenum">
              <a:rPr b="0" lang="uk-U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Дорожня карт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имання суб'єктами господарювання державної підтримки, передбаченої законодавством України, для реалізації інвестиційних проектів у пріоритетних галузях економі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2720" y="59659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cc"/>
                </a:solidFill>
                <a:latin typeface="Arial"/>
              </a:rPr>
              <a:t>201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cc"/>
                </a:solidFill>
                <a:latin typeface="Arial"/>
              </a:rPr>
              <a:t>Міністерство економічного розвитку і торгівлі Украї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дані суб’єктами господарювання заяви разом з документами перевіряються Радою міністрів Автономної Республіки Крим, обласними, Київською та Севастопольською міськими держадміністраціями </a:t>
            </a:r>
            <a:r>
              <a:rPr b="0" i="1" lang="en-US" sz="2000" spc="-1" strike="noStrike">
                <a:solidFill>
                  <a:srgbClr val="0713f9"/>
                </a:solidFill>
                <a:latin typeface="Arial"/>
              </a:rPr>
              <a:t>протягом п’яти робочих дні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з дати їх надходження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а у разі їх невідповідності повертаються суб’єкту господар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’єкт господарювання після доопрацювання повернутих документів може повторно подати Раді міністрів Автономної Республіки Крим, обласній, Київській та Севастопольській міській держадміністрації заяву разом з відповідними документами, зазначивши результати попереднього розгляду і вжиті за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6c05"/>
                </a:solidFill>
                <a:latin typeface="Arial"/>
              </a:rPr>
              <a:t>Етап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ідбір здійснюється Радою міністрів Автономної Республіки Крим, обласними, Київською та Севастопольською міськими держадміністраціями з урахуванням Вимог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інвестиційних проектів на регулярній основі, але 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не рідше одного разу в тижд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713f9"/>
                </a:solidFill>
                <a:latin typeface="Arial"/>
              </a:rPr>
              <a:t>(у разі наявності відповідних пропозицій суб’єктів господарюва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56c05"/>
                </a:solidFill>
                <a:latin typeface="Arial"/>
              </a:rPr>
              <a:t>Етап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ода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дою міністрів Автономної Республіки Крим, обласними, Київською та Севастопольською міськими державними адміністраціям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ідібраних інвестиційних проектів до Мінекономрозвитк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зом із заявами суб'єктів господарювання та документами, які до них дода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(не пізніше, ніж на третій календарний день після проведення відб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п’ятнадцяти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дня надходження від Ради міністрів Автономної Республіки Крим, обласної, Київської та Севастопольської міських держадміністрацій відібраних інвестиційних проектів та документів розглядає їх та подає в установленому порядку Кабінетові Міністрів України пропозиції щодо схвалення інвестиційних проект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(проект рішення, погоджений із заінтересованими органами виконавчої вл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56c05"/>
                </a:solidFill>
                <a:latin typeface="Arial"/>
              </a:rPr>
              <a:t>Етап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ісля схвале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Кабінетом Міністрів України інвестиційних проектів у пріоритетних галузях економік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протягом п’яти робочих дн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дійснює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їх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ержавну реєстрацію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шляхом внесення відомостей про ці проекти до Державного реєстру інвестиційних проектів у пріоритетних галузях економіки, який розміщується на офіційному веб-сайті Мінеконом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сля державної реєстрації інвестиційних проектів Мінекономрозвитку повідомляє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дво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аду міністрів Автономної Республіки Крим, обласні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у та Севастопольську міські держадміністрації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 схвалення Кабінетом Міністрів України зазначених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ектів та їх державну реєстрацію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Після схвалення Кабінетом Міністрів України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 інвестиційного </a:t>
            </a:r>
            <a:br>
              <a:rPr sz="1800"/>
            </a:b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проекту суб’єкт господарювання 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набуває право на застосування передбачених Податковим і Митним кодексами України особливостей оподаткування, пов’язаних з реалізацією інвестиційних проектів у пріоритетних галузях економік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даткуванн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ибутк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отриманого від реалізації інвестиційних проект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 01.01.2018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18 до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(звичайна ставка податку на прибуток з 1 січня 2013 року - 19%, з 1 січня 2014 року - 1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ання до 31.12.2022 включно митному орган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аткового вексел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на суму податкового зобов'язання з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Д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троком на 60 днів для ввезення в Україну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, що звільняються від оподаткування ввізним ми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ільнення до 01.01.2018 від оподаткуванн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ізним мит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 за умови, що зазначені това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) не є підакциз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б) виготовлені не більше трьох років до моменту державної реєстрації інвестиційного проекту та не були у використа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) не виробляються в Україні та не мають аналогів 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У разі виявлення суб’єктом господарювання бажання отримати державну підтримку для реалізації інвестиційного проекту у пріоритетній галузі економіки </a:t>
            </a:r>
            <a:r>
              <a:rPr b="1" i="1" lang="en-US" sz="2400" spc="-1" strike="noStrike" u="sng">
                <a:solidFill>
                  <a:srgbClr val="0713f9"/>
                </a:solidFill>
                <a:uFillTx/>
                <a:latin typeface="Arial"/>
              </a:rPr>
              <a:t>за рахунок коштів державного чи місцевого бюджетів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, відповідний проект повинен бути включений також до </a:t>
            </a:r>
            <a:r>
              <a:rPr b="1" i="1" lang="en-US" sz="2400" spc="-1" strike="noStrike">
                <a:solidFill>
                  <a:srgbClr val="0713f9"/>
                </a:solidFill>
                <a:latin typeface="Arial"/>
              </a:rPr>
              <a:t>Державного реєстру інвестиційних проектів та проектних (інвестиційних) пропозицій</a:t>
            </a: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 у порядку, встановленому статтею 12-2 Закону України </a:t>
            </a:r>
            <a:br>
              <a:rPr sz="2400"/>
            </a:b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"Про інвестиційну діяльніс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рмативно-правова основа стимулювання інвестиційної діяльності у пріоритетних галузях економіки з метою створення нових робочих місц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Податковий кодекс України </a:t>
            </a:r>
            <a:br>
              <a:rPr sz="2800"/>
            </a:br>
            <a:r>
              <a:rPr b="0" i="1" lang="uk-UA" sz="2800" spc="-1" strike="noStrike">
                <a:solidFill>
                  <a:srgbClr val="0713f9"/>
                </a:solidFill>
                <a:latin typeface="Arial"/>
              </a:rPr>
              <a:t>(підрозділ 3, пункт 29 підрозділу 4 розділу 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Митний кодекс України </a:t>
            </a:r>
            <a:br>
              <a:rPr sz="2800"/>
            </a:br>
            <a:r>
              <a:rPr b="0" i="1" lang="uk-UA" sz="2800" spc="-1" strike="noStrike">
                <a:solidFill>
                  <a:srgbClr val="0713f9"/>
                </a:solidFill>
                <a:latin typeface="Arial"/>
              </a:rPr>
              <a:t>(підпункт 10 пункту 4 розділу ХХ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713f9"/>
                </a:solidFill>
                <a:latin typeface="Arial"/>
              </a:rPr>
              <a:t>Закон України</a:t>
            </a:r>
            <a:r>
              <a:rPr b="0" lang="uk-UA" sz="2800" spc="-1" strike="noStrike">
                <a:solidFill>
                  <a:srgbClr val="0713f9"/>
                </a:solidFill>
                <a:latin typeface="Arial"/>
              </a:rPr>
              <a:t> “Про стимулювання інвестиційної діяльності у пріоритетних </a:t>
            </a:r>
            <a:br>
              <a:rPr sz="2800"/>
            </a:br>
            <a:r>
              <a:rPr b="0" lang="uk-UA" sz="2800" spc="-1" strike="noStrike">
                <a:solidFill>
                  <a:srgbClr val="0713f9"/>
                </a:solidFill>
                <a:latin typeface="Arial"/>
              </a:rPr>
              <a:t>галузях економіки з метою створення </a:t>
            </a:r>
            <a:br>
              <a:rPr sz="2800"/>
            </a:br>
            <a:r>
              <a:rPr b="0" lang="uk-UA" sz="2800" spc="-1" strike="noStrike">
                <a:solidFill>
                  <a:srgbClr val="0713f9"/>
                </a:solidFill>
                <a:latin typeface="Arial"/>
              </a:rPr>
              <a:t>нових робочих місц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Постанова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715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br>
              <a:rPr sz="1800"/>
            </a:b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“Про затвердження Порядку відбору, схвалення і реєстрації інвестиційних проектів у пріоритетних галузях економіки </a:t>
            </a:r>
            <a:br>
              <a:rPr sz="1800"/>
            </a:b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та вимог до таких проекті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Розпорядження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843-р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“Про затвердження переліку пріоритетних галузей економі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ритерії відбору інвестиційних проектів у пріоритетних галузях економі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Для отримання державної підтримки інвестиційний проект </a:t>
            </a:r>
            <a:r>
              <a:rPr b="1" lang="uk-UA" sz="2200" spc="-1" strike="noStrike">
                <a:solidFill>
                  <a:srgbClr val="0713f9"/>
                </a:solidFill>
                <a:latin typeface="Arial"/>
              </a:rPr>
              <a:t>має відповідати таким критеріям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альна кошторисна варт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роекту має перевищувати суму, еквівалент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3 мільйон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 мільйону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0 тисяч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ількість створених нових робочих міс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ля працівників, які безпосередньо задіяні у виробничих процесах, має перевищув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25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ередня заробітна плата працівник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має бути не менш як </a:t>
            </a:r>
            <a:br>
              <a:rPr sz="1600"/>
            </a:b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у 2,5 раза вища за розмір мінімальної заробітної пл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МОГИ до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713f9"/>
                </a:solidFill>
                <a:latin typeface="Arial"/>
              </a:rPr>
              <a:t>Інвестиційні проекти у пріоритетних галузях економіки повинні відповідати таким вимог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тьс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- у пріоритетній галузі економіки, визначеній Кабінетом Міністрів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- на новоствореному або діючому підприємстві, на якому буде проведено реконструкцію або модернізац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858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виділення окремого структурного підрозділу, на якому планується реалізація інвестиційного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- досягнення протягом двох років з дня державної реєстрації інвестиційного проекту у пріоритетній галузі економіки показників, установлених частиною другою статті 4 Закону України </a:t>
            </a:r>
            <a:br>
              <a:rPr sz="1800"/>
            </a:b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“Про стимулювання інвестиційної діяльності у пріоритетних галузях економіки з метою створення нових робочих місць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ЛІК пріоритетних галузей економі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713f9"/>
                </a:solidFill>
                <a:latin typeface="Arial"/>
              </a:rPr>
              <a:t>(затверджено розпорядженням Кабінету Міністрів України від 14.08.2013 № 843-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гропромисловий компле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, зберігання харчових продуктів, в тому числі дитячого харчування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а також виробництво біопалива, з орієнтацією на імпортозаміщ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тлово-комуналь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створення об’єктів поводження з відходами (побутовими, промисловими та відходами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які утворилися в результаті добування та перероблення корисних копалин і виробництва електричної та теплової енергії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еплопостачання, централізованого водопостачання та водовідвед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ашинобудів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 нових та імпортозаміщуючих видів комп’ютерів, електронної та оптичної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продукції, машин і устатковання, електричного устатковання, автотранспортних та інших транспортних засоб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ранспортна інфраструкт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ранспорт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урортно-рекреаційна сфера і туриз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 курортно-рекреаційних об’єктів та об’єктів туристич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реробна промислов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імпортозаміщуюче металургійне виробниц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6c0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56c05"/>
                </a:solidFill>
                <a:latin typeface="Arial"/>
              </a:rPr>
              <a:t>Етап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Суб’єкти господарюванн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що мають намір взяти участь у відборі інвестиційних проектів у пріоритетних галузях економік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дают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Раді міністрів Автономної Республіки Крим, обласним, Київській та Севастопольській міським державним адміністраціям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заяву разом із відповідними докумен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Якщо для реалізації проекту передбачається ввезення обладнання та устаткування, а також комплектуючих до нього, суб'єкт господарювання готує відповідний перелік товарів, який також має міститися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 бізнес-плані проекту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з урахуванням вимог підпункту 10 пункту 4 розділу ХХІ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итного кодексу Украї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713f9"/>
                </a:solidFill>
                <a:latin typeface="Arial"/>
              </a:rPr>
              <a:t>Форма заяви про участь у відборі та інструкція щодо </a:t>
            </a:r>
            <a:br>
              <a:rPr sz="2000"/>
            </a:br>
            <a:r>
              <a:rPr b="1" i="1" lang="en-US" sz="20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713f9"/>
                </a:solidFill>
                <a:latin typeface="Arial"/>
              </a:rPr>
              <a:t>її заповнення затверджується Мінеконом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13f9"/>
                </a:solidFill>
                <a:latin typeface="Arial"/>
              </a:rPr>
              <a:t>Перелік документів, які подаються для відб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исновки незалежних експертних організацій (за наявност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опія інвестиційного проекту, що прошита, пронумерована, засвідчена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ідписом уповноваженої особи суб’єкта господарювання, а також скріплена печаткою (для юридичної особи)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ект готується відповідно до форми, затвердженої наказом Мінекономрозвитку від 19.06.2012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№ 7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податків і зборів (обов’язкових платежі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кумент про відсутність стосовно суб’єкта господарювання порушеної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прави про банкру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єдиного внеску на загальнообов’язкове,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ержавне соціальне страх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иписка з Єдиного державного реєстру юридичних осіб та фізичних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іб - підприєм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Для участі у відборі не допускаються інвестиційні проекти, як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’єкти господарювання, які їх реалізують, визнані банкрутами, перебувають у стадії припинення, мають прострочену заборгованість із сплати податків і зборів (обов’язкових платежів), єдиного внеску на загальнообов’язкове, державне соціальне страхування, а також із заробітної плати або щодо яких порушено справу про банкру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акі проекти не відповідають затвердженим Кабінетом Міністрів України вимогам до інвестиційних проектів у пріоритетних галузях економ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56c05"/>
                </a:solidFill>
                <a:latin typeface="Arial"/>
              </a:rPr>
              <a:t>Ета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евір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адою міністрів Автономної Республіки Крим, обласними, Київською та Севастопольською міськими державними адміністрація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аних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інвестиційних проектів та їх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відбі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для подання на розгляд Кабінету Міністрів України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або відхилення та поверне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з обґрунтуванням при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713f9"/>
                </a:solidFill>
                <a:latin typeface="Arial"/>
              </a:rPr>
              <a:t>Для участі у відборі допускаються інвестиційні проекти суб'єктів господарювання, які відповідають Вимогам до інвестиційних проектів у пріоритетних галузях економ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3-12-23T07:50:2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