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1B4-B409-4A8D-8648-8A625327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8A1-8A08-4ABA-8DB7-D18E2472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D33-8890-4E1D-95E0-0177AAA6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027-F251-48D1-93B2-2DC4CC48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511-BEDA-47D3-90DA-41D82E4A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E85-A36E-48B5-8FAE-C14861B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ED5-0444-40D8-9C04-8935C5D0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BCF0-3AEB-4AB1-BC2E-6CE57A3F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3A5-EE02-4864-A8D1-399D2F95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ACE-FF2D-476A-B181-C1968A5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8AA-49E0-4866-B65F-96A055F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CFB-89B5-4901-9CDE-EF1B91B6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93D3-F5ED-4FEA-9F2F-F25699EB0F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плив тютюнокуріння на репродуктивну функці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064040" cy="2692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336400">
            <a:off x="3780000" y="4076280"/>
            <a:ext cx="4825800" cy="1865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059280" y="4797360"/>
            <a:ext cx="5760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211280" y="2781360"/>
            <a:ext cx="4321080" cy="4076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218440" cy="452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агатьма дослідженнями  доведено порушення процесу повноцінної овуляції, запліднення та імплантації зиготи у стінку матки у жінок-курців.                                       Це пояснюється негативним впливом хімічних сполук тютюну на стан рідини цервікального каналу, яка набуває токсичних властивостей щодо сперматозоїд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348000" y="1916280"/>
            <a:ext cx="48355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організмі жінки, у самій яйцеклітині зберігаються усі шкідливі речовини, що містить цигарка, і при цьому втрачається її здатність до заплідне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00120" cy="3097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1105200" cy="151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Позаматкова вагітніст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96000" cy="424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 впливом дії нікотину пригнічується рухова функція війчастого епітелію фаллопієвих труб, що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утруднює просування яйцеклітин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о трубі, одночасно підвищується м’язовий тонус та амплітуда скорочення маткових тру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астота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позаматкової вагітності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 1970 р. зросла у 3-4 рази відповідно із ростом кількості жінок-курц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4186080" cy="11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Імпотенці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3141360"/>
            <a:ext cx="8218440" cy="338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ютюнокуріння також погіршує чоловічу фертильність через здатність нікотину блокувати утворення андрогенів та змінювати якість сперми. Патологія сперми збільшує спектр генетичних порушень. </a:t>
            </a: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У дітей, батько яких курить, внутрішні і зовнішні вади зустрічаються у 5 разів частіше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Тривале паління на 50% збільшує ризик розвитку </a:t>
            </a: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імпотен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889440" cy="2571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68360" cy="136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ffff"/>
                </a:solidFill>
                <a:latin typeface="Arial"/>
              </a:rPr>
              <a:t>Хронічні запальні захворюванн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2681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орушення клітинного та гуморального імунітету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у жінок-курців  зумовлює на 33% частіший розвиток запальних процесів у тазових орган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3970440" cy="200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ffff"/>
                </a:solidFill>
                <a:latin typeface="Arial"/>
              </a:rPr>
              <a:t>РАК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6767640" cy="35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скільки деякі наявні у цигарках хімічні речовини були виявлені у цервікальній тканині, вчені дійшли висновку, що паління послаблює захисну здатність цервікальних клітин щодо інфекційних агентів  та створює умови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для розвитку ракових кліт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пинення паління або навіть зниження його інтенсивності на 75% збільшує шанси на ремісію та виживання при лікуванні ра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672000" cy="2509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7786800" cy="10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Серцево-судинні захворювання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81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осіб жіночої статі, які палять і одночасно приймають пероральні контрацептиви, значно зростає ризик побічних ефект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ак, ризик розвитку інфаркту міокарда, крововиливу у мозок при дії одного із цих факторів збільшується у 3-4 рази, а при поєднанні – у 10 разів. Особливо небезпечним вважають категорію жінок віком 30-45 рок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м. Чернівці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итома вага екстрагенітальної патології у вагітних, що спостерігались в жіночих консультаціях міста в 2009 році становить 67,9%. Звертає на себе увагу, що кожна третя вагітна, що вступає у вагітність має хвороби системи кровообігу – 31,8% (в 2008 р. – це була кожна 4), кожна 4 вагітна має  анемію – 22,5% , кожна п’ята хворобу сечостатевої системи – 20,1%, кожна шоста захворювання щитоподібної залози – 1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264360" cy="5040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655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Бережіть своє майбутнє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368928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1655640" cy="165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51640" y="4437000"/>
            <a:ext cx="2047680" cy="2208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08720" y="1557360"/>
            <a:ext cx="1609560" cy="1905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732720" y="3068640"/>
            <a:ext cx="2232000" cy="1274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3024360" cy="3024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95280" y="549360"/>
            <a:ext cx="5977080" cy="2043720"/>
          </a:xfrm>
          <a:prstGeom prst="rect">
            <a:avLst/>
          </a:prstGeom>
          <a:solidFill>
            <a:srgbClr val="0066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 виконання Державної   програми "Репродуктивне здоров'я  нації на 2006-2015 роки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1873080" cy="1873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Природний рух населення України</a:t>
            </a:r>
            <a:br>
              <a:rPr sz="3200"/>
            </a:b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 (на 1000 населення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1557360"/>
          <a:ext cx="756612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566120" cy="451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країні з 7,2 млн. подружніх пар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4,5 млн. мають одну дитину;                                 2,2 млн. – по двоє дітей                                 менше 0,5 млн. сімей мають троє і більше ді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исло жінок репродуктивного віку складає менше 1/2 від загальної кількості жіночого населе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2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Демографічна криза в Україні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27280" y="1197000"/>
            <a:ext cx="4413240" cy="46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астота безпліддя в Україні 10-12%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за деякими авторами до 2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астота жіночого безпліддя складає 88%, чоловічого – 12%.                           У світі відповідно 60 и 4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568680" cy="2541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148360" y="981000"/>
            <a:ext cx="3744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Україні сьогодні, за даними НДІ кардіології ім. М.Д. Стражеска АМН України, курять 47,8% чоловіків і 17,8% жінок працездатного ві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497120" cy="6337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Поширеність тютюнокурінн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Найвищий рівень поширеності паління (24%) відмічають у жінок віком 30-39 років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Одночасно спостерігається зростання його інтенсивності. Так, кількість цигарок, які викурюють жінки віком 20-29 років за добу, збільшилась у 2,2 разу, 30-39 років – у 1,6 раз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Частка осіб, які викурюють щоденно від 10 до 19 цигарок, зросла з 18,2 до 31,3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ffff"/>
                </a:solidFill>
                <a:latin typeface="Arial"/>
              </a:rPr>
              <a:t>Вплив тютюнокуріння на репродуктивне здоров'я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езплід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заматкова вагітні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мпотенц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ронічні запальні                 захворюв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упутні захворю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81916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1295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48960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Безплідд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628640"/>
            <a:ext cx="7272360" cy="2531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що жінка викурює близько 10 цигарок за доб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она може страждати на безпліддя у 2 рази частіш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ж та, що не пал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80000" y="4365720"/>
            <a:ext cx="2808360" cy="2076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16:44Z</dcterms:created>
  <dc:creator>Власик</dc:creator>
  <dc:description/>
  <dc:language>en-US</dc:language>
  <cp:lastModifiedBy>PublicRel</cp:lastModifiedBy>
  <dcterms:modified xsi:type="dcterms:W3CDTF">2010-12-13T15:51:55Z</dcterms:modified>
  <cp:revision>13</cp:revision>
  <dc:subject/>
  <dc:title>Вплив тютюнокуріння на репродуктивну функцію</dc:title>
</cp:coreProperties>
</file>