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894A-E87C-4D41-9B82-32488FCB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DBAE-1D61-4BED-9C9B-8549F759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5AB4-E73C-4C92-BDD4-57F9F455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2F10-3555-45AC-AA2A-7666C8A7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0C64-1FEB-4170-90FC-6BFE99EA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A4F9-C54C-4EF0-8B97-37446F9C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C4CA-2C5A-4863-89D9-0B99D1E3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1933-5DA3-438C-874B-F4A6BE73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5142-5356-4E2F-B8D5-736A0637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200E-1ADD-4ABD-A94A-A883BD53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D51-D462-434D-97F4-C7AFF0D4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0C9C-804C-402D-AC56-1BF743D6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5432-8AF9-49FE-809B-A2484643582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Вплив тютюнокуріння на репродуктивну функцію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4064040" cy="26924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20336400">
            <a:off x="3780000" y="4076280"/>
            <a:ext cx="4825800" cy="18655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3059280" y="4797360"/>
            <a:ext cx="576072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211280" y="2781360"/>
            <a:ext cx="4321080" cy="4076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218440" cy="4526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Багатьма дослідженнями  доведено порушення процесу повноцінної овуляції, запліднення та імплантації зиготи у стінку матки у жінок-курців.                                       Це пояснюється негативним впливом хімічних сполук тютюну на стан рідини цервікального каналу, яка набуває токсичних властивостей щодо сперматозоїді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348000" y="1916280"/>
            <a:ext cx="483552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 організмі жінки, у самій яйцеклітині зберігаються усі шкідливі речовини, що містить цигарка, і при цьому втрачається її здатність до заплідненн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2400120" cy="3097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411280" y="260280"/>
            <a:ext cx="1105200" cy="1511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ffff"/>
                </a:solidFill>
                <a:latin typeface="Arial"/>
              </a:rPr>
              <a:t>Позаматкова вагітність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496000" cy="4248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ід впливом дії нікотину пригнічується рухова функція війчастого епітелію фаллопієвих труб, що </a:t>
            </a:r>
            <a:r>
              <a:rPr b="0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утруднює просування яйцеклітини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по трубі, одночасно підвищується м’язовий тонус та амплітуда скорочення маткових труб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Частота </a:t>
            </a:r>
            <a:r>
              <a:rPr b="0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позаматкової вагітності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з 1970 р. зросла у 3-4 рази відповідно із ростом кількості жінок-курці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4186080" cy="115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ffff"/>
                </a:solidFill>
                <a:latin typeface="Arial"/>
              </a:rPr>
              <a:t>Імпотенція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3640" y="3141360"/>
            <a:ext cx="8218440" cy="3382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ютюнокуріння також погіршує чоловічу фертильність через здатність нікотину блокувати утворення андрогенів та змінювати якість сперми. Патологія сперми збільшує спектр генетичних порушень. </a:t>
            </a:r>
            <a:r>
              <a:rPr b="0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У дітей, батько яких курить, внутрішні і зовнішні вади зустрічаються у 5 разів частіше.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Тривале паління на 50% збільшує ризик розвитку </a:t>
            </a:r>
            <a:r>
              <a:rPr b="0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імпотенції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932360" y="404640"/>
            <a:ext cx="3889440" cy="25718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596360" y="189000"/>
            <a:ext cx="1368360" cy="1368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ffff"/>
                </a:solidFill>
                <a:latin typeface="Arial"/>
              </a:rPr>
              <a:t>Хронічні запальні захворювання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2681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орушення клітинного та гуморального імунітету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у жінок-курців  зумовлює на 33% частіший розвиток запальних процесів у тазових орган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3970440" cy="2001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ccffff"/>
                </a:solidFill>
                <a:latin typeface="Arial"/>
              </a:rPr>
              <a:t>РАК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6767640" cy="352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Оскільки деякі наявні у цигарках хімічні речовини були виявлені у цервікальній тканині, вчені дійшли висновку, що паління послаблює захисну здатність цервікальних клітин щодо інфекційних агентів  та створює умови </a:t>
            </a:r>
            <a:r>
              <a:rPr b="0" lang="uk-UA" sz="2400" spc="-1" strike="noStrike" u="sng">
                <a:solidFill>
                  <a:srgbClr val="ffffff"/>
                </a:solidFill>
                <a:uFillTx/>
                <a:latin typeface="Arial"/>
              </a:rPr>
              <a:t>для розвитку ракових кліти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рипинення паління або навіть зниження його інтенсивності на 75% збільшує шанси на ремісію та виживання при лікуванні ра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219640" y="333360"/>
            <a:ext cx="3672000" cy="2509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7786800" cy="1008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ffff"/>
                </a:solidFill>
                <a:latin typeface="Arial"/>
              </a:rPr>
              <a:t>Серцево-судинні захворювання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381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 осіб жіночої статі, які палять і одночасно приймають пероральні контрацептиви, значно зростає ризик побічних ефекті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ак, ризик розвитку інфаркту міокарда, крововиливу у мозок при дії одного із цих факторів збільшується у 3-4 рази, а при поєднанні – у 10 разів. Особливо небезпечним вважають категорію жінок віком 30-45 рокі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ffff"/>
                </a:solidFill>
                <a:latin typeface="Arial"/>
              </a:rPr>
              <a:t>м. Чернівці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итома вага екстрагенітальної патології у вагітних, що спостерігались в жіночих консультаціях міста в 2009 році становить 67,9%. Звертає на себе увагу, що кожна третя вагітна, що вступає у вагітність має хвороби системи кровообігу – 31,8% (в 2008 р. – це була кожна 4), кожна 4 вагітна має  анемію – 22,5% , кожна п’ята хворобу сечостатевої системи – 20,1%, кожна шоста захворювання щитоподібної залози – 15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6264360" cy="5040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65572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ffff"/>
                </a:solidFill>
                <a:latin typeface="Arial"/>
              </a:rPr>
              <a:t>Бережіть своє майбутнє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40000" y="1773360"/>
            <a:ext cx="3689280" cy="4525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116000" y="4221000"/>
            <a:ext cx="1655640" cy="1656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651640" y="4437000"/>
            <a:ext cx="2047680" cy="2208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508720" y="1557360"/>
            <a:ext cx="1609560" cy="1905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6732720" y="3068640"/>
            <a:ext cx="2232000" cy="1274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3024360" cy="3024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95280" y="549360"/>
            <a:ext cx="5977080" cy="2043720"/>
          </a:xfrm>
          <a:prstGeom prst="rect">
            <a:avLst/>
          </a:prstGeom>
          <a:solidFill>
            <a:srgbClr val="0066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а виконання Державної   програми "Репродуктивне здоров'я  нації на 2006-2015 роки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659640" y="1341360"/>
            <a:ext cx="1873080" cy="18734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ffff"/>
                </a:solidFill>
                <a:latin typeface="Arial"/>
              </a:rPr>
              <a:t>Природний рух населення України</a:t>
            </a:r>
            <a:br>
              <a:rPr sz="3200"/>
            </a:br>
            <a:r>
              <a:rPr b="0" lang="uk-UA" sz="3200" spc="-1" strike="noStrike">
                <a:solidFill>
                  <a:srgbClr val="ccffff"/>
                </a:solidFill>
                <a:latin typeface="Arial"/>
              </a:rPr>
              <a:t> (на 1000 населення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55640" y="1557360"/>
          <a:ext cx="756612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557360"/>
                    <a:ext cx="7566120" cy="4513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 Україні з 7,2 млн. подружніх пар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4,5 млн. мають одну дитину;                                 2,2 млн. – по двоє дітей                                 менше 0,5 млн. сімей мають троє і більше діт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Число жінок репродуктивного віку складає менше 1/2 від загальної кількості жіночого населен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922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ffff"/>
                </a:solidFill>
                <a:latin typeface="Arial"/>
              </a:rPr>
              <a:t>Демографічна криза в Україні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427280" y="1197000"/>
            <a:ext cx="4413240" cy="468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Частота безпліддя в Україні 10-12%  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(за деякими авторами до 2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Частота жіночого безпліддя складає 88%, чоловічого – 12%.                           У світі відповідно 60 и 40%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3568680" cy="25416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148360" y="981000"/>
            <a:ext cx="37447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 Україні сьогодні, за даними НДІ кардіології ім. М.Д. Стражеска АМН України, курять 47,8% чоловіків і 17,8% жінок працездатного ві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497120" cy="6337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ffff"/>
                </a:solidFill>
                <a:latin typeface="Arial"/>
              </a:rPr>
              <a:t>Поширеність тютюнокуріння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Найвищий рівень поширеності паління (24%) відмічають у жінок віком 30-39 років.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Одночасно спостерігається зростання його інтенсивності. Так, кількість цигарок, які викурюють жінки віком 20-29 років за добу, збільшилась у 2,2 разу, 30-39 років – у 1,6 раз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Частка осіб, які викурюють щоденно від 10 до 19 цигарок, зросла з 18,2 до 31,3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ffff"/>
                </a:solidFill>
                <a:latin typeface="Arial"/>
              </a:rPr>
              <a:t>Вплив тютюнокуріння на репродуктивне здоров'я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Безплідд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озаматкова вагітні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Імпотенці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Хронічні запальні                 захворюванн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упутні захворюван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12000" y="2349360"/>
            <a:ext cx="2819160" cy="4292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435640" y="1773360"/>
            <a:ext cx="129528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48960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ffff"/>
                </a:solidFill>
                <a:latin typeface="Arial"/>
              </a:rPr>
              <a:t>Безпліддя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1628640"/>
            <a:ext cx="7272360" cy="2531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кщо жінка викурює близько 10 цигарок за доб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она може страждати на безпліддя у 2 рази частіш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іж та, що не пал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580000" y="4365720"/>
            <a:ext cx="2808360" cy="2076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5:16:44Z</dcterms:created>
  <dc:creator>Власик</dc:creator>
  <dc:description/>
  <dc:language>en-US</dc:language>
  <cp:lastModifiedBy>PublicRel</cp:lastModifiedBy>
  <dcterms:modified xsi:type="dcterms:W3CDTF">2010-12-13T15:51:55Z</dcterms:modified>
  <cp:revision>13</cp:revision>
  <dc:subject/>
  <dc:title>Вплив тютюнокуріння на репродуктивну функцію</dc:title>
</cp:coreProperties>
</file>