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.jpeg" ContentType="image/jpeg"/>
  <Override PartName="/ppt/media/image10.wmf" ContentType="image/x-wmf"/>
  <Override PartName="/ppt/media/image25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9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27.png" ContentType="image/png"/>
  <Override PartName="/ppt/media/image12.wmf" ContentType="image/x-wmf"/>
  <Override PartName="/ppt/media/image7.jpeg" ContentType="image/jpeg"/>
  <Override PartName="/ppt/media/image28.jpeg" ContentType="image/jpeg"/>
  <Override PartName="/ppt/media/image6.png" ContentType="image/png"/>
  <Override PartName="/ppt/media/image23.jpeg" ContentType="image/jpeg"/>
  <Override PartName="/ppt/media/image1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media/image19.wmf" ContentType="image/x-wmf"/>
  <Override PartName="/ppt/media/image20.jpeg" ContentType="image/jpeg"/>
  <Override PartName="/ppt/media/image29.png" ContentType="image/png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656-4BE8-480C-8556-B19D1BDA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295-C405-4345-94B1-87BAF25A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989-9D62-4092-9DBD-F2F475B9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838-A26C-4A88-911B-DF68942C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C895-C8BE-4A38-B933-ADD2600E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B5C7-12A6-4FA8-8379-1E160671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1A60-52DF-4FBD-9021-9DD9F9E5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14A2-A541-4DB7-AB6A-6389A7B2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FF89-6B5F-4316-A642-DEDF2F4A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F63B-35E3-4B8B-B1D2-A0611B04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0EFD-712A-4571-98AC-D3374EF5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045-4B9D-4F6C-8DB7-E607B598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517A-F1DB-4201-B885-25707463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5C35-3A00-4CED-93CD-76716EA6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32F0-AB56-4ABE-BA82-48824A3E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A300-B7F7-44BE-99AF-FCF8E7C5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6FD3-B4EB-4B06-B985-0C644BB0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033-EF7F-4085-B243-AD21C835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24E-71D8-4D5B-B5EC-E18C4654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A8E-0B35-429C-81D1-F141ABF3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4CD-6170-48D6-9567-37F089F9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AFD-06C0-4B76-96B8-9FE3F03F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38E-9CC1-4A54-8A13-3251C90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47B-BBCB-4EEF-A59A-A9960E59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CA20-8810-4D94-A173-7BBFDFCE17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7860-95C8-4E02-8660-E603C280B9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4680" y="-1440"/>
            <a:ext cx="914868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51120" y="1298520"/>
            <a:ext cx="38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ЧЕРНІВЦ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8751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iribus Un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ІЯ ПІДВИЩЕННЯ КОНКУРЕНТОСПРОМОЖНОСТІ ЧЕРНІВЦІ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РАТЕГІЧНІ ЦІЛІ: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КРИТИЧНЕ ПИТАННЯ 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треби та бажання людей, які проживають, працюють та відвідують Чернівці можуть бути найкраще задоволені туристичною політикою. Туризм є визначальним для якості життя в Чернівцях. Він має велике значення для місцевої економік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11280" y="2906640"/>
            <a:ext cx="7416360" cy="3424680"/>
            <a:chOff x="611280" y="2906640"/>
            <a:chExt cx="7416360" cy="3424680"/>
          </a:xfrm>
        </p:grpSpPr>
        <p:sp>
          <p:nvSpPr>
            <p:cNvPr id="160" name=""/>
            <p:cNvSpPr/>
            <p:nvPr/>
          </p:nvSpPr>
          <p:spPr>
            <a:xfrm>
              <a:off x="611280" y="3589200"/>
              <a:ext cx="3709080" cy="274212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Позиціонувати Чернівці як туристичне місто, яке приваблює зовнішніх відвідувачів, генерує доходи й створює відчуття власної гідності у кожного мешканця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81200" y="3651480"/>
              <a:ext cx="3646440" cy="26798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творити умови та покращити позицію Чернівців як туристичного міста через розвиток та просування нових інноваційних та привабливих туристичних продуктів та послуг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2920" y="3430800"/>
              <a:ext cx="4359600" cy="43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26680" y="3430800"/>
              <a:ext cx="0" cy="218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32920" y="3430800"/>
              <a:ext cx="0" cy="2127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2160" y="3352320"/>
              <a:ext cx="1522080" cy="23328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6600"/>
                  </a:solidFill>
                  <a:latin typeface="Arial"/>
                </a:rPr>
                <a:t>Стратегічні ціл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8000" y="2906640"/>
              <a:ext cx="4139640" cy="3765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Розвиток туриз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ІЯ ПІДВИЩЕННЯ КОНКУРЕНТОСПРОМОЖНОСТІ ЧЕРНІВЦ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РАТЕГІЧНІ ЦІЛІ: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КРИТИЧНЕ ПИТАНН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Чернівці можуть запропонувати відмінні умови для інвесторів завдяки вигідному транспортно-географічному положенню (прикордонний регіон), який забезпечує добрий доступ до національних та міжнародних ринк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95280" y="2855880"/>
            <a:ext cx="7978680" cy="3250800"/>
            <a:chOff x="395280" y="2855880"/>
            <a:chExt cx="7978680" cy="3250800"/>
          </a:xfrm>
        </p:grpSpPr>
        <p:sp>
          <p:nvSpPr>
            <p:cNvPr id="171" name=""/>
            <p:cNvSpPr/>
            <p:nvPr/>
          </p:nvSpPr>
          <p:spPr>
            <a:xfrm>
              <a:off x="395280" y="3805200"/>
              <a:ext cx="2955240" cy="229896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творити та позиціонувати позитивний імідж міста для інвестування та розвитку бізнесу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4240" y="3871440"/>
              <a:ext cx="2807280" cy="22330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творити фізичні умови для інвестування, особливо для ПІ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01240" y="3871440"/>
              <a:ext cx="2772720" cy="2235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творити систему інвестиційного супровод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45800" y="3675240"/>
              <a:ext cx="5307120" cy="24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52480" y="3740040"/>
              <a:ext cx="0" cy="230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99840" y="3675240"/>
              <a:ext cx="0" cy="195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5800" y="3675240"/>
              <a:ext cx="0" cy="233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52920" y="3575520"/>
              <a:ext cx="1577880" cy="24804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6600"/>
                  </a:solidFill>
                  <a:latin typeface="Arial"/>
                </a:rPr>
                <a:t>Стратегічні ціл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97760" y="2855880"/>
              <a:ext cx="4594680" cy="6930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творення умов для залучення інвестиці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ІЯ ПІДВИЩЕННЯ КОНКУРЕНТОСПРОМОЖНОСТІ ЧЕРНІВЦ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СТРАТЕГІЧНІ ЦІЛІ:</a:t>
            </a: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 КРИТИЧНЕ ПИТАННЯ 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 економіці Чернівців визначальними є малі та середні підприємства. Успішність таких підприємств великою мірою залежить від доступності зовнішніх фінансових ресурсів, але щоб постійно розвиватися, їм потрібно більше – доступ до інформації, сприяння місцевої влади, інвестиції в нові технології, співпраця з іншими підприємствами і доступ до нових ринків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0920" y="2880360"/>
            <a:ext cx="8642160" cy="3444480"/>
            <a:chOff x="250920" y="2880360"/>
            <a:chExt cx="8642160" cy="3444480"/>
          </a:xfrm>
        </p:grpSpPr>
        <p:sp>
          <p:nvSpPr>
            <p:cNvPr id="184" name=""/>
            <p:cNvSpPr/>
            <p:nvPr/>
          </p:nvSpPr>
          <p:spPr>
            <a:xfrm>
              <a:off x="250920" y="3913560"/>
              <a:ext cx="3142800" cy="241092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Створити сприятливе ділове середовище та імідж міста сприятливого для ведення бізнес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79440" y="3850920"/>
              <a:ext cx="3142440" cy="2473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Інтегрувати «економіку знань» в підприємницьке середовище міс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07600" y="3850920"/>
              <a:ext cx="2985480" cy="2473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Покращити технічну інфраструктуру для забезпечення економічного зростання та якості житт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72640" y="3630960"/>
              <a:ext cx="5208840" cy="9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46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20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72640" y="36309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81120" y="3467160"/>
              <a:ext cx="1536120" cy="27576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6600"/>
                  </a:solidFill>
                  <a:latin typeface="Times New Roman"/>
                </a:rPr>
                <a:t>Стратегічні ціл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1560" y="2880360"/>
              <a:ext cx="4717080" cy="515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Розвиток інфраструктури для бізнес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19280" y="3040200"/>
            <a:ext cx="2809800" cy="19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1042920" y="184464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40240" y="3654360"/>
            <a:ext cx="3084480" cy="19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940360" y="1712880"/>
            <a:ext cx="2952720" cy="19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ЧЕРНІВЦІ ТУРИСТИ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5631120"/>
            <a:ext cx="5329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Державний реєстр пам’яток архітектури нараховує </a:t>
            </a: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689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пам’яток та об’єктів культурної спадщини, </a:t>
            </a: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з яких загальнонаціонального значенн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573200"/>
            <a:ext cx="5400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Туристичний потенціал міста зумовлений насамперед наявністю великої кількості пам’яток різних епох і етнічних культур, багатою палітрою місцевих звичаїв та обрядів, традиційних народних промислових і ремесе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316160"/>
            <a:ext cx="8064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Чернівці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– одне з небагатьох міст України з міською забудовою такої якості і коштовност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ІНАНСОВО-КРЕДИТНА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95680" y="154872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 місті функціонує розвинена фінансово – кредитна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9040" y="2125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2710800"/>
            <a:ext cx="41036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аном на 1 січня 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року в Чернівцях розташовані філії, відділення та представництва 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банків, які надають широкий спектр фінансово-кредитних послуг, як для населення, так і для організацій та інших господарюючих суб’єктів мі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516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Широкою мережею представлені кредитні спілки та страхові комп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960720" cy="326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ПОКАЗНИКИ ЕКОНОМІЧНОГО ТА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ОЦІАЛЬНОГО РОЗВИТ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280" y="5013360"/>
          <a:ext cx="8229600" cy="12524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792360"/>
                <a:gridCol w="647640"/>
                <a:gridCol w="792000"/>
                <a:gridCol w="720720"/>
                <a:gridCol w="792360"/>
                <a:gridCol w="925560"/>
                <a:gridCol w="637920"/>
                <a:gridCol w="760680"/>
              </a:tblGrid>
              <a:tr h="550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єстровані безробітні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аном на 1 січня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сі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а підприємств у працівниках, осі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антаження на 1 вільне робоче місце, осі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Чернівц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987640" y="1725840"/>
            <a:ext cx="5761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 рейтингу комфортності українських міст, який за результатами експертного дослідження склав журнал «Фокус»,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. Чернівц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у 2009 році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осіло 1 місц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еред міст з населенням від 250 тис. до 500 тис. мешканців.  До уваги бралися туристична та інвестиційна привабливість, розвиток інфраструктури міста, екологічна безпека та інші критер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істо характеризується наявністю висококваліфіко-ваних трудових ресурс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3800" y="4436280"/>
            <a:ext cx="81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опит та пропозиція робочої сили на ринку праці м. Чернівців  2007-2009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376360" cy="16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БЮДЖЕТ МІ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 доходів бюджету м. Чернівців за 2009 рік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490,7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 видатків бюджету м. Чернівців за 2009 рік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485,2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инаміка обсягів надходжень та видатків бюджету м. Чернівц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 2007-2009 роки (з трансфертами), млн. гр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8360" y="2997360"/>
          <a:ext cx="8291520" cy="347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997360"/>
                    <a:ext cx="829152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ЕРЕДНЯ ЗАРОБІТНА ПЛАТ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ня заробітна плата за 2009 р.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643 грн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ня заробітна плата за видами економічної діяльності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. Чернівців за 2005­2009 рр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66560" y="2747880"/>
          <a:ext cx="842652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747880"/>
                    <a:ext cx="84265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ВІДКОВІ ДАНІ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ЛЯ РОЗРАХУНКІВ ТА ОБҐРУНТУВ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63640" y="2091960"/>
            <a:ext cx="511164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тавка земельного податк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1 % від грошової оцінки зем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рендна плата за землю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не може бути меншою від земельного податку та не може перевищувати    12 % грошової оцінки землі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2560" y="39078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ЦІНИ НА ЕЛЕКТРОЕНЕРГ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611360"/>
            <a:ext cx="2808360" cy="210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3497040" y="4354200"/>
            <a:ext cx="49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Станом на 01.01.2010 р. (за курсом НБУ 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$=7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8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71640" y="4703760"/>
          <a:ext cx="7416720" cy="1250640"/>
        </p:xfrm>
        <a:graphic>
          <a:graphicData uri="http://schemas.openxmlformats.org/drawingml/2006/table">
            <a:tbl>
              <a:tblPr/>
              <a:tblGrid>
                <a:gridCol w="5329080"/>
                <a:gridCol w="2087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н./кВ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 за фіксованим тарифом (населенн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 1,2 категорії, з ПД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732-0,6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560760" y="162864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АВКА ЗЕМЕЛЬНОГО ПОДА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ОДОПОСТАЧАННЯ ТА ВОДОВІДВЕД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95280" y="1557360"/>
          <a:ext cx="8218440" cy="1828800"/>
        </p:xfrm>
        <a:graphic>
          <a:graphicData uri="http://schemas.openxmlformats.org/drawingml/2006/table">
            <a:tbl>
              <a:tblPr/>
              <a:tblGrid>
                <a:gridCol w="4297320"/>
                <a:gridCol w="1947960"/>
                <a:gridCol w="1973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постачання  (грн./куб.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відведення (грн./куб.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 за фіксованим тарифом (населенн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95280" y="4292640"/>
          <a:ext cx="8209080" cy="2344680"/>
        </p:xfrm>
        <a:graphic>
          <a:graphicData uri="http://schemas.openxmlformats.org/drawingml/2006/table">
            <a:tbl>
              <a:tblPr/>
              <a:tblGrid>
                <a:gridCol w="5359320"/>
                <a:gridCol w="2849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 (грн./ 1000 куб. 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 за фіксованим тарифом (населення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5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500-6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000-12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ільше 12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, організації та устан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6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3754440" y="3572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ЦІНИ НА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9960" y="1196640"/>
            <a:ext cx="49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Станом на 01.01.2010 р. (за курсом НБУ 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$=7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8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9960" y="3958920"/>
            <a:ext cx="49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Станом на 01.01.2010 р. (за курсом НБУ 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$=7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8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ЛІ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лімат сприятливий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помірно-континентальний, вологий, лагідний влітку та м’який взим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ня температура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ічень -5° С, квітень +9° С, липень +19° С, жовтень +9 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езморозний період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260-265 днів, вегетаційний - 215-220 дн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ньорічна кількість опадів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650-750 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3067200"/>
            <a:ext cx="5328000" cy="3386160"/>
          </a:xfrm>
          <a:prstGeom prst="rect">
            <a:avLst/>
          </a:prstGeom>
          <a:ln w="54000">
            <a:solidFill>
              <a:srgbClr val="c5d9ed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ОЦІАЛЬНІ ПИТАННЯ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БУДІВНИЦТВО ЖИТ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59080" y="2111400"/>
            <a:ext cx="0" cy="0"/>
          </a:xfrm>
          <a:prstGeom prst="line">
            <a:avLst/>
          </a:prstGeom>
          <a:ln cap="rnd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8360" y="3835440"/>
          <a:ext cx="8351640" cy="2617920"/>
        </p:xfrm>
        <a:graphic>
          <a:graphicData uri="http://schemas.openxmlformats.org/drawingml/2006/table">
            <a:tbl>
              <a:tblPr/>
              <a:tblGrid>
                <a:gridCol w="452520"/>
                <a:gridCol w="3363840"/>
                <a:gridCol w="1627200"/>
                <a:gridCol w="755640"/>
                <a:gridCol w="755640"/>
                <a:gridCol w="755640"/>
                <a:gridCol w="641160"/>
              </a:tblGrid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менування показник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йнято в експлуатацію багато-квартирних житлових будинків, в т.ч. житло відомчого підпорядк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площа, тис. кв. 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йнято в експлуатацію індивідуальних житлових будинків, будинковолодінь, окремих кварти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площа, тис. кв. 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йнято в експлуатацію житла усіх форм власності (загальна площа квартир, тис. кв. м.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74920" cy="178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2843280" y="17647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 2009 році збудован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житлових будинків  загальною площе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9,8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тис. кв.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20800" y="3068280"/>
            <a:ext cx="61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ийнято в експлуатацію закінчених будівництвом об’єктів у 2006-2009 р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ВІ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4568760" y="14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1341360"/>
            <a:ext cx="51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івці є відомим в Україні та за її межами науковим і освітнім центром. В місті діють науково-дослідні інститути матеріалознавства, термоелектрики, прикладних проблем механіки і математики, світової економіки та міжнародних віднос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4035960"/>
            <a:ext cx="5548320" cy="17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 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закладах середньої освіти міста навчаєть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2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учн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сього в місті налічується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вищих навчальних закладів (12 - ІІІ-IV рівнів акредитації та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І-ІІ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rcRect l="3137" t="1994" r="3137" b="1994"/>
          <a:stretch/>
        </p:blipFill>
        <p:spPr>
          <a:xfrm>
            <a:off x="6300720" y="2922480"/>
            <a:ext cx="2192400" cy="35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11280" y="1001880"/>
            <a:ext cx="2950920" cy="285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ХОРОНА ЗДОРОВ’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1808280"/>
            <a:ext cx="3313080" cy="24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7" name=""/>
          <p:cNvSpPr/>
          <p:nvPr/>
        </p:nvSpPr>
        <p:spPr>
          <a:xfrm>
            <a:off x="-4635360" y="226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1702080"/>
            <a:ext cx="47512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чне обслуговування мешканців міста здійснюють 38 лікувальних установ, в тому числі 16 міської комунальної власності, 1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ласної т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ідомчі. Потужність амбулаторно-поліклінічних установ міста складає 3185 відвідувань в зміну, ліжковий фонд налічує 980 лі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4581720"/>
            <a:ext cx="828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ідготовкою медичних кадрів для медичних установ міста займаються Буковинський державний медичний університет та базовий коледж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УЛЬТУРА ТА ДОЗВІЛ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1200" y="1312560"/>
            <a:ext cx="51944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 місті функціонують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8 закладів клубного типу у підпорядкуванні управління культури міської ра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5 шкіл естетичного вихова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3 бібліоте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 кінотеат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узично-драматичний театр ім. О.Кобилянсько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2360" y="483192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Чернівецька обласна філармоні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 парки відпочин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еатр ляль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алац «Академіч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08720" y="1341360"/>
            <a:ext cx="3024000" cy="31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49440" y="4005360"/>
            <a:ext cx="4066920" cy="258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ІЗИЧНА КУЛЬТУРА І 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 місті діє і розвивається мережа культурно - виховних, спортивно - оздоровчих заклад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8 стадіон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64 спортивних за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 плавальні басей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8 футбольних пол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87 відкритих спортивних майданчик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 критих льодових майданч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 мотоциклетна тра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 лукод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62400" y="48589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 Чернівцях діє міжнародний спортивний центр «СуперКрос», на базі якого щорічно проводяться чемпіонати Європи та Світу з мотокрос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3334" t="3301" r="2223" b="3301"/>
          <a:stretch/>
        </p:blipFill>
        <p:spPr>
          <a:xfrm>
            <a:off x="647640" y="4292640"/>
            <a:ext cx="3419640" cy="227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716360" y="1844640"/>
            <a:ext cx="388800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ОВІДНІ ПІДПРИЄМСТВА МІ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П МТК «Калинівський рин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ТВТ «Трембіт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ОВ «Чернівецький машинобудівний заво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Чернівецький завод «Індустрі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Т «Імпульс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Цегельний завод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Квар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ТЗТ «Хімічний зав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Чернівецький хлібокомбі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Чернівецький олійно-жировий комбі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Чернівецький емальзавод «Карпа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Арні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ОВ «Роз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64800" y="1698480"/>
            <a:ext cx="32698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353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ОВ «Бояні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Т «Трансмо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КП «Чернівціводоканал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1918" t="2800" r="1918" b="4199"/>
          <a:stretch/>
        </p:blipFill>
        <p:spPr>
          <a:xfrm>
            <a:off x="4643280" y="2997360"/>
            <a:ext cx="4168800" cy="276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Л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3932280"/>
            <a:ext cx="81471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Постійні комісії міської ра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питань законності, прав людини, регламенту, депутатської діяльності та е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економіки, бюджету та фінанс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 питань земельних відносин, архітектури та будів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питань житлово-комунального господарства та охорони навколишнього середови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питань праці та соціального захисту насел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питань освіти, науки, культури, спорту та молодіжної полі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питань охорони здоров’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Місто має районний поділ, де утворено районні в місті ради - Шевченківська, Першотравнева та Садгірсь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06800" y="3291840"/>
            <a:ext cx="43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</a:rPr>
              <a:t>E-mail:  document@rada.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chernivtsy.eu; www.city.cv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203640" y="2060640"/>
          <a:ext cx="5483160" cy="1159920"/>
        </p:xfrm>
        <a:graphic>
          <a:graphicData uri="http://schemas.openxmlformats.org/drawingml/2006/table">
            <a:tbl>
              <a:tblPr/>
              <a:tblGrid>
                <a:gridCol w="2168640"/>
                <a:gridCol w="3314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івецький  міський го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рук Микола Трохим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38 (0372) 553 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ретар міської 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ремічук Троян Миколай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38 (0372) 551 8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3132000" y="136620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едставницьким органом громади є Чернівецька міська рада (60 депутаті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38200" y="358920"/>
            <a:ext cx="2521080" cy="350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ХАРАКТЕРИСТИКА МІ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ГЕОГРАФІЧНЕ РОЗТАШУВ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лоща міста - 153 кв. км. 1,9% території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селення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1,8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тис. чо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640" y="2997360"/>
            <a:ext cx="4247640" cy="3239640"/>
            <a:chOff x="539640" y="2997360"/>
            <a:chExt cx="4247640" cy="3239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9640" y="2997360"/>
              <a:ext cx="4163400" cy="292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092960" y="3222720"/>
              <a:ext cx="3694320" cy="3014280"/>
              <a:chOff x="1092960" y="3222720"/>
              <a:chExt cx="3694320" cy="3014280"/>
            </a:xfrm>
          </p:grpSpPr>
          <p:sp>
            <p:nvSpPr>
              <p:cNvPr id="111" name=""/>
              <p:cNvSpPr/>
              <p:nvPr/>
            </p:nvSpPr>
            <p:spPr>
              <a:xfrm>
                <a:off x="3171960" y="4277880"/>
                <a:ext cx="932040" cy="85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90000" y="3925440"/>
                <a:ext cx="1641600" cy="1557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41000" y="3624120"/>
                <a:ext cx="2410200" cy="22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84360" y="3222720"/>
                <a:ext cx="3202920" cy="301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92960" y="4462200"/>
                <a:ext cx="11847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88080" y="3448080"/>
                <a:ext cx="10357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88080" y="3785400"/>
                <a:ext cx="10357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88080" y="4123440"/>
                <a:ext cx="1035720" cy="43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2925720"/>
            <a:ext cx="3600720" cy="331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РАНСПОРТНЕ СПОЛУ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9080" y="1771560"/>
          <a:ext cx="5759280" cy="2236680"/>
        </p:xfrm>
        <a:graphic>
          <a:graphicData uri="http://schemas.openxmlformats.org/drawingml/2006/table">
            <a:tbl>
              <a:tblPr/>
              <a:tblGrid>
                <a:gridCol w="2031840"/>
                <a:gridCol w="1185840"/>
                <a:gridCol w="1355760"/>
                <a:gridCol w="11858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їв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вано-Франківсь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аре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нопі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ин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іпропетровсь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ша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нець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в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апеш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68360" y="13392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стань від м. Чернівців до інших мі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96800"/>
            <a:ext cx="360036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Відстані до найближчих кордонів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з 1 січня 2007 року Чернівецька область стала безпосереднім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сусідом Європейського Союзу (відстань від м. Чернівців до кордону з Румунією – всього 40 км.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140360" y="4422600"/>
          <a:ext cx="4751280" cy="1527480"/>
        </p:xfrm>
        <a:graphic>
          <a:graphicData uri="http://schemas.openxmlformats.org/drawingml/2006/table">
            <a:tbl>
              <a:tblPr/>
              <a:tblGrid>
                <a:gridCol w="1258560"/>
                <a:gridCol w="2592720"/>
                <a:gridCol w="90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мун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ний перехід „Порубне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щ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ний перехід „Мостиськ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рщ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ний перехід „Чоп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ч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ний перехід „Ужгород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ний перехід „Мамалиг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НФРАСТРУКТУРА М. ЧЕРНІВЦІВ</a:t>
            </a:r>
            <a:br>
              <a:rPr sz="2400"/>
            </a:b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ТРАНСПОРТНІ КОМУНІКАЦІ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720" y="1608120"/>
            <a:ext cx="244656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2916360" y="1988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іський транспорт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аршрутна сітка міста складається з 46 автобусних та 10 тролейбусних маршруті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495960"/>
            <a:ext cx="5111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Залізничний транспорт.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Існує пряме залізничне сполучення з Києвом, Москвою, Мінськом, Санкт-Петербургом, Бухарестом, Софією, Варною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08720" y="2781360"/>
            <a:ext cx="309564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5280" y="4668840"/>
            <a:ext cx="2881440" cy="169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3346560" y="4869000"/>
            <a:ext cx="53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віатранспорт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 м. Чернівцях функціонує             КП «Міжнародний аеропорт Чернівці», який з              2006 року переданий у комунальну власність міста та є пріоритетним для розвитку транспортної інфраструктури кр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ОМИСЛОВІСТЬ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282680"/>
            <a:ext cx="82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 реалізованих товарів та послуг за 2009 р.: 1683,6 млн.гр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сновні галуз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: харчова промисловість, легка промисловість, машинобудування, виробництво та розподіл електроенергії, газу та во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 реалізованої продукції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 основними видами промислової діяльності за 2009 рік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755640" y="2849400"/>
          <a:ext cx="8280360" cy="38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849400"/>
                    <a:ext cx="82803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 малих підприємств у м. Чернівцях на 10 тис. осіб за 2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-2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1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У розрахунку на 10 тис. осіб населення кількість малих підприємств становить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4 підприємства станом на 01.01.20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168560"/>
          <a:ext cx="7920000" cy="42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68560"/>
                    <a:ext cx="79200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00000" y="2417760"/>
          <a:ext cx="7139160" cy="36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17760"/>
                    <a:ext cx="713916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ОВНІШНЬОЕКОНОМІЧНА ДІЯ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64388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 експорту за 2009 р.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81,3 млн. дол. СШ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 імпорту за 2009 р.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71,2 млн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9440" y="234900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еографічна структура експорту за 2009 р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млн. дол. С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НВЕСТИЦІЙНА ДІЯ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ямі іноземні інвестиції за 2009.: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839,4 тис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ямі іноземні інвестиції на одного мешканця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132,5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укупний капітал нерезидент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01.01.2010р.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32,4 млн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348640"/>
            <a:ext cx="65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еографічна структура експорту за 2009 р.: (млн. дол. США)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55640" y="2637000"/>
          <a:ext cx="7604280" cy="37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760428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8:17:39Z</dcterms:created>
  <dc:creator>inv2</dc:creator>
  <dc:description/>
  <dc:language>en-US</dc:language>
  <cp:lastModifiedBy>PublicRel</cp:lastModifiedBy>
  <dcterms:modified xsi:type="dcterms:W3CDTF">2010-07-05T12:30:03Z</dcterms:modified>
  <cp:revision>34</cp:revision>
  <dc:subject/>
  <dc:title>Слайд 1</dc:title>
</cp:coreProperties>
</file>