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jpeg" ContentType="image/jpeg"/>
  <Override PartName="/ppt/media/image10.wmf" ContentType="image/x-wmf"/>
  <Override PartName="/ppt/media/image25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7.png" ContentType="image/png"/>
  <Override PartName="/ppt/media/image12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23.jpeg" ContentType="image/jpeg"/>
  <Override PartName="/ppt/media/image1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2BF-6D70-43D1-8CD1-BA161AC0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077-18D4-43C0-A03E-42925C66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0A1-AA9B-41B8-BCB3-A93B6D9D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5B4-6C3E-4824-9D08-FB115414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97A7-71B6-4AED-A138-666A43D2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3C3B-63BB-4761-8D6C-8F33291E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E5A5-E971-4AC2-A059-F14C3608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4CE-7728-4092-806B-D6EB3B38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C772-B6BC-49D4-8A48-884027D8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93C2-F031-461A-909C-656C0FDA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AF27-CE67-4227-9710-1BB9FCD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162-31BC-46DB-9CA1-293943BB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3CC7-D01A-43A0-910F-34C7D22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FB32-0B39-44F0-87F1-52F693A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CC3D-59C8-4C78-8AAF-4FA2B3A2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59C-9CF2-42C7-80C0-B5F7C673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40C2-2BC5-4C2F-8B98-2F23769C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B64-24F0-45F5-9546-7AAB744B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84B-7B45-44DC-8BFB-74F8D80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F56-7684-49CC-82BA-E54EF867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EFA-511C-400D-9E5A-F8E6B8C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993-8A4A-4EFB-B759-89FB3326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6D6-91CD-4EAD-B688-0A0086F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F77-1E5A-4DD9-AFDC-CEF8535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812-48EB-45CE-A074-2FA6B02D86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0759-07C6-4C7E-968D-E3C870C536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-144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51120" y="129852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ЧЕРН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uk-UA" sz="4400" spc="-1" strike="noStrike">
                <a:solidFill>
                  <a:srgbClr val="000000"/>
                </a:solidFill>
                <a:latin typeface="Constantia"/>
              </a:rPr>
              <a:t>В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875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iribus U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ИЯ ПОВЫШЕНИЯ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КУРЕНТОСПОСОБНОСТИ ЧЕРНО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ИЧЕСКИЕ ЦЕЛИ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ЕСКИЙ ВОПРОС 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и и желания людей, которые проживают, работают и посещают Черновцы, могут быть лучше всего удовлетворены туристической политикой. Туризм является приоритетным для качества жизни в Черновцах. Он имеет большое значение для региональной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11280" y="2924280"/>
            <a:ext cx="7416360" cy="3424320"/>
            <a:chOff x="611280" y="2924280"/>
            <a:chExt cx="7416360" cy="3424320"/>
          </a:xfrm>
        </p:grpSpPr>
        <p:sp>
          <p:nvSpPr>
            <p:cNvPr id="160" name=""/>
            <p:cNvSpPr/>
            <p:nvPr/>
          </p:nvSpPr>
          <p:spPr>
            <a:xfrm>
              <a:off x="611280" y="3606840"/>
              <a:ext cx="3709080" cy="27417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Позициониров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Черновцы как туристическ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город, который привлека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гостей, генерирует доходы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здает чувство собствен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достоинства у кажд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ж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81200" y="3669120"/>
              <a:ext cx="3646440" cy="2679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Создать условия 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улучшить позицию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Черновцов как туристическог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города, благодаря развитию 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продвижению новых инновационных и привлекательны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туристически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5d9ed"/>
                  </a:solidFill>
                  <a:latin typeface="Times New Roman"/>
                </a:rPr>
                <a:t>продуктов и услу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2920" y="3448440"/>
              <a:ext cx="4359600" cy="4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6680" y="3448440"/>
              <a:ext cx="0" cy="21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32920" y="3448440"/>
              <a:ext cx="0" cy="212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92160" y="3369960"/>
              <a:ext cx="1522080" cy="2332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6600"/>
                  </a:solidFill>
                  <a:latin typeface="Arial"/>
                </a:rPr>
                <a:t>Стратегические цел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8000" y="2924280"/>
              <a:ext cx="4139640" cy="376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азвитие туриз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ИЧЕСКИЕ ЦЕЛИ: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КРИТИЧЕСКИЙ ВОПРОС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овцы могут предложить отличные условия для инвесторов благодаря выгодному транспортно-географическому расположению (приграничный регион), который обеспечивает хороший доступ к национальным и международным ры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5280" y="2855880"/>
            <a:ext cx="7978680" cy="3250800"/>
            <a:chOff x="395280" y="2855880"/>
            <a:chExt cx="7978680" cy="3250800"/>
          </a:xfrm>
        </p:grpSpPr>
        <p:sp>
          <p:nvSpPr>
            <p:cNvPr id="170" name=""/>
            <p:cNvSpPr/>
            <p:nvPr/>
          </p:nvSpPr>
          <p:spPr>
            <a:xfrm>
              <a:off x="395280" y="3805200"/>
              <a:ext cx="2955240" cy="22989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Создать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позициониров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позитивный имидж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города 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инвестирова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и развит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240" y="3871440"/>
              <a:ext cx="2807280" cy="22330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зд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физические услов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для вло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инвестиций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особенно для П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1240" y="3871440"/>
              <a:ext cx="2772720" cy="2235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здать   систе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инвестицион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5d9ed"/>
                  </a:solidFill>
                  <a:latin typeface="Times New Roman"/>
                </a:rPr>
                <a:t>сопровож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5800" y="3675240"/>
              <a:ext cx="5307120" cy="24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2480" y="3740040"/>
              <a:ext cx="0" cy="23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9840" y="3675240"/>
              <a:ext cx="0" cy="195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5800" y="3675240"/>
              <a:ext cx="0" cy="233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52920" y="3575520"/>
              <a:ext cx="1577880" cy="2480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6600"/>
                  </a:solidFill>
                  <a:latin typeface="Arial"/>
                </a:rPr>
                <a:t>Стратегические цел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97760" y="2855880"/>
              <a:ext cx="4594680" cy="693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здание услов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ля привлечения инвести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ИЯ ПОВЫШЕНИЯ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КУРЕНТОСПОСОБНОСТИ ЧЕРНО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РАТЕГИЧЕСКИЕ ЦЕЛИ: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КРИТИЧЕСКИЙ ВОПРОС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кономике Черновцов основными являются предприятия малого и среднего бизнеса. Успешность таких предприятий в большей степени зависит от доступности внешних финансовых ресурсов, но чтобы развиваться постоянно, им необходимо нечто большее - доступ к информации, содействие местных властей, инвестиции в новые технологии, сотрудничество с другими предприятиями и доступ к новым рын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0920" y="2880360"/>
            <a:ext cx="8642160" cy="3444480"/>
            <a:chOff x="250920" y="2880360"/>
            <a:chExt cx="8642160" cy="3444480"/>
          </a:xfrm>
        </p:grpSpPr>
        <p:sp>
          <p:nvSpPr>
            <p:cNvPr id="183" name=""/>
            <p:cNvSpPr/>
            <p:nvPr/>
          </p:nvSpPr>
          <p:spPr>
            <a:xfrm>
              <a:off x="250920" y="3913560"/>
              <a:ext cx="3142800" cy="24109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Создать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деловую среду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имидж город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благоприятный дл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ведения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79440" y="3850920"/>
              <a:ext cx="3142440" cy="2473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Интегрирова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«экономику знаний»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предпринимательску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среду 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7600" y="3850920"/>
              <a:ext cx="2985480" cy="2473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5d9ed"/>
                  </a:solidFill>
                  <a:latin typeface="Times New Roman"/>
                </a:rPr>
                <a:t>Улучшить техническую инфраструктуру для обеспечения экономического роста и качества жиз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72640" y="3630960"/>
              <a:ext cx="5208840" cy="9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6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20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72640" y="36309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1120" y="3467160"/>
              <a:ext cx="1536120" cy="2757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Times New Roman"/>
                </a:rPr>
                <a:t>Стратегические ц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21560" y="2880360"/>
              <a:ext cx="4717080" cy="515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азвитие инфраструктуры для бизне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ТРАТЕГИЯ ПОВЫШЕНИЯ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КУРЕНТОСПОСОБНОСТИ ЧЕРНО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040200"/>
            <a:ext cx="2809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042920" y="184464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40240" y="3654360"/>
            <a:ext cx="308448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0360" y="1712880"/>
            <a:ext cx="295272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НОВЦЫ ТУРИ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631120"/>
            <a:ext cx="53989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Государственный реестр памятников архитектуры насчитывает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689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памятников и объектов культурного наследства,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с которых общенационального значени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7320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Туристический потенциал города обусловленный прежде всего наличием большого количества памятников разных эпох и этнических культур, богатой палитрой местных обычаев и обрядов, традиционных народных промыслов и ремесе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16160"/>
            <a:ext cx="806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Черновцы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один из немногих городов Украины с городской застрой такого качества и цен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ОВО-КРЕДИТ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96040" y="148356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городе функционирует развитая финансово-кредитн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39240" y="2059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2568960"/>
            <a:ext cx="41623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состоянию на 1 января 2010 года в Черновцах расположены филиалы, отделения и представительства 56 банков, которые предоставляют широкий спектр финансово-кредитных услуг, как для населения, так и для организаций и других субъектов хозяйственной деятельност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5832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ироко представлены кредитные союзы и страховые 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59280" y="2263680"/>
            <a:ext cx="3889440" cy="3210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ПОКАЗАТЕЛИ ЭКОНОМИЧЕСКОГО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СОЦИ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5013360"/>
          <a:ext cx="8589960" cy="1433520"/>
        </p:xfrm>
        <a:graphic>
          <a:graphicData uri="http://schemas.openxmlformats.org/drawingml/2006/table">
            <a:tbl>
              <a:tblPr/>
              <a:tblGrid>
                <a:gridCol w="1296720"/>
                <a:gridCol w="844560"/>
                <a:gridCol w="812880"/>
                <a:gridCol w="665280"/>
                <a:gridCol w="965160"/>
                <a:gridCol w="752400"/>
                <a:gridCol w="827280"/>
                <a:gridCol w="966600"/>
                <a:gridCol w="665280"/>
                <a:gridCol w="79380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ные  безработные, состоянием на 1 января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сть предприятий в сотрудника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узка на 1 свободное рабочее место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Черновц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987640" y="1629000"/>
            <a:ext cx="57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йтинге комфортности украинских городов за результатами экспертного исследования журнала "Фокус"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 Чернов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2009 году заня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реди городов с населением от 250 тис. до 500 тис. жителей. Учитывались туристическая и инвестиционная привлекательность, развитие инфраструктуры города, экологическая безопасность другие крите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 характеризуется наличием высоко-квалифицированных трудов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920" y="4436280"/>
            <a:ext cx="85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рос и предложение рабочей силы на рынке труда г. Черновцов в 2007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2270160" cy="15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ЮДЖЕТ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доходов бюджета г. Черновцов за 2009 г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490,7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расходов бюджета г. Черновцов за 2009 год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485,2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объемов поступлений и расходов бюджета г. Черновц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2007-2009 года (с трансфертами), млн. гр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539640" y="2978280"/>
          <a:ext cx="8209080" cy="34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978280"/>
                    <a:ext cx="82090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НЯЯ ЗАРАБОТНАЯ 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яя заработная плата за 2009 г.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43 гр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няя заработная плата за видами экономической деятельност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 Черновцов за 2005­2009 г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611280" y="2789280"/>
          <a:ext cx="8137440" cy="359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789280"/>
                    <a:ext cx="813744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ПРАВОЧНЫЕ ДАННЫЕ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ДЛЯ РАСЧЕТОВ И ОБОСНОВАНИЙ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3640" y="1557360"/>
            <a:ext cx="4895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ВКА ЗЕМЕЛЬНОГО Н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вка земельного налог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% от денежной оценк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рендная плата за землю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может быть меньше, чем земельный налог, и не может превышать 12 % денежной оценк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02560" y="390780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НЫ НА ЭЛЕКТРО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7760" y="4354200"/>
            <a:ext cx="52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оянием на 01.01.2010 г. (по курсу НБУ 1$=7,98 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71640" y="4703760"/>
          <a:ext cx="7416720" cy="1250640"/>
        </p:xfrm>
        <a:graphic>
          <a:graphicData uri="http://schemas.openxmlformats.org/drawingml/2006/table">
            <a:tbl>
              <a:tblPr/>
              <a:tblGrid>
                <a:gridCol w="5329080"/>
                <a:gridCol w="2087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н./кВ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 по фиксированному тарифу (насел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 1,2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32-0,6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ОСНАБЖЕНИЕ И ВОДООТ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1557360"/>
          <a:ext cx="8218440" cy="1828800"/>
        </p:xfrm>
        <a:graphic>
          <a:graphicData uri="http://schemas.openxmlformats.org/drawingml/2006/table">
            <a:tbl>
              <a:tblPr/>
              <a:tblGrid>
                <a:gridCol w="4297320"/>
                <a:gridCol w="1947960"/>
                <a:gridCol w="1973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снабжение 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отвод (грн./куб.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 за фиксированным тарифом (насел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5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5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95280" y="4292640"/>
          <a:ext cx="8209080" cy="2344680"/>
        </p:xfrm>
        <a:graphic>
          <a:graphicData uri="http://schemas.openxmlformats.org/drawingml/2006/table">
            <a:tbl>
              <a:tblPr/>
              <a:tblGrid>
                <a:gridCol w="5359320"/>
                <a:gridCol w="284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(грн./ 1000 куб. м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и за фиксированным тарифом (население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5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00-6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00-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12000 куб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я, организации и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700440" y="3572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НЫ НА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497760" y="1196640"/>
            <a:ext cx="52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оянием на 01.01.2010 г. (по курсу НБУ 1$=7,98 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7760" y="3971520"/>
            <a:ext cx="52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стоянием на 01.01.2010 г. (по курсу НБУ 1$=7,98 грн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имат благоприятный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меренно-континентальный, влажный, мягкий летом и зи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температур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нварь -5° С, апрель +9° С, июль +19° С, октябрь +9° С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зморозный период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60-265 дней, вегетативный – 215-220 д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егодовое количество осадков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50-750 м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3067200"/>
            <a:ext cx="5328000" cy="3386160"/>
          </a:xfrm>
          <a:prstGeom prst="rect">
            <a:avLst/>
          </a:prstGeom>
          <a:ln w="54000">
            <a:solidFill>
              <a:srgbClr val="c5d9e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ЫЕ ВОПРОСЫ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ОИТЕЛЬСТВО ЖИ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59080" y="2111400"/>
            <a:ext cx="0" cy="0"/>
          </a:xfrm>
          <a:prstGeom prst="line">
            <a:avLst/>
          </a:prstGeom>
          <a:ln cap="rnd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3835440"/>
          <a:ext cx="8351640" cy="2760480"/>
        </p:xfrm>
        <a:graphic>
          <a:graphicData uri="http://schemas.openxmlformats.org/drawingml/2006/table">
            <a:tbl>
              <a:tblPr/>
              <a:tblGrid>
                <a:gridCol w="452520"/>
                <a:gridCol w="3363840"/>
                <a:gridCol w="1627200"/>
                <a:gridCol w="755640"/>
                <a:gridCol w="755640"/>
                <a:gridCol w="755640"/>
                <a:gridCol w="6411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о в эксплуатацию многоквартирных жилых домов, в т.ч. жилье ведомствен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, тис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о в эксплуатацию индивидуальных жилых домов, домовладений, отдельных кварт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, тис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о в эксплуатацию жилья всех форм собственности (общая площадь квартир, тис. кв. м.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4920" cy="17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2843280" y="17647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2009 году построено 94 жилых домов общей площадью 89,8 тис. кв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3068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нято в эксплуатацию законченных строительством  объектов в 2006-2009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4568760" y="14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35280" y="147780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овцы – известный в Украине и за ее пределами научный и образовательный центр. В городе работают научно-исследовательские институты материало-ведения, термоэлектрики, медико-экологически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4040" y="4174560"/>
            <a:ext cx="55483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51 учебных заведениях среднего образования города обучаются 22074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его в городе насчитывается 26 высших учебных заведений (12 - ІІІ-IV уровня аккредитации и 14 - І-ІІ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3137" t="1994" r="3137" b="1994"/>
          <a:stretch/>
        </p:blipFill>
        <p:spPr>
          <a:xfrm>
            <a:off x="6483240" y="2994120"/>
            <a:ext cx="219240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2950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95280" y="1808280"/>
            <a:ext cx="345600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-463536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719720"/>
            <a:ext cx="4751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е обслуживание жителей города осуществляют 38 лечебных учреждений, в том числе 16 городской коммунальной собственности,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ластной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едомственные учреждения. Вместимость амбулаторно-поликлинических учреждений города составляет 3185 посещений в смену, количество койко-мест – 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457920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ой медицинских кадров для медицинских учреждений города занимаются Буковинский государственный медицинский университет и базовый медицинский коллед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УРА Т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1200" y="1312560"/>
            <a:ext cx="5194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10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 городе функционируют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учреждений клубного типа в подчинении управления культуры городского со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школ эстетического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библиоте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кинотеа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зыкально-драматический театр                     им. О.Кобылян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4749840"/>
            <a:ext cx="417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новицкая областная филармо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парка отды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укольный теа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лац «Академическ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470560" y="1414440"/>
            <a:ext cx="3024000" cy="31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39640" y="4011480"/>
            <a:ext cx="4067280" cy="258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ИЧЕСКАЯ КУЛЬТУРА И 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рновцах развита сеть культурно-образовательных, спортивно-оздоровительных учрежд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 стадио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4 спортивных 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плавальных бассей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 футбольных по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7 открытых спортивных площад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крытых ледовых ка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отоциклетная тр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904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луко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4858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рновцах действует международный спортивный центр «СуперКросс», на базе которого ежегодно проводятся чемпионаты Европы и Мира по мотокрос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2223" t="3301" r="2223" b="3301"/>
          <a:stretch/>
        </p:blipFill>
        <p:spPr>
          <a:xfrm>
            <a:off x="682560" y="4365720"/>
            <a:ext cx="316872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500720" y="1916280"/>
            <a:ext cx="388764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УЩИЕ ПРЕДПРИЯТИЯ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61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П ГТК «Калиновский ры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ООТ «Трембит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ОО «Черновицкий машиностроительный заво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завод «Индуст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О «Импульс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Кирпичный завод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Квар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ОЗТ «Химический зав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хлебокомби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масложировой комби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Черновицкий эмальзавод «Карпа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АО «Ар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ОО «Роз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2877" t="4199" r="2877" b="4199"/>
          <a:stretch/>
        </p:blipFill>
        <p:spPr>
          <a:xfrm>
            <a:off x="4932360" y="2660760"/>
            <a:ext cx="3844800" cy="25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572000" y="1125360"/>
            <a:ext cx="457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В «Бояно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Т «Трансмо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КП «Черновцыводокан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РОДСКИЕ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4005000"/>
            <a:ext cx="8147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тоянные депутатские комиссии городского сов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законности, прав человека, регламента, депутатской деятельности и э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экономики, бюджета и финан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земельных отношений, архитектуры и строи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жилищно-коммунального хозяйства и охраны внешне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труда и социальной защиты насе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образования, науки, культуры, спорта и молодежной поли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опросам охраны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род поделен на районы, где функционируют районные в городе советы - Шевченковский, Першотравневый и Садгор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329184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E-mail:  document@rada.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chernivtsy.eu; www.city.c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03640" y="2060640"/>
          <a:ext cx="5483160" cy="1159920"/>
        </p:xfrm>
        <a:graphic>
          <a:graphicData uri="http://schemas.openxmlformats.org/drawingml/2006/table">
            <a:tbl>
              <a:tblPr/>
              <a:tblGrid>
                <a:gridCol w="2168640"/>
                <a:gridCol w="3314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ицкий  городской го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орук Николай Трохим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3 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ретарь городского со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ичук Троян Никола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.: 38 (0372) 551 8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3132000" y="136620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тавительским органом является Черновицкий городской совет (60 депутат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521080" cy="35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ХАРАКТЕРИСТИКА ГО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ЕОГРАФИЧЕСКОЕ РАСПОЛ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ощадь города - 153 кв. км. 1,9% территории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еление – 251,8 тис. ч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997360"/>
            <a:ext cx="4247640" cy="3239640"/>
            <a:chOff x="539640" y="2997360"/>
            <a:chExt cx="4247640" cy="3239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640" y="2997360"/>
              <a:ext cx="4163400" cy="292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092960" y="3222720"/>
              <a:ext cx="3694320" cy="3014280"/>
              <a:chOff x="1092960" y="3222720"/>
              <a:chExt cx="3694320" cy="3014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171960" y="4277880"/>
                <a:ext cx="932040" cy="85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0000" y="3925440"/>
                <a:ext cx="1641600" cy="15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41000" y="3624120"/>
                <a:ext cx="2410200" cy="22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4360" y="3222720"/>
                <a:ext cx="3202920" cy="30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92960" y="4462200"/>
                <a:ext cx="11847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8080" y="3448080"/>
                <a:ext cx="10357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88080" y="3785400"/>
                <a:ext cx="1035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88080" y="4123440"/>
                <a:ext cx="1035720" cy="43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2572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ПОРТНЕ СОЕДИ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9080" y="1843200"/>
          <a:ext cx="5759280" cy="2236320"/>
        </p:xfrm>
        <a:graphic>
          <a:graphicData uri="http://schemas.openxmlformats.org/drawingml/2006/table">
            <a:tbl>
              <a:tblPr/>
              <a:tblGrid>
                <a:gridCol w="2031840"/>
                <a:gridCol w="1185840"/>
                <a:gridCol w="1355760"/>
                <a:gridCol w="11858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ев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-Франков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ар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нопо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мельницк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ине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пропетров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ша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нец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апеш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  к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9800" y="1339200"/>
            <a:ext cx="70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стояние от г. Черновцы до других городов Украины и Евро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142880"/>
            <a:ext cx="37447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Расстояние до ближайших границ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с 1 января 2007 года Черновицкая область стала непосредственным соседом Европейского Союза (расстояние от г. Черновцы до границы з Румынией – всего 40 км.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40360" y="4422600"/>
          <a:ext cx="4751280" cy="1527480"/>
        </p:xfrm>
        <a:graphic>
          <a:graphicData uri="http://schemas.openxmlformats.org/drawingml/2006/table">
            <a:tbl>
              <a:tblPr/>
              <a:tblGrid>
                <a:gridCol w="1258560"/>
                <a:gridCol w="2592720"/>
                <a:gridCol w="90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Порубное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Мостис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Чоп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Ужгород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можня „Мамалыг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НФРАСТРУКТУРА ЧЕРНОВЦОВ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РАНСПОРТНЫЕ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749600"/>
            <a:ext cx="2303280" cy="151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71640" y="211752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одской транспор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ршрутная сетка города состоит из 46 автобусны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троллейбусных маршр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33177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елезнодорожный транспорт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Существует прямое железнодорожное соединение с Киевом, Москвой, Минском, Санкт-Петербургом, Бухарестом, Софией, Вар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84720" y="2981160"/>
            <a:ext cx="2590920" cy="172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2735280" cy="161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66920" y="4843440"/>
            <a:ext cx="52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иатранспор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г. Черновцах работает КП "Международный аэропорт Черновцы", который с 2006 года передан в коммунальную собственность города и является приоритетным для развития транспортной инфраструктуры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МЫШЛЕННОС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268280"/>
            <a:ext cx="8282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реализованных товаров и услуг з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 2009 р.: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683,6 млн.г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трасл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ищевая промышленность, легкая промышленность, машиностроение, производство и распределение электроэнергии, газа и воды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 реализованной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сновным видам промышленной деятельности за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611280" y="2492280"/>
          <a:ext cx="8424720" cy="415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492280"/>
                    <a:ext cx="842472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ичество предприятий малого бизнеса в Черновца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на 10 тыс. чел. за 2006-200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444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расчете на 10 тыс. чел.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личество предприятий малого бизнеса составля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4 предприятия по состоянию на 01.01.2009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57200" y="981000"/>
          <a:ext cx="82296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81000"/>
                    <a:ext cx="82296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ЕЭКОНОМИ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м экспорта за 2009 г.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1,3 млн. дол. С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ъем импорта за 2009 г.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71,2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83680" y="2349000"/>
            <a:ext cx="50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ографическая структура экспорта за 2009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млн. дол. С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611280" y="2205000"/>
          <a:ext cx="7786440" cy="401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205000"/>
                    <a:ext cx="778644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ВЕСТИЦИОН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за 2009 г.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39,4 тис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ые иностранные инвестиции на одного жителя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32,5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ий капитал нерезидентов на 01.01.2010 г.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32,4 млн. до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5760" y="242676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ографическая структура экспорта за 2009 р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млн. дол. США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900000" y="2876400"/>
          <a:ext cx="7786800" cy="3802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876400"/>
                    <a:ext cx="778680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17:39Z</dcterms:created>
  <dc:creator>inv2</dc:creator>
  <dc:description/>
  <dc:language>en-US</dc:language>
  <cp:lastModifiedBy>PublicRel</cp:lastModifiedBy>
  <dcterms:modified xsi:type="dcterms:W3CDTF">2010-07-05T12:30:11Z</dcterms:modified>
  <cp:revision>33</cp:revision>
  <dc:subject/>
  <dc:title>Слайд 1</dc:title>
</cp:coreProperties>
</file>