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.jpeg" ContentType="image/jpeg"/>
  <Override PartName="/ppt/media/image10.wmf" ContentType="image/x-wmf"/>
  <Override PartName="/ppt/media/image25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9.png" ContentType="image/png"/>
  <Override PartName="/ppt/media/image17.jpeg" ContentType="image/jpeg"/>
  <Override PartName="/ppt/media/image3.png" ContentType="image/png"/>
  <Override PartName="/ppt/media/image11.wmf" ContentType="image/x-wmf"/>
  <Override PartName="/ppt/media/image27.png" ContentType="image/png"/>
  <Override PartName="/ppt/media/image12.wmf" ContentType="image/x-wmf"/>
  <Override PartName="/ppt/media/image7.jpeg" ContentType="image/jpeg"/>
  <Override PartName="/ppt/media/image28.jpeg" ContentType="image/jpeg"/>
  <Override PartName="/ppt/media/image6.png" ContentType="image/png"/>
  <Override PartName="/ppt/media/image23.jpeg" ContentType="image/jpeg"/>
  <Override PartName="/ppt/media/image1.jpeg" ContentType="image/jpe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jpeg" ContentType="image/jpeg"/>
  <Override PartName="/ppt/media/image2.jpeg" ContentType="image/jpeg"/>
  <Override PartName="/ppt/media/image18.wmf" ContentType="image/x-wmf"/>
  <Override PartName="/ppt/media/image26.jpeg" ContentType="image/jpeg"/>
  <Override PartName="/ppt/media/image19.wmf" ContentType="image/x-wmf"/>
  <Override PartName="/ppt/media/image20.jpeg" ContentType="image/jpeg"/>
  <Override PartName="/ppt/media/image29.png" ContentType="image/png"/>
  <Override PartName="/ppt/media/image2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6A3-CE33-4D0B-BB91-B1BA312E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278-5979-461F-A204-C7D9A8C8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DB4-A968-4FDF-B8F3-90664884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5FE-C319-4BCC-AFEA-387741A7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05FA-30E1-428D-AE56-45884FFB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CC52-0488-44A9-8930-F80F93CA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85EC-879B-47A2-AA29-F622B36F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9586-1D7E-4698-B73E-1A86ACFE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A112-ED6D-4F92-A382-4A585F22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22A2-1A0D-4939-9B6F-A1E9DD24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B6D2-FA01-4A89-96EF-3AE4CF1E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84A-F7F3-40E5-9EBB-FDD33F9C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D526-1DDD-4154-87E4-A80BE7B2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8A17-77BB-448A-B0BC-091FE2CA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681D-4EFB-4B3D-82A4-2F38757B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D51D-D634-4513-97C5-82345526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E6E0-C8F7-475D-8E8B-9499A81C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774-C19A-4D85-8231-1F6D6E01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9CB-1005-477D-8970-1CE5262B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210-AF45-446C-AD14-D3EF4015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84F-A1CD-41D9-BDD5-37F62F6F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9EC-251A-4F66-9E59-8B0596C6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D63-5C3A-4123-86A3-02878416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659-26F7-49AB-A172-A64AA93D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63D2-FF6C-48A8-8ACB-C2ECE9AB2A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BE7C-7FEB-4EA7-A7AC-688D02411B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4680" y="-1440"/>
            <a:ext cx="914868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51120" y="1298520"/>
            <a:ext cx="38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onstantia"/>
              </a:rPr>
              <a:t>ЧЕРН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uk-UA" sz="4400" spc="-1" strike="noStrike">
                <a:solidFill>
                  <a:srgbClr val="000000"/>
                </a:solidFill>
                <a:latin typeface="Constantia"/>
              </a:rPr>
              <a:t>В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8751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Viribus Un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ТРАТЕГИЯ ПОВЫШЕНИЯ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ОНКУРЕНТОСПОСОБНОСТИ ЧЕРНОВ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ТРАТЕГИЧЕСКИЕ ЦЕЛИ: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КРИТИЧЕСКИЙ ВОПРОС А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ребности и желания людей, которые проживают, работают и посещают Черновцы, могут быть лучше всего удовлетворены туристической политикой. Туризм является приоритетным для качества жизни в Черновцах. Он имеет большое значение для региональной эконом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11280" y="2924280"/>
            <a:ext cx="7416360" cy="3424320"/>
            <a:chOff x="611280" y="2924280"/>
            <a:chExt cx="7416360" cy="3424320"/>
          </a:xfrm>
        </p:grpSpPr>
        <p:sp>
          <p:nvSpPr>
            <p:cNvPr id="160" name=""/>
            <p:cNvSpPr/>
            <p:nvPr/>
          </p:nvSpPr>
          <p:spPr>
            <a:xfrm>
              <a:off x="611280" y="3606840"/>
              <a:ext cx="3709080" cy="274176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c5d9ed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Позиционирова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Черновцы как туристическ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город, который привлека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гостей, генерирует доходы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создает чувство собственн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достоинства у кажд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жи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81200" y="3669120"/>
              <a:ext cx="3646440" cy="2679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5d9ed"/>
                  </a:solidFill>
                  <a:latin typeface="Times New Roman"/>
                </a:rPr>
                <a:t>Создать условия 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5d9ed"/>
                  </a:solidFill>
                  <a:latin typeface="Times New Roman"/>
                </a:rPr>
                <a:t>улучшить позицию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5d9ed"/>
                  </a:solidFill>
                  <a:latin typeface="Times New Roman"/>
                </a:rPr>
                <a:t>Черновцов как туристического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5d9ed"/>
                  </a:solidFill>
                  <a:latin typeface="Times New Roman"/>
                </a:rPr>
                <a:t>города, благодаря развитию 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5d9ed"/>
                  </a:solidFill>
                  <a:latin typeface="Times New Roman"/>
                </a:rPr>
                <a:t>продвижению новых инновационных и привлекательных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5d9ed"/>
                  </a:solidFill>
                  <a:latin typeface="Times New Roman"/>
                </a:rPr>
                <a:t>туристических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5d9ed"/>
                  </a:solidFill>
                  <a:latin typeface="Times New Roman"/>
                </a:rPr>
                <a:t>продуктов и услуг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2920" y="3448440"/>
              <a:ext cx="4359600" cy="43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26680" y="3448440"/>
              <a:ext cx="0" cy="218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32920" y="3448440"/>
              <a:ext cx="0" cy="2127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92160" y="3369960"/>
              <a:ext cx="1522080" cy="23328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6600"/>
                  </a:solidFill>
                  <a:latin typeface="Arial"/>
                </a:rPr>
                <a:t>Стратегические цел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88000" y="2924280"/>
              <a:ext cx="4139640" cy="376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Развитие туриз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ТРАТЕГИЧЕСКИЕ ЦЕЛИ: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КРИТИЧЕСКИЙ ВОПРОС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новцы могут предложить отличные условия для инвесторов благодаря выгодному транспортно-географическому расположению (приграничный регион), который обеспечивает хороший доступ к национальным и международным рын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95280" y="2855880"/>
            <a:ext cx="7978680" cy="3250800"/>
            <a:chOff x="395280" y="2855880"/>
            <a:chExt cx="7978680" cy="3250800"/>
          </a:xfrm>
        </p:grpSpPr>
        <p:sp>
          <p:nvSpPr>
            <p:cNvPr id="170" name=""/>
            <p:cNvSpPr/>
            <p:nvPr/>
          </p:nvSpPr>
          <p:spPr>
            <a:xfrm>
              <a:off x="395280" y="3805200"/>
              <a:ext cx="2955240" cy="229896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5d9ed"/>
                  </a:solidFill>
                  <a:latin typeface="Times New Roman"/>
                </a:rPr>
                <a:t>Создать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5d9ed"/>
                  </a:solidFill>
                  <a:latin typeface="Times New Roman"/>
                </a:rPr>
                <a:t>позиционирова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5d9ed"/>
                  </a:solidFill>
                  <a:latin typeface="Times New Roman"/>
                </a:rPr>
                <a:t>позитивный имидж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5d9ed"/>
                  </a:solidFill>
                  <a:latin typeface="Times New Roman"/>
                </a:rPr>
                <a:t>города дл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5d9ed"/>
                  </a:solidFill>
                  <a:latin typeface="Times New Roman"/>
                </a:rPr>
                <a:t>инвестирова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5d9ed"/>
                  </a:solidFill>
                  <a:latin typeface="Times New Roman"/>
                </a:rPr>
                <a:t>и развития бизне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54240" y="3871440"/>
              <a:ext cx="2807280" cy="22330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Созда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физические услов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для вло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инвестиций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особенно для П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01240" y="3871440"/>
              <a:ext cx="2772720" cy="2235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c5d9ed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Создать   систем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инвестиционн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сопровожд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5800" y="3675240"/>
              <a:ext cx="5307120" cy="24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52480" y="3740040"/>
              <a:ext cx="0" cy="230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99840" y="3675240"/>
              <a:ext cx="0" cy="195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45800" y="3675240"/>
              <a:ext cx="0" cy="233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52920" y="3575520"/>
              <a:ext cx="1577880" cy="24804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6600"/>
                  </a:solidFill>
                  <a:latin typeface="Arial"/>
                </a:rPr>
                <a:t>Стратегические цел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97760" y="2855880"/>
              <a:ext cx="4594680" cy="6930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оздание услов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для привлечения инвестиц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ТРАТЕГИЯ ПОВЫШЕНИЯ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ОНКУРЕНТОСПОСОБНОСТИ ЧЕРНОВ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ТРАТЕГИЧЕСКИЕ ЦЕЛИ: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КРИТИЧЕСКИЙ ВОПРОС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экономике Черновцов основными являются предприятия малого и среднего бизнеса. Успешность таких предприятий в большей степени зависит от доступности внешних финансовых ресурсов, но чтобы развиваться постоянно, им необходимо нечто большее - доступ к информации, содействие местных властей, инвестиции в новые технологии, сотрудничество с другими предприятиями и доступ к новым рынк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0920" y="2880360"/>
            <a:ext cx="8642160" cy="3444480"/>
            <a:chOff x="250920" y="2880360"/>
            <a:chExt cx="8642160" cy="3444480"/>
          </a:xfrm>
        </p:grpSpPr>
        <p:sp>
          <p:nvSpPr>
            <p:cNvPr id="183" name=""/>
            <p:cNvSpPr/>
            <p:nvPr/>
          </p:nvSpPr>
          <p:spPr>
            <a:xfrm>
              <a:off x="250920" y="3913560"/>
              <a:ext cx="3142800" cy="241092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Создать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деловую среду 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имидж города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благоприятный дл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ведения 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79440" y="3850920"/>
              <a:ext cx="3142440" cy="2473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Интегрироват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«экономику знаний»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предпринимательскую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среду гор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07600" y="3850920"/>
              <a:ext cx="2985480" cy="2473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5d9ed"/>
                  </a:solidFill>
                  <a:latin typeface="Times New Roman"/>
                </a:rPr>
                <a:t>Улучшить техническую инфраструктуру для обеспечения экономического роста и качества жизн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72640" y="3630960"/>
              <a:ext cx="5208840" cy="9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46760" y="36597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20760" y="36597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72640" y="36309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81120" y="3467160"/>
              <a:ext cx="1536120" cy="27576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Times New Roman"/>
                </a:rPr>
                <a:t>Стратегические це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21560" y="2880360"/>
              <a:ext cx="4717080" cy="515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Развитие инфраструктуры для бизне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ТРАТЕГИЯ ПОВЫШЕНИЯ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ОНКУРЕНТОСПОСОБНОСТИ ЧЕРНОВ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19280" y="3040200"/>
            <a:ext cx="2809800" cy="19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1042920" y="1844640"/>
            <a:ext cx="763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440240" y="3654360"/>
            <a:ext cx="3084480" cy="193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940360" y="1712880"/>
            <a:ext cx="2952720" cy="19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РНОВЦЫ ТУРИС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5631120"/>
            <a:ext cx="53989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Государственный реестр памятников архитектуры насчитывает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689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памятников и объектов культурного наследства,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с которых общенационального значени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573200"/>
            <a:ext cx="54007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Туристический потенциал города обусловленный прежде всего наличием большого количества памятников разных эпох и этнических культур, богатой палитрой местных обычаев и обрядов, традиционных народных промыслов и ремесе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1316160"/>
            <a:ext cx="8064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Черновцы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– один из немногих городов Украины с городской застрой такого качества и ценнос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НАНСОВО-КРЕДИТ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96040" y="1483560"/>
            <a:ext cx="66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городе функционирует развитая финансово-кредитная 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39240" y="20599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2568960"/>
            <a:ext cx="41623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 состоянию на 1 января 2010 года в Черновцах расположены филиалы, отделения и представительства 56 банков, которые предоставляют широкий спектр финансово-кредитных услуг, как для населения, так и для организаций и других субъектов хозяйственной деятельности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558324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Широко представлены кредитные союзы и страховые комп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859280" y="2263680"/>
            <a:ext cx="3889440" cy="32101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ПОКАЗАТЕЛИ ЭКОНОМИЧЕСКОГО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СОЦИАЛЬ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5013360"/>
          <a:ext cx="8589960" cy="1433520"/>
        </p:xfrm>
        <a:graphic>
          <a:graphicData uri="http://schemas.openxmlformats.org/drawingml/2006/table">
            <a:tbl>
              <a:tblPr/>
              <a:tblGrid>
                <a:gridCol w="1296720"/>
                <a:gridCol w="844560"/>
                <a:gridCol w="812880"/>
                <a:gridCol w="665280"/>
                <a:gridCol w="965160"/>
                <a:gridCol w="752400"/>
                <a:gridCol w="827280"/>
                <a:gridCol w="966600"/>
                <a:gridCol w="665280"/>
                <a:gridCol w="79380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ные  безработные, состоянием на 1 января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сть предприятий в сотрудника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узка на 1 свободное рабочее место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Черновц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2987640" y="1629000"/>
            <a:ext cx="5761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ейтинге комфортности украинских городов за результатами экспертного исследования журнала "Фокус"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 Чернов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2009 году занял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 мест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реди городов с населением от 250 тис. до 500 тис. жителей. Учитывались туристическая и инвестиционная привлекательность, развитие инфраструктуры города, экологическая безопасность другие крите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од характеризуется наличием высоко-квалифицированных трудов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4920" y="4436280"/>
            <a:ext cx="85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прос и предложение рабочей силы на рынке труда г. Черновцов в 2007-2009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2270160" cy="154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ЮДЖЕТ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м доходов бюджета г. Черновцов за 2009 год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490,7 млн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м расходов бюджета г. Черновцов за 2009 год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485,2 млн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объемов поступлений и расходов бюджета г. Черновц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2007-2009 года (с трансфертами), млн. грн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539640" y="2978280"/>
          <a:ext cx="8209080" cy="349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978280"/>
                    <a:ext cx="820908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РЕДНЯЯ ЗАРАБОТНАЯ ПЛ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няя заработная плата за 2009 г.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643 грн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няя заработная плата за видами экономической деятельности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 Черновцов за 2005­2009 г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611280" y="2789280"/>
          <a:ext cx="8137440" cy="359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789280"/>
                    <a:ext cx="813744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ПРАВОЧНЫЕ ДАННЫЕ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ДЛЯ РАСЧЕТОВ И ОБОСНОВАНИЙ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63640" y="1557360"/>
            <a:ext cx="4895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АВКА ЗЕМЕЛЬНОГО НА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авка земельного налога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% от денежной оценки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рендная плата за землю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 может быть меньше, чем земельный налог, и не может превышать 12 % денежной оценки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02560" y="390780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НЫ НА ЭЛЕКТРОЭНЕРГ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97760" y="4354200"/>
            <a:ext cx="52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остоянием на 01.01.2010 г. (по курсу НБУ 1$=7,98 грн.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71640" y="4703760"/>
          <a:ext cx="7416720" cy="1250640"/>
        </p:xfrm>
        <a:graphic>
          <a:graphicData uri="http://schemas.openxmlformats.org/drawingml/2006/table">
            <a:tbl>
              <a:tblPr/>
              <a:tblGrid>
                <a:gridCol w="5329080"/>
                <a:gridCol w="2087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н./кВт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и по фиксированному тарифу (насел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ятия 1,2 катег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732-0,6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ОСНАБЖЕНИЕ И ВОДООТ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95280" y="1557360"/>
          <a:ext cx="8218440" cy="1828800"/>
        </p:xfrm>
        <a:graphic>
          <a:graphicData uri="http://schemas.openxmlformats.org/drawingml/2006/table">
            <a:tbl>
              <a:tblPr/>
              <a:tblGrid>
                <a:gridCol w="4297320"/>
                <a:gridCol w="1947960"/>
                <a:gridCol w="19731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снабжение  (грн./куб.м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отвод (грн./куб.м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и за фиксированным тарифом (насел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652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652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95280" y="4292640"/>
          <a:ext cx="8209080" cy="2344680"/>
        </p:xfrm>
        <a:graphic>
          <a:graphicData uri="http://schemas.openxmlformats.org/drawingml/2006/table">
            <a:tbl>
              <a:tblPr/>
              <a:tblGrid>
                <a:gridCol w="5359320"/>
                <a:gridCol w="2849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(грн./ 1000 куб. м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и за фиксированным тарифом (население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500 куб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2500-6000 куб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6000-12000 куб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8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12000 куб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ятия, организации и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6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3700440" y="3572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НЫ НА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497760" y="1196640"/>
            <a:ext cx="52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остоянием на 01.01.2010 г. (по курсу НБУ 1$=7,98 грн.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97760" y="3971520"/>
            <a:ext cx="52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остоянием на 01.01.2010 г. (по курсу НБУ 1$=7,98 грн.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ЛИ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лимат благоприятный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меренно-континентальный, влажный, мягкий летом и зи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редняя температура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нварь -5° С, апрель +9° С, июль +19° С, октябрь +9° С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езморозный период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60-265 дней, вегетативный – 215-220 д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реднегодовое количество осадков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50-750 мм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3067200"/>
            <a:ext cx="5328000" cy="3386160"/>
          </a:xfrm>
          <a:prstGeom prst="rect">
            <a:avLst/>
          </a:prstGeom>
          <a:ln w="54000">
            <a:solidFill>
              <a:srgbClr val="c5d9ed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ЦИАЛЬНЫЕ ВОПРОСЫ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ОИТЕЛЬСТВО ЖИ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59080" y="2111400"/>
            <a:ext cx="0" cy="0"/>
          </a:xfrm>
          <a:prstGeom prst="line">
            <a:avLst/>
          </a:prstGeom>
          <a:ln cap="rnd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3835440"/>
          <a:ext cx="8351640" cy="2760480"/>
        </p:xfrm>
        <a:graphic>
          <a:graphicData uri="http://schemas.openxmlformats.org/drawingml/2006/table">
            <a:tbl>
              <a:tblPr/>
              <a:tblGrid>
                <a:gridCol w="452520"/>
                <a:gridCol w="3363840"/>
                <a:gridCol w="1627200"/>
                <a:gridCol w="755640"/>
                <a:gridCol w="755640"/>
                <a:gridCol w="755640"/>
                <a:gridCol w="6411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о в эксплуатацию многоквартирных жилых домов, в т.ч. жилье ведомствен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, тис. кв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о в эксплуатацию индивидуальных жилых домов, домовладений, отдельных кварт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, тис. кв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о в эксплуатацию жилья всех форм собственности (общая площадь квартир, тис. кв. м.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374920" cy="178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2843280" y="176472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2009 году построено 94 жилых домов общей площадью 89,8 тис. кв.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16360" y="30682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нято в эксплуатацию законченных строительством  объектов в 2006-2009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4568760" y="14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35280" y="147780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новцы – известный в Украине и за ее пределами научный и образовательный центр. В городе работают научно-исследовательские институты материало-ведения, термоэлектрики, медико-экологических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4040" y="4174560"/>
            <a:ext cx="554832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51 учебных заведениях среднего образования города обучаются 22074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сего в городе насчитывается 26 высших учебных заведений (12 - ІІІ-IV уровня аккредитации и 14 - І-ІІ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3137" t="1994" r="3137" b="1994"/>
          <a:stretch/>
        </p:blipFill>
        <p:spPr>
          <a:xfrm>
            <a:off x="6483240" y="2994120"/>
            <a:ext cx="2192400" cy="35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295092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95280" y="1808280"/>
            <a:ext cx="345600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6" name=""/>
          <p:cNvSpPr/>
          <p:nvPr/>
        </p:nvSpPr>
        <p:spPr>
          <a:xfrm>
            <a:off x="-4635360" y="2082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24360" y="1719720"/>
            <a:ext cx="4751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е обслуживание жителей города осуществляют 38 лечебных учреждений, в том числе 16 городской коммунальной собственности,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ластной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едомственные учреждения. Вместимость амбулаторно-поликлинических учреждений города составляет 3185 посещений в смену, количество койко-мест – 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4579200"/>
            <a:ext cx="828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кой медицинских кадров для медицинских учреждений города занимаются Буковинский государственный медицинский университет и базовый медицинский коллед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ЛЬТУРА ТА ДОС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1200" y="1312560"/>
            <a:ext cx="51944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lnSpc>
                <a:spcPct val="10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 городе функционируют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 учреждений клубного типа в подчинении управления культуры городского со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школ эстетического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 библиоте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кинотеа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узыкально-драматический театр                     им. О.Кобылянс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3280" y="4749840"/>
            <a:ext cx="4176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78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рновицкая областная филармо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парка отды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укольный теат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алац «Академическ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470560" y="1414440"/>
            <a:ext cx="3024000" cy="31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539640" y="4011480"/>
            <a:ext cx="4067280" cy="258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ИЧЕСКАЯ КУЛЬТУРА И 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рновцах развита сеть культурно-образовательных, спортивно-оздоровительных учрежд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90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 стадио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90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4 спортивных учрежд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90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 плавальных бассей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90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8 футбольных по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90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87 открытых спортивных площад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90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крытых ледовых кат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90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мотоциклетная тра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90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лукод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95640" y="485892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рновцах действует международный спортивный центр «СуперКросс», на базе которого ежегодно проводятся чемпионаты Европы и Мира по мотокрос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2223" t="3301" r="2223" b="3301"/>
          <a:stretch/>
        </p:blipFill>
        <p:spPr>
          <a:xfrm>
            <a:off x="682560" y="4365720"/>
            <a:ext cx="3168720" cy="20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500720" y="1916280"/>
            <a:ext cx="388764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ДУЩИЕ ПРЕДПРИЯТИЯ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619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П ГТК «Калиновский рын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ООТ «Трембит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ОО «Черновицкий машиностроительный заво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АО «Черновицкий завод «Индустр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О «Импульс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АО «Кирпичный завод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АО «Кварц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ОЗТ «Химический заво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АО «Черновицкий хлебокомбин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АО «Черновицкий масложировой комбин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АО «Черновицкий эмальзавод «Карпа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АО «Арн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ОО «Роз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2877" t="4199" r="2877" b="4199"/>
          <a:stretch/>
        </p:blipFill>
        <p:spPr>
          <a:xfrm>
            <a:off x="4932360" y="2660760"/>
            <a:ext cx="3844800" cy="25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572000" y="1125360"/>
            <a:ext cx="4572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В «Боянов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Т «Трансмос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КП «Черновцыводокан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РОДСКИЕ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000" y="4005000"/>
            <a:ext cx="8147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оянные депутатские комиссии городского сов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опросам законности, прав человека, регламента, депутатской деятельности и эт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опросам экономики, бюджета и финан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опросам земельных отношений, архитектуры и строитель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опросам жилищно-коммунального хозяйства и охраны внешней сре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опросам труда и социальной защиты насел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опросам образования, науки, культуры, спорта и молодежной полит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опросам охраны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род поделен на районы, где функционируют районные в городе советы - Шевченковский, Першотравневый и Садгор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60640" y="3291840"/>
            <a:ext cx="43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E-mail:  document@rada.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.chernivtsy.eu; www.city.cv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203640" y="2060640"/>
          <a:ext cx="5483160" cy="1159920"/>
        </p:xfrm>
        <a:graphic>
          <a:graphicData uri="http://schemas.openxmlformats.org/drawingml/2006/table">
            <a:tbl>
              <a:tblPr/>
              <a:tblGrid>
                <a:gridCol w="2168640"/>
                <a:gridCol w="3314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вицкий  городской го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орук Николай Трохим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.: 38 (0372) 553 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ретарь городского со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мичук Троян Николае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.: 38 (0372) 551 8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3132000" y="136620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ставительским органом является Черновицкий городской совет (60 депутат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521080" cy="350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ХАРАКТЕРИСТИКА ГОР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ЕОГРАФИЧЕСКОЕ РАСПОЛО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ощадь города - 153 кв. км. 1,9% территории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селение – 251,8 тис. ч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9640" y="2997360"/>
            <a:ext cx="4247640" cy="3239640"/>
            <a:chOff x="539640" y="2997360"/>
            <a:chExt cx="4247640" cy="3239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39640" y="2997360"/>
              <a:ext cx="4163400" cy="292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"/>
            <p:cNvGrpSpPr/>
            <p:nvPr/>
          </p:nvGrpSpPr>
          <p:grpSpPr>
            <a:xfrm>
              <a:off x="1092960" y="3222720"/>
              <a:ext cx="3694320" cy="3014280"/>
              <a:chOff x="1092960" y="3222720"/>
              <a:chExt cx="3694320" cy="3014280"/>
            </a:xfrm>
          </p:grpSpPr>
          <p:sp>
            <p:nvSpPr>
              <p:cNvPr id="111" name=""/>
              <p:cNvSpPr/>
              <p:nvPr/>
            </p:nvSpPr>
            <p:spPr>
              <a:xfrm>
                <a:off x="3171960" y="4277880"/>
                <a:ext cx="932040" cy="853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790000" y="3925440"/>
                <a:ext cx="1641600" cy="1557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41000" y="3624120"/>
                <a:ext cx="2410200" cy="2211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84360" y="3222720"/>
                <a:ext cx="3202920" cy="3014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92960" y="4462200"/>
                <a:ext cx="11847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 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88080" y="3448080"/>
                <a:ext cx="103572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500 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88080" y="3785400"/>
                <a:ext cx="10357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00 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88080" y="4123440"/>
                <a:ext cx="1035720" cy="43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00 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03640" y="2925720"/>
            <a:ext cx="3600720" cy="3311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НСПОРТНЕ СОЕДИ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89080" y="1843200"/>
          <a:ext cx="5759280" cy="2236320"/>
        </p:xfrm>
        <a:graphic>
          <a:graphicData uri="http://schemas.openxmlformats.org/drawingml/2006/table">
            <a:tbl>
              <a:tblPr/>
              <a:tblGrid>
                <a:gridCol w="2031840"/>
                <a:gridCol w="1185840"/>
                <a:gridCol w="1355760"/>
                <a:gridCol w="11858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ев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8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-Франков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арес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нопо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ниц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ине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пропетров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1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ша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нец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ь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апеш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69800" y="1339200"/>
            <a:ext cx="70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стояние от г. Черновцы до других городов Украины и Евро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142880"/>
            <a:ext cx="374472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Расстояние до ближайших границ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с 1 января 2007 года Черновицкая область стала непосредственным соседом Европейского Союза (расстояние от г. Черновцы до границы з Румынией – всего 40 км.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140360" y="4422600"/>
          <a:ext cx="4751280" cy="1527480"/>
        </p:xfrm>
        <a:graphic>
          <a:graphicData uri="http://schemas.openxmlformats.org/drawingml/2006/table">
            <a:tbl>
              <a:tblPr/>
              <a:tblGrid>
                <a:gridCol w="1258560"/>
                <a:gridCol w="2592720"/>
                <a:gridCol w="90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мы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можня „Порубное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можня „Мостиска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г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можня „Чоп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4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к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можня „Ужгород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4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д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можня „Мамалыга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ИНФРАСТРУКТУРА ЧЕРНОВЦОВ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РАНСПОРТНЫЕ КОММУН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749600"/>
            <a:ext cx="2303280" cy="1514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771640" y="211752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ородской транспор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аршрутная сетка города состоит из 46 автобусны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троллейбусных маршру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8720" y="331776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елезнодорожный транспор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Существует прямое железнодорожное соединение с Киевом, Москвой, Минском, Санкт-Петербургом, Бухарестом, Софией, Вар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84720" y="2981160"/>
            <a:ext cx="2590920" cy="1722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24000" y="4797360"/>
            <a:ext cx="2735280" cy="1611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166920" y="4843440"/>
            <a:ext cx="52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виатранспор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г. Черновцах работает КП "Международный аэропорт Черновцы", который с 2006 года передан в коммунальную собственность города и является приоритетным для развития транспортной инфраструктуры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ОМЫШЛЕННОСТЬ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268280"/>
            <a:ext cx="82821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м реализованных товаров и услуг за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 2009 р.: 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683,6 млн.гр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отрасл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ищевая промышленность, легкая промышленность, машиностроение, производство и распределение электроэнергии, газа и воды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м реализованной проду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основным видам промышленной деятельности за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611280" y="2492280"/>
          <a:ext cx="8424720" cy="4159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492280"/>
                    <a:ext cx="8424720" cy="41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личество предприятий малого бизнеса в Черновца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на 10 тыс. чел. за 2006-2009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44464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 расчете на 10 тыс. чел.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личество предприятий малого бизнеса составля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94 предприятия по состоянию на 01.01.2009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457200" y="981000"/>
          <a:ext cx="82296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81000"/>
                    <a:ext cx="82296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ЕЭКОНОМИ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764388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ъем экспорта за 2009 г.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81,3 млн. дол. СШ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ъем импорта за 2009 г.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71,2 млн. до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83680" y="2349000"/>
            <a:ext cx="50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ографическая структура экспорта за 2009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млн. дол. С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611280" y="2205000"/>
          <a:ext cx="7786440" cy="4016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205000"/>
                    <a:ext cx="778644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ВЕСТИЦИОН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ые иностранные инвестиции за 2009 г.: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39,4 тис. до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ые иностранные инвестиции на одного жителя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32,5 до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щий капитал нерезидентов на 01.01.2010 г.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32,4 млн. до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75760" y="2426760"/>
            <a:ext cx="51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ографическая структура экспорта за 2009 р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млн. дол. США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900000" y="2876400"/>
          <a:ext cx="7786800" cy="3802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876400"/>
                    <a:ext cx="778680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8:17:39Z</dcterms:created>
  <dc:creator>inv2</dc:creator>
  <dc:description/>
  <dc:language>en-US</dc:language>
  <cp:lastModifiedBy>PublicRel</cp:lastModifiedBy>
  <dcterms:modified xsi:type="dcterms:W3CDTF">2010-07-05T12:30:11Z</dcterms:modified>
  <cp:revision>33</cp:revision>
  <dc:subject/>
  <dc:title>Слайд 1</dc:title>
</cp:coreProperties>
</file>