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4.jpeg" ContentType="image/jpeg"/>
  <Override PartName="/ppt/media/image10.wmf" ContentType="image/x-wmf"/>
  <Override PartName="/ppt/media/image25.jpeg" ContentType="image/jpeg"/>
  <Override PartName="/ppt/media/image5.png" ContentType="image/png"/>
  <Override PartName="/ppt/media/image8.jpeg" ContentType="image/jpeg"/>
  <Override PartName="/ppt/media/image30.png" ContentType="image/png"/>
  <Override PartName="/ppt/media/image13.jpeg" ContentType="image/jpeg"/>
  <Override PartName="/ppt/media/image9.png" ContentType="image/png"/>
  <Override PartName="/ppt/media/image17.jpeg" ContentType="image/jpeg"/>
  <Override PartName="/ppt/media/image3.png" ContentType="image/png"/>
  <Override PartName="/ppt/media/image11.wmf" ContentType="image/x-wmf"/>
  <Override PartName="/ppt/media/image27.png" ContentType="image/png"/>
  <Override PartName="/ppt/media/image12.wmf" ContentType="image/x-wmf"/>
  <Override PartName="/ppt/media/image7.jpeg" ContentType="image/jpeg"/>
  <Override PartName="/ppt/media/image28.jpeg" ContentType="image/jpeg"/>
  <Override PartName="/ppt/media/image6.png" ContentType="image/png"/>
  <Override PartName="/ppt/media/image23.jpeg" ContentType="image/jpeg"/>
  <Override PartName="/ppt/media/image1.jpeg" ContentType="image/jpeg"/>
  <Override PartName="/ppt/media/image14.png" ContentType="image/png"/>
  <Override PartName="/ppt/media/image15.png" ContentType="image/png"/>
  <Override PartName="/ppt/media/image22.png" ContentType="image/png"/>
  <Override PartName="/ppt/media/image24.jpeg" ContentType="image/jpeg"/>
  <Override PartName="/ppt/media/image16.jpeg" ContentType="image/jpeg"/>
  <Override PartName="/ppt/media/image2.jpeg" ContentType="image/jpeg"/>
  <Override PartName="/ppt/media/image18.wmf" ContentType="image/x-wmf"/>
  <Override PartName="/ppt/media/image26.jpeg" ContentType="image/jpeg"/>
  <Override PartName="/ppt/media/image19.wmf" ContentType="image/x-wmf"/>
  <Override PartName="/ppt/media/image20.jpeg" ContentType="image/jpeg"/>
  <Override PartName="/ppt/media/image29.png" ContentType="image/png"/>
  <Override PartName="/ppt/media/image21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6BD42-D8C8-4DF5-BFF4-BB3A49BDE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29F1D-4FB0-4195-A7C7-AD0362C75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B5645-D577-4694-A3DB-68897E9CB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274C5-09A9-4C72-A3C8-8B86735E4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38241-69C3-4E11-A175-EF7071CCD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DBEC8-6657-44E2-A89E-D122DB9E0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80EF8-E327-4B5C-B2F3-A4403A207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7A4B5-A858-4841-92A3-A78D6678B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BF0AE-6663-4C88-8C83-B8927ED22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8CB5C-578F-469D-BC6A-4B0944BD7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E0696-7C06-470F-BF6D-1DD77ED20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BB818-CBCD-416D-9786-8A28BA066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BDF3A-C273-444B-9B44-7A08B13F3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2BF06-919F-4A30-9686-171364E3C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761A5-BDF5-4BA4-A1D6-071683FB8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4F72F-210E-4EA8-81F1-EC985638A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31791-BEF1-412F-9410-17510F188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E6840-167E-4787-A272-799E0C1BA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A3FF2-79A6-46E9-8DCF-443E31748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70893-8627-4EDF-9A57-F8D3AD2A0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F103B-AEEF-4008-98F0-750B32D77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8DC74-8053-484B-BB15-B293DAD50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A6608-4C61-4683-86CE-368ADB52D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34779-C1D2-460D-9A49-8BD757234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9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c5d9ed"/>
                </a:gs>
                <a:gs pos="50000">
                  <a:srgbClr val="ffffff"/>
                </a:gs>
                <a:gs pos="100000">
                  <a:srgbClr val="c5d9e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c5d9ed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c5d9ed"/>
                </a:gs>
                <a:gs pos="50000">
                  <a:srgbClr val="ffffff"/>
                </a:gs>
                <a:gs pos="100000">
                  <a:srgbClr val="c5d9e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5d9ed"/>
                </a:gs>
                <a:gs pos="50000">
                  <a:srgbClr val="ffffff"/>
                </a:gs>
                <a:gs pos="100000">
                  <a:srgbClr val="c5d9e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c5d9ed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c5d9ed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c5d9ed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0DA25-3C96-4D2D-9D84-1D0F82428AD2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9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c5d9ed"/>
                </a:gs>
                <a:gs pos="50000">
                  <a:srgbClr val="ffffff"/>
                </a:gs>
                <a:gs pos="100000">
                  <a:srgbClr val="c5d9e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c5d9ed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c5d9ed"/>
                </a:gs>
                <a:gs pos="50000">
                  <a:srgbClr val="ffffff"/>
                </a:gs>
                <a:gs pos="100000">
                  <a:srgbClr val="c5d9e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5d9ed"/>
                </a:gs>
                <a:gs pos="50000">
                  <a:srgbClr val="ffffff"/>
                </a:gs>
                <a:gs pos="100000">
                  <a:srgbClr val="c5d9e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c5d9ed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c5d9ed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c5d9ed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21E86-CFA8-4A15-B4A5-0ED9F8450301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cccc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3.pn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3.pn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9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-4680" y="-1440"/>
            <a:ext cx="9148680" cy="685944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2916360" y="1298520"/>
            <a:ext cx="3836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nstantia"/>
              </a:rPr>
              <a:t>CHERNIVTS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126600" y="4875120"/>
            <a:ext cx="302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Viribus Unit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9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3860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STRATEGIC GOALS: </a:t>
            </a:r>
            <a:r>
              <a:rPr b="1" i="1" lang="en-US" sz="2300" spc="-1" strike="noStrike">
                <a:solidFill>
                  <a:srgbClr val="000000"/>
                </a:solidFill>
                <a:latin typeface="Times New Roman"/>
              </a:rPr>
              <a:t>CRITICAL QUESTION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300" spc="-1" strike="noStrike">
                <a:solidFill>
                  <a:srgbClr val="000000"/>
                </a:solidFill>
                <a:latin typeface="Times New Roman"/>
              </a:rPr>
              <a:t>А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3860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Needs and desires of people who live, work and visit Chernivtsi could be better satisfied by the tourism policy. Tourism is essential for Chernivtsi economy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3860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611280" y="2906640"/>
            <a:ext cx="7416360" cy="3424680"/>
            <a:chOff x="611280" y="2906640"/>
            <a:chExt cx="7416360" cy="3424680"/>
          </a:xfrm>
        </p:grpSpPr>
        <p:sp>
          <p:nvSpPr>
            <p:cNvPr id="159" name=""/>
            <p:cNvSpPr/>
            <p:nvPr/>
          </p:nvSpPr>
          <p:spPr>
            <a:xfrm>
              <a:off x="611280" y="3589200"/>
              <a:ext cx="3709080" cy="2742120"/>
            </a:xfrm>
            <a:prstGeom prst="ellipse">
              <a:avLst/>
            </a:prstGeom>
            <a:solidFill>
              <a:srgbClr val="000066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66666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59400" rIns="59400" tIns="29880" bIns="29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6128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c5d9ed"/>
                  </a:solidFill>
                  <a:latin typeface="Times New Roman"/>
                </a:rPr>
                <a:t> </a:t>
              </a:r>
              <a:r>
                <a:rPr b="1" lang="en-US" sz="1800" spc="-1" strike="noStrike">
                  <a:solidFill>
                    <a:srgbClr val="c5d9ed"/>
                  </a:solidFill>
                  <a:latin typeface="Times New Roman"/>
                </a:rPr>
                <a:t>Project an image o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128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5d9ed"/>
                  </a:solidFill>
                  <a:latin typeface="Times New Roman"/>
                </a:rPr>
                <a:t>Chernivtsi as of a city with tourism potential that attracts visitors, gives profits and mak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6128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5d9ed"/>
                  </a:solidFill>
                  <a:latin typeface="Times New Roman"/>
                </a:rPr>
                <a:t>each citizen proud of tha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6128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381200" y="3651480"/>
              <a:ext cx="3646440" cy="2679840"/>
            </a:xfrm>
            <a:prstGeom prst="ellipse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66666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59400" rIns="59400" tIns="29880" bIns="29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5d9ed"/>
                  </a:solidFill>
                  <a:latin typeface="Times New Roman"/>
                </a:rPr>
                <a:t>Create conditions in order to stipulate tourism attractiveness of Chernivtsi by innovative attractive products and services promotion and introduc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032920" y="3430800"/>
              <a:ext cx="4359600" cy="432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926680" y="3430800"/>
              <a:ext cx="0" cy="21888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032920" y="3430800"/>
              <a:ext cx="0" cy="21276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392160" y="3352320"/>
              <a:ext cx="1522080" cy="233280"/>
            </a:xfrm>
            <a:prstGeom prst="rect">
              <a:avLst/>
            </a:prstGeom>
            <a:noFill/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9400" rIns="59400" tIns="29880" bIns="29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6600"/>
                  </a:solidFill>
                  <a:latin typeface="Times New Roman"/>
                </a:rPr>
                <a:t>Strategic goal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88000" y="2906640"/>
              <a:ext cx="4139640" cy="37656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9400" rIns="59400" tIns="29880" bIns="298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Tourism developm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8244000" y="333360"/>
            <a:ext cx="601560" cy="64764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HERNIVTSI COMPETITIVENES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VELOPMENT STRATE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9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RATEGIC GOALS: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RITICAL QUES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ernivtsi offers excellent conditions for investors due to favourable geographic location (cross-border region) that enables good access to national and international mark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395280" y="2855880"/>
            <a:ext cx="7978680" cy="3250800"/>
            <a:chOff x="395280" y="2855880"/>
            <a:chExt cx="7978680" cy="3250800"/>
          </a:xfrm>
        </p:grpSpPr>
        <p:sp>
          <p:nvSpPr>
            <p:cNvPr id="170" name=""/>
            <p:cNvSpPr/>
            <p:nvPr/>
          </p:nvSpPr>
          <p:spPr>
            <a:xfrm>
              <a:off x="395280" y="3805200"/>
              <a:ext cx="2955240" cy="2298960"/>
            </a:xfrm>
            <a:prstGeom prst="ellipse">
              <a:avLst/>
            </a:prstGeom>
            <a:solidFill>
              <a:srgbClr val="000066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66666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5d9ed"/>
                  </a:solidFill>
                  <a:latin typeface="Times New Roman"/>
                </a:rPr>
                <a:t>Create and promo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5d9ed"/>
                  </a:solidFill>
                  <a:latin typeface="Times New Roman"/>
                </a:rPr>
                <a:t>positive image o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5d9ed"/>
                  </a:solidFill>
                  <a:latin typeface="Times New Roman"/>
                </a:rPr>
                <a:t>Chernivtsi f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5d9ed"/>
                  </a:solidFill>
                  <a:latin typeface="Times New Roman"/>
                </a:rPr>
                <a:t>development o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5d9ed"/>
                  </a:solidFill>
                  <a:latin typeface="Times New Roman"/>
                </a:rPr>
                <a:t>investments and busin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054240" y="3871440"/>
              <a:ext cx="2807280" cy="2233080"/>
            </a:xfrm>
            <a:prstGeom prst="ellipse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66666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5d9ed"/>
                  </a:solidFill>
                  <a:latin typeface="Times New Roman"/>
                </a:rPr>
                <a:t>Create condition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5d9ed"/>
                  </a:solidFill>
                  <a:latin typeface="Times New Roman"/>
                </a:rPr>
                <a:t>for investing especiall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5d9ed"/>
                  </a:solidFill>
                  <a:latin typeface="Times New Roman"/>
                </a:rPr>
                <a:t>for FD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601240" y="3871440"/>
              <a:ext cx="2772720" cy="223524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66666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5d9ed"/>
                  </a:solidFill>
                  <a:latin typeface="Times New Roman"/>
                </a:rPr>
                <a:t>Start the syste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5d9ed"/>
                  </a:solidFill>
                  <a:latin typeface="Times New Roman"/>
                </a:rPr>
                <a:t>of investm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5d9ed"/>
                  </a:solidFill>
                  <a:latin typeface="Times New Roman"/>
                </a:rPr>
                <a:t>accompanim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045800" y="3675240"/>
              <a:ext cx="5307120" cy="2412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252480" y="3740040"/>
              <a:ext cx="0" cy="23040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299840" y="3675240"/>
              <a:ext cx="0" cy="19512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045800" y="3675240"/>
              <a:ext cx="0" cy="23328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352920" y="3575520"/>
              <a:ext cx="1577880" cy="248040"/>
            </a:xfrm>
            <a:prstGeom prst="rect">
              <a:avLst/>
            </a:prstGeom>
            <a:noFill/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480" rIns="60480" tIns="30240" bIns="30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6600"/>
                  </a:solidFill>
                  <a:latin typeface="Times New Roman"/>
                </a:rPr>
                <a:t>Strategic goal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497760" y="2855880"/>
              <a:ext cx="4594680" cy="6930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Conditions for investmen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developm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8244000" y="333360"/>
            <a:ext cx="601560" cy="64764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HERNIVTSI COMPETITIVENES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VELOPMENT STRATE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9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HERNIVTSI COMPETITIVENES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VELOPMENT STRATE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TRATEGIC GOALS: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CRITICAL QUESTION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ll and medium enterprises are dominating in Chernivtsi economy. The success of these enterprises depends mostly on the financial assets accessibility. In order to constantly develop enterprises need even more - access to information, local authority support, investments into new technologies, cooperation with other companies and access to new marke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250920" y="2880360"/>
            <a:ext cx="8642160" cy="3444480"/>
            <a:chOff x="250920" y="2880360"/>
            <a:chExt cx="8642160" cy="3444480"/>
          </a:xfrm>
        </p:grpSpPr>
        <p:sp>
          <p:nvSpPr>
            <p:cNvPr id="184" name=""/>
            <p:cNvSpPr/>
            <p:nvPr/>
          </p:nvSpPr>
          <p:spPr>
            <a:xfrm>
              <a:off x="250920" y="3913560"/>
              <a:ext cx="3142800" cy="2410920"/>
            </a:xfrm>
            <a:prstGeom prst="ellipse">
              <a:avLst/>
            </a:prstGeom>
            <a:solidFill>
              <a:srgbClr val="000066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66666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11520" rIns="11520" tIns="28800" bIns="28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5d9ed"/>
                  </a:solidFill>
                  <a:latin typeface="Times New Roman"/>
                </a:rPr>
                <a:t>Create a favour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5d9ed"/>
                  </a:solidFill>
                  <a:latin typeface="Times New Roman"/>
                </a:rPr>
                <a:t>business environm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5d9ed"/>
                  </a:solidFill>
                  <a:latin typeface="Times New Roman"/>
                </a:rPr>
                <a:t>and image of the cit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5d9ed"/>
                  </a:solidFill>
                  <a:latin typeface="Times New Roman"/>
                </a:rPr>
                <a:t>where business work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5d9ed"/>
                  </a:solidFill>
                  <a:latin typeface="Times New Roman"/>
                </a:rPr>
                <a:t>successfull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079440" y="3850920"/>
              <a:ext cx="3142440" cy="2473920"/>
            </a:xfrm>
            <a:prstGeom prst="ellipse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66666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11520" rIns="11520" tIns="28800" bIns="28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5d9ed"/>
                  </a:solidFill>
                  <a:latin typeface="Times New Roman"/>
                </a:rPr>
                <a:t>Integrat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5d9ed"/>
                  </a:solidFill>
                  <a:latin typeface="Times New Roman"/>
                </a:rPr>
                <a:t>“</a:t>
              </a:r>
              <a:r>
                <a:rPr b="1" lang="en-US" sz="1600" spc="-1" strike="noStrike">
                  <a:solidFill>
                    <a:srgbClr val="c5d9ed"/>
                  </a:solidFill>
                  <a:latin typeface="Times New Roman"/>
                </a:rPr>
                <a:t>Economy of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5d9ed"/>
                  </a:solidFill>
                  <a:latin typeface="Times New Roman"/>
                </a:rPr>
                <a:t>Knowledge” into the cit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5d9ed"/>
                  </a:solidFill>
                  <a:latin typeface="Times New Roman"/>
                </a:rPr>
                <a:t>business environment,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5d9ed"/>
                  </a:solidFill>
                  <a:latin typeface="Times New Roman"/>
                </a:rPr>
                <a:t>cooperation of research a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5d9ed"/>
                  </a:solidFill>
                  <a:latin typeface="Times New Roman"/>
                </a:rPr>
                <a:t>productive sector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907600" y="3850920"/>
              <a:ext cx="2985480" cy="247392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66666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11520" rIns="11520" tIns="28800" bIns="28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5d9ed"/>
                  </a:solidFill>
                  <a:latin typeface="Times New Roman"/>
                </a:rPr>
                <a:t>Develop technic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5d9ed"/>
                  </a:solidFill>
                  <a:latin typeface="Times New Roman"/>
                </a:rPr>
                <a:t>infrastructure in ord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5d9ed"/>
                  </a:solidFill>
                  <a:latin typeface="Times New Roman"/>
                </a:rPr>
                <a:t>to support developme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5d9ed"/>
                  </a:solidFill>
                  <a:latin typeface="Times New Roman"/>
                </a:rPr>
                <a:t>of economy and qualit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5d9ed"/>
                  </a:solidFill>
                  <a:latin typeface="Times New Roman"/>
                </a:rPr>
                <a:t>of liv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772640" y="3630960"/>
              <a:ext cx="5208840" cy="900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746760" y="3659760"/>
              <a:ext cx="0" cy="25740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820760" y="3659760"/>
              <a:ext cx="0" cy="25740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772640" y="3630960"/>
              <a:ext cx="0" cy="25740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981120" y="3467160"/>
              <a:ext cx="1536120" cy="275760"/>
            </a:xfrm>
            <a:prstGeom prst="rect">
              <a:avLst/>
            </a:prstGeom>
            <a:noFill/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800" bIns="28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6600"/>
                  </a:solidFill>
                  <a:latin typeface="Times New Roman"/>
                </a:rPr>
                <a:t>Strategic goal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021560" y="2880360"/>
              <a:ext cx="4717080" cy="51552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7600" rIns="57600" tIns="28800" bIns="28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Business infrastructure developm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8244000" y="333360"/>
            <a:ext cx="601560" cy="647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9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1619280" y="3040200"/>
            <a:ext cx="2809800" cy="1973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95" name=""/>
          <p:cNvSpPr/>
          <p:nvPr/>
        </p:nvSpPr>
        <p:spPr>
          <a:xfrm>
            <a:off x="1042920" y="1844640"/>
            <a:ext cx="7632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4440240" y="3654360"/>
            <a:ext cx="3084480" cy="1935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97" name="" descr=""/>
          <p:cNvPicPr/>
          <p:nvPr/>
        </p:nvPicPr>
        <p:blipFill>
          <a:blip r:embed="rId3"/>
          <a:stretch/>
        </p:blipFill>
        <p:spPr>
          <a:xfrm>
            <a:off x="5940360" y="1712880"/>
            <a:ext cx="2952720" cy="1936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URIST CHERNIVT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276720" y="5631120"/>
            <a:ext cx="532908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The state register of monuments of architecture totals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689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monuments and objects of the cultural heritance,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24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of national significance.</a:t>
            </a:r>
            <a:r>
              <a:rPr b="0" lang="uk-UA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68360" y="1573200"/>
            <a:ext cx="5400720" cy="13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First of all tourist potential of the city caused by presence of considerable quantity of monuments of architecture from different epoch and the ethnic cultures, by a rich palette of local customs and the ceremonies, traditional national crafts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68360" y="1316160"/>
            <a:ext cx="828036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7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Chernivtsi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– one of several cities of Ukraine with city building such quality and value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9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NANCE AND CREDIT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138320" y="1483560"/>
            <a:ext cx="588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veloped finance and credit system is established in the ci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23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112040" y="205992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anks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55640" y="2726640"/>
            <a:ext cx="395928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r January 1, 2010 56 subsidiaries, branches and representative offices of Ukrainian banks  are located in Chernivtsi. They provide a wide range of finance and credit services for both population and businessm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55640" y="53802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35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an societies and insurance companies work in Chernivts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8244000" y="333360"/>
            <a:ext cx="601560" cy="64764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4788000" y="2060640"/>
            <a:ext cx="3960720" cy="3268440"/>
          </a:xfrm>
          <a:prstGeom prst="rect">
            <a:avLst/>
          </a:prstGeom>
          <a:ln w="9360">
            <a:solidFill>
              <a:srgbClr val="000080"/>
            </a:solidFill>
            <a:miter/>
          </a:ln>
        </p:spPr>
      </p:pic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9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DICATORS OF ECONOMICAL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D SOCIAL DEVELOPM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539640" y="4797360"/>
          <a:ext cx="8229600" cy="126360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792360"/>
                <a:gridCol w="647640"/>
                <a:gridCol w="792000"/>
                <a:gridCol w="720720"/>
                <a:gridCol w="792360"/>
                <a:gridCol w="925560"/>
                <a:gridCol w="637920"/>
                <a:gridCol w="760680"/>
              </a:tblGrid>
              <a:tr h="5644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99"/>
                      </a:solidFill>
                    </a:lnR>
                    <a:lnT>
                      <a:noFill/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ffcc99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nemployed for January 1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ousand peop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>
                      <a:noFill/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ffcc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mployees demand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ousand peop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>
                      <a:noFill/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ffcc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mployees per 1 vacancy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op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99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ffcc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4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</a:t>
                      </a:r>
                      <a:r>
                        <a:rPr b="1" lang="uk-UA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</a:t>
                      </a:r>
                      <a:r>
                        <a:rPr b="1" lang="uk-UA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r>
                        <a:rPr b="1" lang="uk-UA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99"/>
                      </a:solidFill>
                    </a:lnL>
                    <a:lnR>
                      <a:noFill/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744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ernivts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3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6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1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2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99"/>
                      </a:solidFill>
                    </a:lnL>
                    <a:lnR>
                      <a:noFill/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99ccff"/>
                    </a:solidFill>
                  </a:tcPr>
                </a:tc>
              </a:tr>
            </a:tbl>
          </a:graphicData>
        </a:graphic>
      </p:graphicFrame>
      <p:sp>
        <p:nvSpPr>
          <p:cNvPr id="212" name=""/>
          <p:cNvSpPr/>
          <p:nvPr/>
        </p:nvSpPr>
        <p:spPr>
          <a:xfrm>
            <a:off x="2987640" y="1413360"/>
            <a:ext cx="576108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ccording to the expert investigation of the “Focus” journal the city of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hernivts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has gained the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rst plac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in the rating of comfort of Ukrainian cities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ng cities with population from 250 thousand to 500 thousand citizens. Tourist and investment attractiveness, infrastructure development, ecological safety and other criteria were taken into account while evalu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labour sources of the city could be described as highly qualifie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11280" y="4220280"/>
            <a:ext cx="820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emand and supply of labour sources in Chernivtsi in 2007-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39640" y="1758960"/>
            <a:ext cx="2448000" cy="1670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8244000" y="333360"/>
            <a:ext cx="601560" cy="647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9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ITY BUDG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7084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33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comes of Chernivtsi city budget in 2009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UAH 490.7 mill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33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xpenses of Chernivtsi city budget in 2009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UAH 485.2 mill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233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33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comes and expenses dynamics of Chernivtsi city budget in 2007-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33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Transfers included), UAH mill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33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8244000" y="333360"/>
            <a:ext cx="601560" cy="647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9" name=""/>
          <p:cNvGraphicFramePr/>
          <p:nvPr/>
        </p:nvGraphicFramePr>
        <p:xfrm>
          <a:off x="468360" y="3019320"/>
          <a:ext cx="8218440" cy="34401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8360" y="3019320"/>
                    <a:ext cx="8218440" cy="34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9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VERAGE W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17000" cy="11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verage wages in 2009: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AH 1643 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verage wages by sectors of econom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 Chernivtsi in 2005-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8244000" y="333360"/>
            <a:ext cx="601560" cy="647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4" name=""/>
          <p:cNvGraphicFramePr/>
          <p:nvPr/>
        </p:nvGraphicFramePr>
        <p:xfrm>
          <a:off x="539640" y="2714760"/>
          <a:ext cx="8280360" cy="37274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9640" y="2714760"/>
                    <a:ext cx="8280360" cy="372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9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FERENCE DATA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 ACCOUNTS AND BA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565440" y="1844280"/>
            <a:ext cx="4818240" cy="19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and tax rate: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 % of allotment monetary assess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ent payment for land: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t less than land tax rate and no more than 12 % of allotment monetary assessmen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674800" y="3907800"/>
            <a:ext cx="294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ICE ON ELECTRIC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684360" y="1773360"/>
            <a:ext cx="2592360" cy="1944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30" name=""/>
          <p:cNvSpPr/>
          <p:nvPr/>
        </p:nvSpPr>
        <p:spPr>
          <a:xfrm>
            <a:off x="2768760" y="4339440"/>
            <a:ext cx="527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For January 1,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2010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exchange rate USD 1=UAH 7.9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770040" y="4676760"/>
          <a:ext cx="7346880" cy="1430280"/>
        </p:xfrm>
        <a:graphic>
          <a:graphicData uri="http://schemas.openxmlformats.org/drawingml/2006/table">
            <a:tbl>
              <a:tblPr/>
              <a:tblGrid>
                <a:gridCol w="5279760"/>
                <a:gridCol w="2067120"/>
              </a:tblGrid>
              <a:tr h="649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ustomers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99"/>
                      </a:solidFill>
                    </a:lnR>
                    <a:lnT>
                      <a:noFill/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ice (UAH per kWt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99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0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pul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24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>
                      <a:noFill/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0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terprises of category 1 and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4732-0,627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>
                      <a:noFill/>
                    </a:lnR>
                    <a:lnT w="5760">
                      <a:solidFill>
                        <a:srgbClr val="ffff99"/>
                      </a:solidFill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8244000" y="333360"/>
            <a:ext cx="601560" cy="647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9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WATER SUPPLY AND SEWA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395280" y="1557360"/>
          <a:ext cx="8218440" cy="1633680"/>
        </p:xfrm>
        <a:graphic>
          <a:graphicData uri="http://schemas.openxmlformats.org/drawingml/2006/table">
            <a:tbl>
              <a:tblPr/>
              <a:tblGrid>
                <a:gridCol w="4297320"/>
                <a:gridCol w="1947960"/>
                <a:gridCol w="1973160"/>
              </a:tblGrid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ustomers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99"/>
                      </a:solidFill>
                    </a:lnR>
                    <a:lnT>
                      <a:noFill/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ater suppl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UAH per m</a:t>
                      </a:r>
                      <a:r>
                        <a:rPr b="1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>
                      <a:noFill/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w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UAH per m</a:t>
                      </a:r>
                      <a:r>
                        <a:rPr b="1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pulation (fixed tariff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,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8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>
                      <a:noFill/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udg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5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>
                      <a:noFill/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th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>
                      <a:noFill/>
                    </a:lnR>
                    <a:lnT w="5760">
                      <a:solidFill>
                        <a:srgbClr val="ffff99"/>
                      </a:solidFill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395280" y="4292640"/>
          <a:ext cx="8209080" cy="2344680"/>
        </p:xfrm>
        <a:graphic>
          <a:graphicData uri="http://schemas.openxmlformats.org/drawingml/2006/table">
            <a:tbl>
              <a:tblPr/>
              <a:tblGrid>
                <a:gridCol w="5359320"/>
                <a:gridCol w="28497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ustomers: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99"/>
                      </a:solidFill>
                    </a:lnR>
                    <a:lnT>
                      <a:noFill/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ice (UAH per 1000 m</a:t>
                      </a:r>
                      <a:r>
                        <a:rPr b="1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pulation (fixed tariff)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>
                      <a:noFill/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less 2500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3,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>
                      <a:noFill/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2500-6000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32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>
                      <a:noFill/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6000-12000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98,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>
                      <a:noFill/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more 12000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90,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>
                      <a:noFill/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terprises, organizations and institu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46,7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>
                      <a:noFill/>
                    </a:lnR>
                    <a:lnT w="5760">
                      <a:solidFill>
                        <a:srgbClr val="ffff99"/>
                      </a:solidFill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236" name=""/>
          <p:cNvSpPr/>
          <p:nvPr/>
        </p:nvSpPr>
        <p:spPr>
          <a:xfrm>
            <a:off x="3098160" y="3572640"/>
            <a:ext cx="30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ICE ON NATURAL G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8244000" y="333360"/>
            <a:ext cx="601560" cy="64764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3489480" y="1196280"/>
            <a:ext cx="527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For January 1,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2010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exchange rate USD 1=UAH 7.9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489480" y="3945960"/>
            <a:ext cx="527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For January 1,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2010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exchange rate USD 1=UAH 7.9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9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M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23640" y="1412640"/>
            <a:ext cx="8507160" cy="17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avourable climate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derately continental, moist, warm in summer and mild in wint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verage temperature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anuary -5 °C, April +9 °C, July +19 °C, October +9 °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rost free period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60-265 days, vegetation period – 215-220 day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Yearly rainfall amount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50-750 m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908000" y="3067200"/>
            <a:ext cx="5328000" cy="3386160"/>
          </a:xfrm>
          <a:prstGeom prst="rect">
            <a:avLst/>
          </a:prstGeom>
          <a:ln w="54000">
            <a:solidFill>
              <a:srgbClr val="c5d9ed"/>
            </a:solidFill>
            <a:miter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8244000" y="333360"/>
            <a:ext cx="601560" cy="647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9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OCIAL SPHER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OUSING BUIL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159080" y="2111400"/>
            <a:ext cx="0" cy="0"/>
          </a:xfrm>
          <a:prstGeom prst="line">
            <a:avLst/>
          </a:prstGeom>
          <a:ln cap="rnd"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468360" y="3835440"/>
          <a:ext cx="8351640" cy="2579760"/>
        </p:xfrm>
        <a:graphic>
          <a:graphicData uri="http://schemas.openxmlformats.org/drawingml/2006/table">
            <a:tbl>
              <a:tblPr/>
              <a:tblGrid>
                <a:gridCol w="452520"/>
                <a:gridCol w="3363840"/>
                <a:gridCol w="1627200"/>
                <a:gridCol w="755640"/>
                <a:gridCol w="755640"/>
                <a:gridCol w="755640"/>
                <a:gridCol w="641160"/>
              </a:tblGrid>
              <a:tr h="3070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/п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ffcc99"/>
                    </a:solidFill>
                  </a:tcPr>
                </a:tc>
                <a:tc gridSpan="2"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scrip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ffcc99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ea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ffcc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9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03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070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99ccf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partment buildings accepted in exploitation, including apartments in departmental subordination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uant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42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tal area, 1000 m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1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8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070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ffff99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dividual buildings accepted in exploitation, housing estates, separated apartments (flat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uant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2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tal area, 1000 m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5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9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99cc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76240"/>
                          <a:tab algn="l" pos="1752480"/>
                          <a:tab algn="l" pos="2629080"/>
                          <a:tab algn="l" pos="3505320"/>
                          <a:tab algn="l" pos="4381560"/>
                          <a:tab algn="l" pos="5257800"/>
                          <a:tab algn="l" pos="6134040"/>
                          <a:tab algn="l" pos="7010280"/>
                          <a:tab algn="l" pos="7886880"/>
                          <a:tab algn="l" pos="8763120"/>
                          <a:tab algn="l" pos="963936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using buildings accepted in exploitation of all kinds of proper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76240"/>
                          <a:tab algn="l" pos="1752480"/>
                          <a:tab algn="l" pos="2629080"/>
                          <a:tab algn="l" pos="3505320"/>
                          <a:tab algn="l" pos="4381560"/>
                          <a:tab algn="l" pos="5257800"/>
                          <a:tab algn="l" pos="6134040"/>
                          <a:tab algn="l" pos="7010280"/>
                          <a:tab algn="l" pos="7886880"/>
                          <a:tab algn="l" pos="8763120"/>
                          <a:tab algn="l" pos="9639360"/>
                          <a:tab algn="l" pos="105156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tal area, 1000 m2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99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8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2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7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03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9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99ccff"/>
                    </a:solidFill>
                  </a:tcPr>
                </a:tc>
              </a:tr>
            </a:tbl>
          </a:graphicData>
        </a:graphic>
      </p:graphicFrame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468360" y="1484280"/>
            <a:ext cx="2663640" cy="2000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44" name=""/>
          <p:cNvSpPr/>
          <p:nvPr/>
        </p:nvSpPr>
        <p:spPr>
          <a:xfrm>
            <a:off x="3274920" y="1587240"/>
            <a:ext cx="5329440" cy="9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94 houses were built in 2009 with the total area of    89.8 thousand square met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556000" y="3074400"/>
            <a:ext cx="619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ished Housing buildings accep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 exploitation in 2006-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8244000" y="333360"/>
            <a:ext cx="601560" cy="647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9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904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DU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-4568760" y="143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708360" y="1477800"/>
            <a:ext cx="5040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hernivtsi is a well known scientific and educational centre in Ukraine and abroad. Research institutions work in Chernivtsi in the field of materials research, thermoelectric research, medical and ecological proble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684360" y="3891960"/>
            <a:ext cx="5548320" cy="19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1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51 institutions of secondary education work in Chernivtsi, about 22074 pupils study ther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re are 26 institutions of higher education in the city including 12 institutions of III-IV accreditation level and 14 institutions of I-II accreditation leve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rcRect l="3137" t="1994" r="3137" b="1994"/>
          <a:stretch/>
        </p:blipFill>
        <p:spPr>
          <a:xfrm>
            <a:off x="6350040" y="2781360"/>
            <a:ext cx="2192400" cy="3530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8244000" y="333360"/>
            <a:ext cx="601560" cy="64764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3"/>
          <a:stretch/>
        </p:blipFill>
        <p:spPr>
          <a:xfrm>
            <a:off x="684360" y="930240"/>
            <a:ext cx="2950920" cy="2859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9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EALTH C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538200" y="1808280"/>
            <a:ext cx="3313080" cy="2484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56" name=""/>
          <p:cNvSpPr/>
          <p:nvPr/>
        </p:nvSpPr>
        <p:spPr>
          <a:xfrm>
            <a:off x="-4635360" y="20829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924360" y="1702080"/>
            <a:ext cx="4751280" cy="25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cal service in Chernivtsi is provided by 38 medical institutions including: 16 institutions of municipal ownership, 19 institutions of Chernivetska oblast ownership and 3 - institutional. Capacity of medical institutions in Chernivtsi is 3185 visits per one shift. Number of beds in out-patients department is 98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68360" y="4554360"/>
            <a:ext cx="82803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cal personnel preparation is conducted by Bukovynian State Medical University and basic schoo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8244000" y="333360"/>
            <a:ext cx="601560" cy="647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9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ULTURE AND ENTERTAI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01560" y="1312560"/>
            <a:ext cx="461808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he following institutions work in the city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8 sports clubs managed by the Department of Culture of Chernivtsi City Council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5 schools of aesthetic education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3 libraries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 cinema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. Kobylyanska Music and Drama Theatr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716360" y="4694400"/>
            <a:ext cx="3888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66760" indent="-26676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8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hernivetska oblast's philharmonic society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8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 park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8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ppet-show Theatr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8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"Academic" Pal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8244000" y="333360"/>
            <a:ext cx="601560" cy="64764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2">
            <a:lum bright="12000"/>
          </a:blip>
          <a:stretch/>
        </p:blipFill>
        <p:spPr>
          <a:xfrm>
            <a:off x="5364000" y="1341360"/>
            <a:ext cx="3024360" cy="3167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65" name="" descr=""/>
          <p:cNvPicPr/>
          <p:nvPr/>
        </p:nvPicPr>
        <p:blipFill>
          <a:blip r:embed="rId3"/>
          <a:stretch/>
        </p:blipFill>
        <p:spPr>
          <a:xfrm>
            <a:off x="649440" y="3860640"/>
            <a:ext cx="3922560" cy="2494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9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36280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264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veloped networks of cultural, educational and sport institutions function in Chernivts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6440" indent="-226440">
              <a:lnSpc>
                <a:spcPct val="110000"/>
              </a:lnSpc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8 stadium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6440" indent="-226440">
              <a:lnSpc>
                <a:spcPct val="110000"/>
              </a:lnSpc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64 sports gym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6440" indent="-226440">
              <a:lnSpc>
                <a:spcPct val="110000"/>
              </a:lnSpc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 swimming pool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6440" indent="-226440">
              <a:lnSpc>
                <a:spcPct val="110000"/>
              </a:lnSpc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8 football field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6440" indent="-226440">
              <a:lnSpc>
                <a:spcPct val="110000"/>
              </a:lnSpc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87 outdoor sports gym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6440" indent="-226440">
              <a:lnSpc>
                <a:spcPct val="110000"/>
              </a:lnSpc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 equipped ice rink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6440" indent="-226440">
              <a:lnSpc>
                <a:spcPct val="110000"/>
              </a:lnSpc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 motorcycle track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6440" indent="-226440">
              <a:lnSpc>
                <a:spcPct val="110000"/>
              </a:lnSpc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 archery stadiu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995640" y="4858920"/>
            <a:ext cx="446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"Super Cross" International sport centre functions in Chernivtsi. Annually European and World Motorcycle Championships are held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1"/>
          <a:srcRect l="3334" t="3301" r="2223" b="3301"/>
          <a:stretch/>
        </p:blipFill>
        <p:spPr>
          <a:xfrm>
            <a:off x="539640" y="4294080"/>
            <a:ext cx="3240360" cy="2159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70" name="" descr=""/>
          <p:cNvPicPr/>
          <p:nvPr/>
        </p:nvPicPr>
        <p:blipFill>
          <a:blip r:embed="rId2"/>
          <a:stretch/>
        </p:blipFill>
        <p:spPr>
          <a:xfrm>
            <a:off x="8244000" y="333360"/>
            <a:ext cx="601560" cy="64764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/>
          <p:cNvPicPr/>
          <p:nvPr/>
        </p:nvPicPr>
        <p:blipFill>
          <a:blip r:embed="rId3"/>
          <a:stretch/>
        </p:blipFill>
        <p:spPr>
          <a:xfrm>
            <a:off x="4140360" y="1844640"/>
            <a:ext cx="4176720" cy="2782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9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LEADING ENTERPRISES OF CHERNIVT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324000" y="1125360"/>
            <a:ext cx="4319280" cy="532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58480" indent="-2584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233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"Kalynivsky Rynok (Market)" Communal enterpri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8480" indent="-2584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233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"Trembita" Joint Stock Compan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8480" indent="-2584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233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"Chernivtsi Machine-Building Plant" Limited Compan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8480" indent="-2584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233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"Chernivtsi Plant "Industriya" Joint Stock Compan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8480" indent="-2584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233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"Impulse" Joint Stock Compan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8480" indent="-2584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233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"Brick Plant # 3" Joint Stock Compan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8480" indent="-2584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233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"Quartz" Joint Stock Compan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8480" indent="-2584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233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"Chemical Plant" Closed Joint Stock Compan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8480" indent="-2584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233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"Chernivtsi Bread Plant" Joint Stock Compan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8480" indent="-2584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233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"Chernivtsi Oil Plant" Joint Stock Compan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8480" indent="-2584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233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"Chernivtsi emanel plant "Karpaty" Joint Stock Compan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8480" indent="-2584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233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"Arnika" Joint Stock Compan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8480" indent="-2584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233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"Rozma" Limited Compan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8480" indent="-2584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233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"Boyanivka" Limited Compan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8480" indent="-2584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233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"Transmost" Joint Stock Compan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8480" indent="-2584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233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"Chernivtsivodokanal" City Communal Enterpri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rcRect l="1918" t="2800" r="1918" b="4199"/>
          <a:stretch/>
        </p:blipFill>
        <p:spPr>
          <a:xfrm>
            <a:off x="4584600" y="1398600"/>
            <a:ext cx="4240440" cy="2813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75" name="" descr=""/>
          <p:cNvPicPr/>
          <p:nvPr/>
        </p:nvPicPr>
        <p:blipFill>
          <a:blip r:embed="rId2"/>
          <a:stretch/>
        </p:blipFill>
        <p:spPr>
          <a:xfrm>
            <a:off x="8244000" y="333360"/>
            <a:ext cx="601560" cy="647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9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2556000" y="277920"/>
            <a:ext cx="61308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UTHOR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68000" y="4003560"/>
            <a:ext cx="8147160" cy="26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Standing Commissions of the City Council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on legitimacy, human rights, regulations, deputy activity and ethics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on economics, budget and finance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on land relations, architecture and building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on housing, communal economy and environment protection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on labor and social care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on education, science, culture, sport and youth policy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on health care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The city is divided into districts where District Councils work - Shevchenkivska, Pershotravneva and Sadhirska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3103560" y="3330000"/>
            <a:ext cx="434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E-mail:  document@rada.c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www.chernivtsy.eu; www.city.cv.u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9" name=""/>
          <p:cNvGraphicFramePr/>
          <p:nvPr/>
        </p:nvGraphicFramePr>
        <p:xfrm>
          <a:off x="3206880" y="1960560"/>
          <a:ext cx="5402160" cy="1344600"/>
        </p:xfrm>
        <a:graphic>
          <a:graphicData uri="http://schemas.openxmlformats.org/drawingml/2006/table">
            <a:tbl>
              <a:tblPr/>
              <a:tblGrid>
                <a:gridCol w="1871640"/>
                <a:gridCol w="353052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yor o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ernivts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edoruk Mykola Trokhymovyc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l.: 38 (0372) 55 39 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3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ity Counc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creta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eremichuk Troyan Mykolayovyc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l.: 38 (0372) 55 18 8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0" name=""/>
          <p:cNvSpPr/>
          <p:nvPr/>
        </p:nvSpPr>
        <p:spPr>
          <a:xfrm>
            <a:off x="3132000" y="1196280"/>
            <a:ext cx="554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representative authority of Chernivtsi community is Chernivtsi City Council, it includes 60 deputi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8244000" y="333360"/>
            <a:ext cx="601560" cy="64764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2"/>
          <a:stretch/>
        </p:blipFill>
        <p:spPr>
          <a:xfrm>
            <a:off x="538200" y="358920"/>
            <a:ext cx="2521080" cy="350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9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HERNIVTSI CITY CHARACTER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GEOGRAPHIC LO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rea – 153 km2 or 1.9% of the oblast a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pulation – 251,8 thousand peo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539640" y="2997360"/>
            <a:ext cx="4247640" cy="3239640"/>
            <a:chOff x="539640" y="2997360"/>
            <a:chExt cx="4247640" cy="3239640"/>
          </a:xfrm>
        </p:grpSpPr>
        <p:pic>
          <p:nvPicPr>
            <p:cNvPr id="109" name="" descr=""/>
            <p:cNvPicPr/>
            <p:nvPr/>
          </p:nvPicPr>
          <p:blipFill>
            <a:blip r:embed="rId1"/>
            <a:stretch/>
          </p:blipFill>
          <p:spPr>
            <a:xfrm>
              <a:off x="539640" y="2997360"/>
              <a:ext cx="4163400" cy="29282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0" name=""/>
            <p:cNvGrpSpPr/>
            <p:nvPr/>
          </p:nvGrpSpPr>
          <p:grpSpPr>
            <a:xfrm>
              <a:off x="1092960" y="3222720"/>
              <a:ext cx="3694320" cy="3014280"/>
              <a:chOff x="1092960" y="3222720"/>
              <a:chExt cx="3694320" cy="3014280"/>
            </a:xfrm>
          </p:grpSpPr>
          <p:sp>
            <p:nvSpPr>
              <p:cNvPr id="111" name=""/>
              <p:cNvSpPr/>
              <p:nvPr/>
            </p:nvSpPr>
            <p:spPr>
              <a:xfrm>
                <a:off x="3171960" y="4277880"/>
                <a:ext cx="932040" cy="8539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790000" y="3925440"/>
                <a:ext cx="1641600" cy="15573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241000" y="3624120"/>
                <a:ext cx="2410200" cy="22111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584360" y="3222720"/>
                <a:ext cx="3202920" cy="30142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092960" y="4462200"/>
                <a:ext cx="1184760" cy="87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360" rIns="7236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2000 км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3088080" y="3448080"/>
                <a:ext cx="1035720" cy="407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360" rIns="7236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1500 км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3088080" y="3785400"/>
                <a:ext cx="1035720" cy="35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360" rIns="7236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1000 км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3088080" y="4123440"/>
                <a:ext cx="1035720" cy="43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360" rIns="7236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500 км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5003640" y="2925720"/>
            <a:ext cx="3600720" cy="331164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8244000" y="333360"/>
            <a:ext cx="601560" cy="647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9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RANSPORT CONN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1184400" y="1771560"/>
          <a:ext cx="5762520" cy="2552760"/>
        </p:xfrm>
        <a:graphic>
          <a:graphicData uri="http://schemas.openxmlformats.org/drawingml/2006/table">
            <a:tbl>
              <a:tblPr/>
              <a:tblGrid>
                <a:gridCol w="2031840"/>
                <a:gridCol w="1187640"/>
                <a:gridCol w="1355400"/>
                <a:gridCol w="1187640"/>
              </a:tblGrid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yiv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00"/>
                      </a:solidFill>
                    </a:lnR>
                    <a:lnT>
                      <a:noFill/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38  km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>
                      <a:noFill/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agu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>
                      <a:noFill/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0  km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72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vano-Frankivsk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0 km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uchares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74  km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>
                      <a:noFill/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rnopi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0 km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scow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80 km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>
                      <a:noFill/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72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hmelnytsky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0 km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ishinev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0  km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>
                      <a:noFill/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nipropetrovsk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91 km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arsaw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40  km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>
                      <a:noFill/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72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onetsk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40 km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ienn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80  km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>
                      <a:noFill/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viv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0 km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udapes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80  km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>
                      <a:noFill/>
                    </a:lnR>
                    <a:lnT w="5760">
                      <a:solidFill>
                        <a:srgbClr val="ffff00"/>
                      </a:solidFill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</a:tr>
            </a:tbl>
          </a:graphicData>
        </a:graphic>
      </p:graphicFrame>
      <p:sp>
        <p:nvSpPr>
          <p:cNvPr id="123" name=""/>
          <p:cNvSpPr/>
          <p:nvPr/>
        </p:nvSpPr>
        <p:spPr>
          <a:xfrm>
            <a:off x="466920" y="1339200"/>
            <a:ext cx="41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istance to Chernivtsi from other citi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68360" y="4611240"/>
            <a:ext cx="367200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15000"/>
              </a:lnSpc>
              <a:spcAft>
                <a:spcPts val="9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Distance to closest borders crossings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in January 1, 2007 Chernivetska oblas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became a neighbour of the European Union (distance from Chernivtsi to the border with Romania is only 40 km)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9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4067280" y="4579920"/>
          <a:ext cx="4663800" cy="1769760"/>
        </p:xfrm>
        <a:graphic>
          <a:graphicData uri="http://schemas.openxmlformats.org/drawingml/2006/table">
            <a:tbl>
              <a:tblPr/>
              <a:tblGrid>
                <a:gridCol w="1234800"/>
                <a:gridCol w="2544840"/>
                <a:gridCol w="884160"/>
              </a:tblGrid>
              <a:tr h="353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oman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00"/>
                      </a:solidFill>
                    </a:lnR>
                    <a:lnT>
                      <a:noFill/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rub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>
                      <a:noFill/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 k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53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la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stysk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0 k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>
                      <a:noFill/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53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unga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ho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4 k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>
                      <a:noFill/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54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lovak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zhhoro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4 k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>
                      <a:noFill/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53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ldov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malyh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8 k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>
                      <a:noFill/>
                    </a:lnR>
                    <a:lnT w="5760">
                      <a:solidFill>
                        <a:srgbClr val="ffff00"/>
                      </a:solidFill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</a:tr>
            </a:tbl>
          </a:graphicData>
        </a:graphic>
      </p:graphicFrame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8244000" y="333360"/>
            <a:ext cx="601560" cy="647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9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07552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FRUSTRUCTURE OF CHERNIVTSI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68360" y="1560600"/>
            <a:ext cx="2663640" cy="1751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29" name=""/>
          <p:cNvSpPr/>
          <p:nvPr/>
        </p:nvSpPr>
        <p:spPr>
          <a:xfrm>
            <a:off x="3348000" y="2133000"/>
            <a:ext cx="42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unicipal transpor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sists of 46 bus and 10 trolleybus rou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68360" y="3520800"/>
            <a:ext cx="554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ilway transpor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re is direct railway service to Kyiv, Moscow, Minsk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.-Petersburg, Bucharest, Sofia and Warn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5889600" y="2997360"/>
            <a:ext cx="2859120" cy="1833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468360" y="4711680"/>
            <a:ext cx="2448000" cy="144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3" name=""/>
          <p:cNvSpPr/>
          <p:nvPr/>
        </p:nvSpPr>
        <p:spPr>
          <a:xfrm>
            <a:off x="2989440" y="4700520"/>
            <a:ext cx="58305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ir transpor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unicipal enterprise "Chernivtsi" International Airport“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s in the city. The airport has been in municipal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wnership since 2006. It is of high priority for the development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f transport infrastructure of the region.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4"/>
          <a:stretch/>
        </p:blipFill>
        <p:spPr>
          <a:xfrm>
            <a:off x="8244000" y="333360"/>
            <a:ext cx="601560" cy="647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9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DUS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5280" y="1132200"/>
            <a:ext cx="8282160" cy="18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Goods/services sold/rendered in 2009: 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AH 1683.6 million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in industries: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od industry, textile industry, mechanical engineering, electricity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atural gas and water production and distribution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Goods and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ld by sectors of industry in 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8244000" y="333360"/>
            <a:ext cx="601560" cy="647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8" name=""/>
          <p:cNvGraphicFramePr/>
          <p:nvPr/>
        </p:nvGraphicFramePr>
        <p:xfrm>
          <a:off x="539640" y="2403360"/>
          <a:ext cx="8209080" cy="43387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9640" y="2403360"/>
                    <a:ext cx="8209080" cy="433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9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6840" y="549360"/>
            <a:ext cx="73594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umber of small enterprises in Chernivtsi per 10,000 people in 2006-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68360" y="5581080"/>
            <a:ext cx="835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The number of small enterprises in Chernivt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is 94 enterprises per 10,000 people for January 1, 2009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8244000" y="333360"/>
            <a:ext cx="601560" cy="647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3" name=""/>
          <p:cNvGraphicFramePr/>
          <p:nvPr/>
        </p:nvGraphicFramePr>
        <p:xfrm>
          <a:off x="457200" y="1268280"/>
          <a:ext cx="8229600" cy="44373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1268280"/>
                    <a:ext cx="8229600" cy="443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9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INTERNATIONAL TR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26840"/>
            <a:ext cx="764064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Exported in 2009: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 USD 81.3 mill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Imported in 2009: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 USD 71.2 mill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578320" y="2349000"/>
            <a:ext cx="406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Geographic structure of export in 2009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USD mill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8244000" y="333360"/>
            <a:ext cx="601560" cy="647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9" name=""/>
          <p:cNvGraphicFramePr/>
          <p:nvPr/>
        </p:nvGraphicFramePr>
        <p:xfrm>
          <a:off x="395280" y="2205000"/>
          <a:ext cx="7993080" cy="41083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5280" y="2205000"/>
                    <a:ext cx="7993080" cy="41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9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VEST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412640"/>
            <a:ext cx="785988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oreign direct investments in 2009: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D 839.4 thous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oreign direct investments per person: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D 132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otal capital of investors in 2009: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D 32.4 mill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042920" y="2296800"/>
            <a:ext cx="691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Geographic structure of foreign dir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vestments in 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8244000" y="333360"/>
            <a:ext cx="601560" cy="647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5" name=""/>
          <p:cNvGraphicFramePr/>
          <p:nvPr/>
        </p:nvGraphicFramePr>
        <p:xfrm>
          <a:off x="611280" y="2171880"/>
          <a:ext cx="8353440" cy="40654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11280" y="2171880"/>
                    <a:ext cx="8353440" cy="406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4T08:17:39Z</dcterms:created>
  <dc:creator>inv2</dc:creator>
  <dc:description/>
  <dc:language>en-US</dc:language>
  <cp:lastModifiedBy>PublicRel</cp:lastModifiedBy>
  <dcterms:modified xsi:type="dcterms:W3CDTF">2010-07-05T12:30:23Z</dcterms:modified>
  <cp:revision>40</cp:revision>
  <dc:subject/>
  <dc:title>Слайд 1</dc:title>
</cp:coreProperties>
</file>