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4.jpeg" ContentType="image/jpeg"/>
  <Override PartName="/ppt/media/image10.wmf" ContentType="image/x-wmf"/>
  <Override PartName="/ppt/media/image25.jpeg" ContentType="image/jpeg"/>
  <Override PartName="/ppt/media/image5.png" ContentType="image/png"/>
  <Override PartName="/ppt/media/image8.jpeg" ContentType="image/jpeg"/>
  <Override PartName="/ppt/media/image30.png" ContentType="image/png"/>
  <Override PartName="/ppt/media/image13.jpeg" ContentType="image/jpeg"/>
  <Override PartName="/ppt/media/image9.png" ContentType="image/png"/>
  <Override PartName="/ppt/media/image17.jpeg" ContentType="image/jpeg"/>
  <Override PartName="/ppt/media/image3.png" ContentType="image/png"/>
  <Override PartName="/ppt/media/image11.wmf" ContentType="image/x-wmf"/>
  <Override PartName="/ppt/media/image27.png" ContentType="image/png"/>
  <Override PartName="/ppt/media/image12.wmf" ContentType="image/x-wmf"/>
  <Override PartName="/ppt/media/image7.jpeg" ContentType="image/jpeg"/>
  <Override PartName="/ppt/media/image28.jpeg" ContentType="image/jpeg"/>
  <Override PartName="/ppt/media/image6.png" ContentType="image/png"/>
  <Override PartName="/ppt/media/image23.jpeg" ContentType="image/jpeg"/>
  <Override PartName="/ppt/media/image1.jpeg" ContentType="image/jpeg"/>
  <Override PartName="/ppt/media/image14.png" ContentType="image/png"/>
  <Override PartName="/ppt/media/image15.png" ContentType="image/png"/>
  <Override PartName="/ppt/media/image22.png" ContentType="image/png"/>
  <Override PartName="/ppt/media/image24.jpeg" ContentType="image/jpeg"/>
  <Override PartName="/ppt/media/image16.jpeg" ContentType="image/jpeg"/>
  <Override PartName="/ppt/media/image2.jpeg" ContentType="image/jpeg"/>
  <Override PartName="/ppt/media/image18.wmf" ContentType="image/x-wmf"/>
  <Override PartName="/ppt/media/image26.jpeg" ContentType="image/jpeg"/>
  <Override PartName="/ppt/media/image19.wmf" ContentType="image/x-wmf"/>
  <Override PartName="/ppt/media/image20.jpeg" ContentType="image/jpeg"/>
  <Override PartName="/ppt/media/image29.png" ContentType="image/png"/>
  <Override PartName="/ppt/media/image21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09D9-4DD0-4776-8EEC-370EBE10F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7663-74FC-495A-B8A2-7D3E3DE90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58FB-8E26-4597-A9E3-856C88BA5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F99F-29E8-4C35-9846-F09AD5E03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098F1-24C1-4C45-BA5E-81BA9968D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F8554-D56C-47F8-9E27-B59A9CB4E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23184-24E7-41D3-BCB1-CC7CBF347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CCFB9-0272-440E-8F5C-591774645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24BC1-53D9-4074-8D1D-BE76071DD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6437A-E311-451E-AF3D-617E889B4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E2618-FF0A-4178-8DA9-A98223043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DE4F-4AD9-438A-8361-02D695923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2151E-9066-4200-8E70-540D18F27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974B0-D27E-4561-9C23-07A1D81DF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E2A68-F874-44B6-8EE6-68F4E542F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F6A7B-D5E1-4D9A-9743-DEEB04EB3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B10C3-F425-4693-96EF-1B16155D0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4683-4E80-4336-AA03-D942BEA76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0191-2893-4B3A-8921-3A814125B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8B09-6279-44E6-BE09-49233E2CA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361E-2D21-4C33-A0B1-1AAAB8443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B6C1-4B3C-440E-8AD7-3EC3A4898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4E21-E157-4801-B895-324295A51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132E-85D5-4E89-A7C7-A85D8BBE6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c5d9ed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c5d9ed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c5d9ed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c5d9ed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BC173-6B8F-4573-84E9-293C09FD791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c5d9ed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c5d9ed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c5d9ed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c5d9ed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336A2-7DC8-45E3-9955-FB64380E002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cccc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3.pn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3.pn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-4680" y="-1440"/>
            <a:ext cx="9148680" cy="68594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2916360" y="1298520"/>
            <a:ext cx="383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nstantia"/>
              </a:rPr>
              <a:t>CHERNIVTS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126600" y="4875120"/>
            <a:ext cx="302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Viribus Unit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3860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STRATEGIC GOALS: </a:t>
            </a:r>
            <a:r>
              <a:rPr b="1" i="1" lang="en-US" sz="2300" spc="-1" strike="noStrike">
                <a:solidFill>
                  <a:srgbClr val="000000"/>
                </a:solidFill>
                <a:latin typeface="Times New Roman"/>
              </a:rPr>
              <a:t>CRITICAL QUESTION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300" spc="-1" strike="noStrike">
                <a:solidFill>
                  <a:srgbClr val="000000"/>
                </a:solidFill>
                <a:latin typeface="Times New Roman"/>
              </a:rPr>
              <a:t>А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3860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Needs and desires of people who live, work and visit Chernivtsi could be better satisfied by the tourism policy. Tourism is essential for Chernivtsi economy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3860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611280" y="2906640"/>
            <a:ext cx="7416360" cy="3424680"/>
            <a:chOff x="611280" y="2906640"/>
            <a:chExt cx="7416360" cy="3424680"/>
          </a:xfrm>
        </p:grpSpPr>
        <p:sp>
          <p:nvSpPr>
            <p:cNvPr id="159" name=""/>
            <p:cNvSpPr/>
            <p:nvPr/>
          </p:nvSpPr>
          <p:spPr>
            <a:xfrm>
              <a:off x="611280" y="3589200"/>
              <a:ext cx="3709080" cy="2742120"/>
            </a:xfrm>
            <a:prstGeom prst="ellipse">
              <a:avLst/>
            </a:prstGeom>
            <a:solidFill>
              <a:srgbClr val="000066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6666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9400" rIns="59400" tIns="29880" bIns="29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128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c5d9ed"/>
                  </a:solidFill>
                  <a:latin typeface="Times New Roman"/>
                </a:rPr>
                <a:t> </a:t>
              </a:r>
              <a:r>
                <a:rPr b="1" lang="en-US" sz="1800" spc="-1" strike="noStrike">
                  <a:solidFill>
                    <a:srgbClr val="c5d9ed"/>
                  </a:solidFill>
                  <a:latin typeface="Times New Roman"/>
                </a:rPr>
                <a:t>Project an image o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128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5d9ed"/>
                  </a:solidFill>
                  <a:latin typeface="Times New Roman"/>
                </a:rPr>
                <a:t>Chernivtsi as of a city with tourism potential that attracts visitors, gives profits and mak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128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5d9ed"/>
                  </a:solidFill>
                  <a:latin typeface="Times New Roman"/>
                </a:rPr>
                <a:t>each citizen proud of tha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128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381200" y="3651480"/>
              <a:ext cx="3646440" cy="267984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6666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9400" rIns="59400" tIns="29880" bIns="29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5d9ed"/>
                  </a:solidFill>
                  <a:latin typeface="Times New Roman"/>
                </a:rPr>
                <a:t>Create conditions in order to stipulate tourism attractiveness of Chernivtsi by innovative attractive products and services promotion and introdu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032920" y="3430800"/>
              <a:ext cx="4359600" cy="432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926680" y="3430800"/>
              <a:ext cx="0" cy="21888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032920" y="3430800"/>
              <a:ext cx="0" cy="21276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392160" y="3352320"/>
              <a:ext cx="1522080" cy="233280"/>
            </a:xfrm>
            <a:prstGeom prst="rect">
              <a:avLst/>
            </a:prstGeom>
            <a:noFill/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9400" rIns="59400" tIns="29880" bIns="29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6600"/>
                  </a:solidFill>
                  <a:latin typeface="Times New Roman"/>
                </a:rPr>
                <a:t>Strategic goal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88000" y="2906640"/>
              <a:ext cx="4139640" cy="37656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9400" rIns="59400" tIns="29880" bIns="298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Tourism develop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8244000" y="333360"/>
            <a:ext cx="601560" cy="64764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ERNIVTSI COMPETITIVENES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VELOPMENT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RATEGIC GOALS: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RITICAL QUES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ernivtsi offers excellent conditions for investors due to favourable geographic location (cross-border region) that enables good access to national and international mark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395280" y="2855880"/>
            <a:ext cx="7978680" cy="3250800"/>
            <a:chOff x="395280" y="2855880"/>
            <a:chExt cx="7978680" cy="3250800"/>
          </a:xfrm>
        </p:grpSpPr>
        <p:sp>
          <p:nvSpPr>
            <p:cNvPr id="170" name=""/>
            <p:cNvSpPr/>
            <p:nvPr/>
          </p:nvSpPr>
          <p:spPr>
            <a:xfrm>
              <a:off x="395280" y="3805200"/>
              <a:ext cx="2955240" cy="2298960"/>
            </a:xfrm>
            <a:prstGeom prst="ellipse">
              <a:avLst/>
            </a:prstGeom>
            <a:solidFill>
              <a:srgbClr val="000066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6666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5d9ed"/>
                  </a:solidFill>
                  <a:latin typeface="Times New Roman"/>
                </a:rPr>
                <a:t>Create and promo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5d9ed"/>
                  </a:solidFill>
                  <a:latin typeface="Times New Roman"/>
                </a:rPr>
                <a:t>positive image o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5d9ed"/>
                  </a:solidFill>
                  <a:latin typeface="Times New Roman"/>
                </a:rPr>
                <a:t>Chernivtsi f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5d9ed"/>
                  </a:solidFill>
                  <a:latin typeface="Times New Roman"/>
                </a:rPr>
                <a:t>development o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5d9ed"/>
                  </a:solidFill>
                  <a:latin typeface="Times New Roman"/>
                </a:rPr>
                <a:t>investments and busin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054240" y="3871440"/>
              <a:ext cx="2807280" cy="223308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6666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5d9ed"/>
                  </a:solidFill>
                  <a:latin typeface="Times New Roman"/>
                </a:rPr>
                <a:t>Create conditio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5d9ed"/>
                  </a:solidFill>
                  <a:latin typeface="Times New Roman"/>
                </a:rPr>
                <a:t>for investing especiall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5d9ed"/>
                  </a:solidFill>
                  <a:latin typeface="Times New Roman"/>
                </a:rPr>
                <a:t>for FD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601240" y="3871440"/>
              <a:ext cx="2772720" cy="223524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6666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5d9ed"/>
                  </a:solidFill>
                  <a:latin typeface="Times New Roman"/>
                </a:rPr>
                <a:t>Start the syste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5d9ed"/>
                  </a:solidFill>
                  <a:latin typeface="Times New Roman"/>
                </a:rPr>
                <a:t>of invest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5d9ed"/>
                  </a:solidFill>
                  <a:latin typeface="Times New Roman"/>
                </a:rPr>
                <a:t>accompani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045800" y="3675240"/>
              <a:ext cx="5307120" cy="2412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252480" y="3740040"/>
              <a:ext cx="0" cy="23040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299840" y="3675240"/>
              <a:ext cx="0" cy="19512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045800" y="3675240"/>
              <a:ext cx="0" cy="23328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352920" y="3575520"/>
              <a:ext cx="1577880" cy="248040"/>
            </a:xfrm>
            <a:prstGeom prst="rect">
              <a:avLst/>
            </a:prstGeom>
            <a:noFill/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480" rIns="60480" tIns="30240" bIns="30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6600"/>
                  </a:solidFill>
                  <a:latin typeface="Times New Roman"/>
                </a:rPr>
                <a:t>Strategic goal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497760" y="2855880"/>
              <a:ext cx="4594680" cy="6930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onditions for investmen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develop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8244000" y="333360"/>
            <a:ext cx="601560" cy="64764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ERNIVTSI COMPETITIVENES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VELOPMENT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ERNIVTSI COMPETITIVENES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VELOPMENT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RATEGIC GOALS: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RITICAL QUESTIO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ll and medium enterprises are dominating in Chernivtsi economy. The success of these enterprises depends mostly on the financial assets accessibility. In order to constantly develop enterprises need even more - access to information, local authority support, investments into new technologies, cooperation with other companies and access to new marke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250920" y="2880360"/>
            <a:ext cx="8642160" cy="3444480"/>
            <a:chOff x="250920" y="2880360"/>
            <a:chExt cx="8642160" cy="3444480"/>
          </a:xfrm>
        </p:grpSpPr>
        <p:sp>
          <p:nvSpPr>
            <p:cNvPr id="184" name=""/>
            <p:cNvSpPr/>
            <p:nvPr/>
          </p:nvSpPr>
          <p:spPr>
            <a:xfrm>
              <a:off x="250920" y="3913560"/>
              <a:ext cx="3142800" cy="2410920"/>
            </a:xfrm>
            <a:prstGeom prst="ellipse">
              <a:avLst/>
            </a:prstGeom>
            <a:solidFill>
              <a:srgbClr val="000066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6666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11520" rIns="11520" tIns="28800" bIns="28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5d9ed"/>
                  </a:solidFill>
                  <a:latin typeface="Times New Roman"/>
                </a:rPr>
                <a:t>Create a favour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5d9ed"/>
                  </a:solidFill>
                  <a:latin typeface="Times New Roman"/>
                </a:rPr>
                <a:t>business environ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5d9ed"/>
                  </a:solidFill>
                  <a:latin typeface="Times New Roman"/>
                </a:rPr>
                <a:t>and image of the ci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5d9ed"/>
                  </a:solidFill>
                  <a:latin typeface="Times New Roman"/>
                </a:rPr>
                <a:t>where business work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5d9ed"/>
                  </a:solidFill>
                  <a:latin typeface="Times New Roman"/>
                </a:rPr>
                <a:t>successfull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079440" y="3850920"/>
              <a:ext cx="3142440" cy="247392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6666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11520" rIns="11520" tIns="28800" bIns="28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5d9ed"/>
                  </a:solidFill>
                  <a:latin typeface="Times New Roman"/>
                </a:rPr>
                <a:t>Integra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5d9ed"/>
                  </a:solidFill>
                  <a:latin typeface="Times New Roman"/>
                </a:rPr>
                <a:t>“</a:t>
              </a:r>
              <a:r>
                <a:rPr b="1" lang="en-US" sz="1600" spc="-1" strike="noStrike">
                  <a:solidFill>
                    <a:srgbClr val="c5d9ed"/>
                  </a:solidFill>
                  <a:latin typeface="Times New Roman"/>
                </a:rPr>
                <a:t>Economy of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5d9ed"/>
                  </a:solidFill>
                  <a:latin typeface="Times New Roman"/>
                </a:rPr>
                <a:t>Knowledge” into the cit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5d9ed"/>
                  </a:solidFill>
                  <a:latin typeface="Times New Roman"/>
                </a:rPr>
                <a:t>business environment,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5d9ed"/>
                  </a:solidFill>
                  <a:latin typeface="Times New Roman"/>
                </a:rPr>
                <a:t>cooperation of research a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5d9ed"/>
                  </a:solidFill>
                  <a:latin typeface="Times New Roman"/>
                </a:rPr>
                <a:t>productive secto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907600" y="3850920"/>
              <a:ext cx="2985480" cy="247392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6666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11520" rIns="11520" tIns="28800" bIns="28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5d9ed"/>
                  </a:solidFill>
                  <a:latin typeface="Times New Roman"/>
                </a:rPr>
                <a:t>Develop technic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5d9ed"/>
                  </a:solidFill>
                  <a:latin typeface="Times New Roman"/>
                </a:rPr>
                <a:t>infrastructure in ord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5d9ed"/>
                  </a:solidFill>
                  <a:latin typeface="Times New Roman"/>
                </a:rPr>
                <a:t>to support developm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5d9ed"/>
                  </a:solidFill>
                  <a:latin typeface="Times New Roman"/>
                </a:rPr>
                <a:t>of economy and qualit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5d9ed"/>
                  </a:solidFill>
                  <a:latin typeface="Times New Roman"/>
                </a:rPr>
                <a:t>of liv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772640" y="3630960"/>
              <a:ext cx="5208840" cy="900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746760" y="3659760"/>
              <a:ext cx="0" cy="25740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820760" y="3659760"/>
              <a:ext cx="0" cy="25740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772640" y="3630960"/>
              <a:ext cx="0" cy="25740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981120" y="3467160"/>
              <a:ext cx="1536120" cy="275760"/>
            </a:xfrm>
            <a:prstGeom prst="rect">
              <a:avLst/>
            </a:prstGeom>
            <a:noFill/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800" bIns="28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6600"/>
                  </a:solidFill>
                  <a:latin typeface="Times New Roman"/>
                </a:rPr>
                <a:t>Strategic goal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021560" y="2880360"/>
              <a:ext cx="4717080" cy="51552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800" bIns="28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Business infrastructure develop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8244000" y="333360"/>
            <a:ext cx="601560" cy="647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619280" y="3040200"/>
            <a:ext cx="2809800" cy="1973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95" name=""/>
          <p:cNvSpPr/>
          <p:nvPr/>
        </p:nvSpPr>
        <p:spPr>
          <a:xfrm>
            <a:off x="1042920" y="1844640"/>
            <a:ext cx="7632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4440240" y="3654360"/>
            <a:ext cx="3084480" cy="1935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5940360" y="1712880"/>
            <a:ext cx="2952720" cy="1936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URIST CHERNIVT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276720" y="5631120"/>
            <a:ext cx="532908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The state register of monuments of architecture totals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689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monuments and objects of the cultural heritance,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of national significance.</a:t>
            </a:r>
            <a:r>
              <a:rPr b="0" lang="uk-UA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68360" y="1573200"/>
            <a:ext cx="5400720" cy="13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First of all tourist potential of the city caused by presence of considerable quantity of monuments of architecture from different epoch and the ethnic cultures, by a rich palette of local customs and the ceremonies, traditional national crafts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68360" y="1316160"/>
            <a:ext cx="82803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7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Chernivtsi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– one of several cities of Ukraine with city building such quality and value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NANCE AND CREDIT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138320" y="1483560"/>
            <a:ext cx="588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veloped finance and credit system is established in the c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3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12040" y="205992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ank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55640" y="2726640"/>
            <a:ext cx="395928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r January 1, 2010 56 subsidiaries, branches and representative offices of Ukrainian banks  are located in Chernivtsi. They provide a wide range of finance and credit services for both population and businessm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55640" y="53802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an societies and insurance companies work in Chernivts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8244000" y="333360"/>
            <a:ext cx="601560" cy="64764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4788000" y="2060640"/>
            <a:ext cx="3960720" cy="3268440"/>
          </a:xfrm>
          <a:prstGeom prst="rect">
            <a:avLst/>
          </a:prstGeom>
          <a:ln w="9360">
            <a:solidFill>
              <a:srgbClr val="000080"/>
            </a:solidFill>
            <a:miter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DICATORS OF ECONOMICAL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 SOCIAL DEVELOP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539640" y="4797360"/>
          <a:ext cx="8229600" cy="126360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792360"/>
                <a:gridCol w="647640"/>
                <a:gridCol w="792000"/>
                <a:gridCol w="720720"/>
                <a:gridCol w="792360"/>
                <a:gridCol w="925560"/>
                <a:gridCol w="637920"/>
                <a:gridCol w="760680"/>
              </a:tblGrid>
              <a:tr h="5644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99"/>
                      </a:solidFill>
                    </a:lnR>
                    <a:lnT>
                      <a:noFill/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ffcc99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employed for January 1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ousand peop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>
                      <a:noFill/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ff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mployees demand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ousand peop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>
                      <a:noFill/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ff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mployees per 1 vacancy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op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ff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4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>
                      <a:noFill/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74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rnivts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3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6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1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2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>
                      <a:noFill/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  <p:sp>
        <p:nvSpPr>
          <p:cNvPr id="212" name=""/>
          <p:cNvSpPr/>
          <p:nvPr/>
        </p:nvSpPr>
        <p:spPr>
          <a:xfrm>
            <a:off x="2987640" y="1413360"/>
            <a:ext cx="576108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cording to the expert investigation of the “Focus” journal the city of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hernivts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as gained the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rst plac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in the rating of comfort of Ukrainian cities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ng cities with population from 250 thousand to 500 thousand citizens. Tourist and investment attractiveness, infrastructure development, ecological safety and other criteria were taken into account while evalu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labour sources of the city could be described as highly qualifi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11280" y="4220280"/>
            <a:ext cx="82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emand and supply of labour sources in Chernivtsi in 2007-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39640" y="1758960"/>
            <a:ext cx="2448000" cy="1670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8244000" y="333360"/>
            <a:ext cx="601560" cy="647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ITY BUD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7084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comes of Chernivtsi city budget in 2009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UAH 490.7 mil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xpenses of Chernivtsi city budget in 2009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UAH 485.2 mil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comes and expenses dynamics of Chernivtsi city budget in 2007-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Transfers included), UAH mil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8244000" y="333360"/>
            <a:ext cx="601560" cy="647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9" name=""/>
          <p:cNvGraphicFramePr/>
          <p:nvPr/>
        </p:nvGraphicFramePr>
        <p:xfrm>
          <a:off x="468360" y="3019320"/>
          <a:ext cx="8218440" cy="34401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360" y="3019320"/>
                    <a:ext cx="8218440" cy="34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VERAGE W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7000" cy="11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verage wages in 2009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AH 1643 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verage wages by sectors of econom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 Chernivtsi in 2005-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8244000" y="333360"/>
            <a:ext cx="601560" cy="647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4" name=""/>
          <p:cNvGraphicFramePr/>
          <p:nvPr/>
        </p:nvGraphicFramePr>
        <p:xfrm>
          <a:off x="539640" y="2714760"/>
          <a:ext cx="8280360" cy="37274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9640" y="2714760"/>
                    <a:ext cx="8280360" cy="372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FERENCE DATA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 ACCOUNTS AND BA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565440" y="1844280"/>
            <a:ext cx="4818240" cy="19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and tax rate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 % of allotment monetary assess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nt payment for land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t less than land tax rate and no more than 12 % of allotment monetary assessmen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674800" y="3907800"/>
            <a:ext cx="29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ICE ON ELECTRI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684360" y="1773360"/>
            <a:ext cx="2592360" cy="194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30" name=""/>
          <p:cNvSpPr/>
          <p:nvPr/>
        </p:nvSpPr>
        <p:spPr>
          <a:xfrm>
            <a:off x="2768760" y="4339440"/>
            <a:ext cx="527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For January 1,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2010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exchange rate USD 1=UAH 7.9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770040" y="4676760"/>
          <a:ext cx="7346880" cy="1430280"/>
        </p:xfrm>
        <a:graphic>
          <a:graphicData uri="http://schemas.openxmlformats.org/drawingml/2006/table">
            <a:tbl>
              <a:tblPr/>
              <a:tblGrid>
                <a:gridCol w="5279760"/>
                <a:gridCol w="2067120"/>
              </a:tblGrid>
              <a:tr h="649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stomers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99"/>
                      </a:solidFill>
                    </a:lnR>
                    <a:lnT>
                      <a:noFill/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ce (UAH per kWt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0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pul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4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>
                      <a:noFill/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0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terprises of category 1 and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4732-0,62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>
                      <a:noFill/>
                    </a:lnR>
                    <a:lnT w="5760">
                      <a:solidFill>
                        <a:srgbClr val="ffff99"/>
                      </a:solidFill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8244000" y="333360"/>
            <a:ext cx="601560" cy="647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WATER SUPPLY AND SEW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395280" y="1557360"/>
          <a:ext cx="8218440" cy="1633680"/>
        </p:xfrm>
        <a:graphic>
          <a:graphicData uri="http://schemas.openxmlformats.org/drawingml/2006/table">
            <a:tbl>
              <a:tblPr/>
              <a:tblGrid>
                <a:gridCol w="4297320"/>
                <a:gridCol w="1947960"/>
                <a:gridCol w="1973160"/>
              </a:tblGrid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stomers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99"/>
                      </a:solidFill>
                    </a:lnR>
                    <a:lnT>
                      <a:noFill/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ter supp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UAH per m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>
                      <a:noFill/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w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UAH per m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pulation (fixed tariff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,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8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>
                      <a:noFill/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udg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>
                      <a:noFill/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th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>
                      <a:noFill/>
                    </a:lnR>
                    <a:lnT w="5760">
                      <a:solidFill>
                        <a:srgbClr val="ffff99"/>
                      </a:solidFill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395280" y="4292640"/>
          <a:ext cx="8209080" cy="2344680"/>
        </p:xfrm>
        <a:graphic>
          <a:graphicData uri="http://schemas.openxmlformats.org/drawingml/2006/table">
            <a:tbl>
              <a:tblPr/>
              <a:tblGrid>
                <a:gridCol w="5359320"/>
                <a:gridCol w="28497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stomers: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99"/>
                      </a:solidFill>
                    </a:lnR>
                    <a:lnT>
                      <a:noFill/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ce (UAH per 1000 m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pulation (fixed tariff)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>
                      <a:noFill/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less 2500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3,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>
                      <a:noFill/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2500-6000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32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>
                      <a:noFill/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6000-12000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98,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>
                      <a:noFill/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more 12000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90,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>
                      <a:noFill/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terprises, organizations and institu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46,7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>
                      <a:noFill/>
                    </a:lnR>
                    <a:lnT w="5760">
                      <a:solidFill>
                        <a:srgbClr val="ffff99"/>
                      </a:solidFill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236" name=""/>
          <p:cNvSpPr/>
          <p:nvPr/>
        </p:nvSpPr>
        <p:spPr>
          <a:xfrm>
            <a:off x="3098160" y="3572640"/>
            <a:ext cx="30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ICE ON NATURAL G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8244000" y="333360"/>
            <a:ext cx="601560" cy="6476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3489480" y="1196280"/>
            <a:ext cx="527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For January 1,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2010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exchange rate USD 1=UAH 7.9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489480" y="3945960"/>
            <a:ext cx="527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For January 1,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2010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exchange rate USD 1=UAH 7.9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M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23640" y="1412640"/>
            <a:ext cx="8507160" cy="17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avourable climate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erately continental, moist, warm in summer and mild in win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verage temperature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anuary -5 °C, April +9 °C, July +19 °C, October +9 °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rost free period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60-265 days, vegetation period – 215-220 day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Yearly rainfall amount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50-750 m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908000" y="3067200"/>
            <a:ext cx="5328000" cy="3386160"/>
          </a:xfrm>
          <a:prstGeom prst="rect">
            <a:avLst/>
          </a:prstGeom>
          <a:ln w="54000">
            <a:solidFill>
              <a:srgbClr val="c5d9ed"/>
            </a:solidFill>
            <a:miter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8244000" y="333360"/>
            <a:ext cx="601560" cy="647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CIAL SPHER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USING BUIL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159080" y="2111400"/>
            <a:ext cx="0" cy="0"/>
          </a:xfrm>
          <a:prstGeom prst="line">
            <a:avLst/>
          </a:prstGeom>
          <a:ln cap="rnd"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468360" y="3835440"/>
          <a:ext cx="8351640" cy="2579760"/>
        </p:xfrm>
        <a:graphic>
          <a:graphicData uri="http://schemas.openxmlformats.org/drawingml/2006/table">
            <a:tbl>
              <a:tblPr/>
              <a:tblGrid>
                <a:gridCol w="452520"/>
                <a:gridCol w="3363840"/>
                <a:gridCol w="1627200"/>
                <a:gridCol w="755640"/>
                <a:gridCol w="755640"/>
                <a:gridCol w="755640"/>
                <a:gridCol w="641160"/>
              </a:tblGrid>
              <a:tr h="3070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/п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ffcc99"/>
                    </a:solidFill>
                  </a:tcPr>
                </a:tc>
                <a:tc gridSpan="2"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scrip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ffcc99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ea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ff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0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070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partment buildings accepted in exploitation, including apartments in departmental subordination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ant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2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 area, 1000 m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1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070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ffff99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dividual buildings accepted in exploitation, housing estates, separated apartments (flat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ant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 area, 1000 m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9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76240"/>
                          <a:tab algn="l" pos="1752480"/>
                          <a:tab algn="l" pos="2629080"/>
                          <a:tab algn="l" pos="3505320"/>
                          <a:tab algn="l" pos="4381560"/>
                          <a:tab algn="l" pos="5257800"/>
                          <a:tab algn="l" pos="6134040"/>
                          <a:tab algn="l" pos="7010280"/>
                          <a:tab algn="l" pos="7886880"/>
                          <a:tab algn="l" pos="8763120"/>
                          <a:tab algn="l" pos="963936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using buildings accepted in exploitation of all kinds of proper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76240"/>
                          <a:tab algn="l" pos="1752480"/>
                          <a:tab algn="l" pos="2629080"/>
                          <a:tab algn="l" pos="3505320"/>
                          <a:tab algn="l" pos="4381560"/>
                          <a:tab algn="l" pos="5257800"/>
                          <a:tab algn="l" pos="6134040"/>
                          <a:tab algn="l" pos="7010280"/>
                          <a:tab algn="l" pos="7886880"/>
                          <a:tab algn="l" pos="8763120"/>
                          <a:tab algn="l" pos="9639360"/>
                          <a:tab algn="l" pos="105156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 area, 1000 m2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8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2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7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0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9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2663640" cy="2000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44" name=""/>
          <p:cNvSpPr/>
          <p:nvPr/>
        </p:nvSpPr>
        <p:spPr>
          <a:xfrm>
            <a:off x="3274920" y="1587240"/>
            <a:ext cx="5329440" cy="9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94 houses were built in 2009 with the total area of    89.8 thousand square met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556000" y="3074400"/>
            <a:ext cx="619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ished Housing buildings accep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 exploitation in 2006-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8244000" y="333360"/>
            <a:ext cx="601560" cy="647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904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DU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-4568760" y="143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708360" y="1477800"/>
            <a:ext cx="5040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ernivtsi is a well known scientific and educational centre in Ukraine and abroad. Research institutions work in Chernivtsi in the field of materials research, thermoelectric research, medical and ecological proble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84360" y="3891960"/>
            <a:ext cx="5548320" cy="19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1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1 institutions of secondary education work in Chernivtsi, about 22074 pupils study ther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re are 26 institutions of higher education in the city including 12 institutions of III-IV accreditation level and 14 institutions of I-II accreditation lev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rcRect l="3137" t="1994" r="3137" b="1994"/>
          <a:stretch/>
        </p:blipFill>
        <p:spPr>
          <a:xfrm>
            <a:off x="6350040" y="2781360"/>
            <a:ext cx="2192400" cy="3530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8244000" y="333360"/>
            <a:ext cx="601560" cy="64764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3"/>
          <a:stretch/>
        </p:blipFill>
        <p:spPr>
          <a:xfrm>
            <a:off x="684360" y="930240"/>
            <a:ext cx="2950920" cy="2859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EALTH C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538200" y="1808280"/>
            <a:ext cx="3313080" cy="2484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56" name=""/>
          <p:cNvSpPr/>
          <p:nvPr/>
        </p:nvSpPr>
        <p:spPr>
          <a:xfrm>
            <a:off x="-4635360" y="20829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924360" y="1702080"/>
            <a:ext cx="4751280" cy="25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cal service in Chernivtsi is provided by 38 medical institutions including: 16 institutions of municipal ownership, 19 institutions of Chernivetska oblast ownership and 3 - institutional. Capacity of medical institutions in Chernivtsi is 3185 visits per one shift. Number of beds in out-patients department is 98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68360" y="4554360"/>
            <a:ext cx="8280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cal personnel preparation is conducted by Bukovynian State Medical University and basic schoo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8244000" y="333360"/>
            <a:ext cx="601560" cy="647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ULTURE AND ENTERTAI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1560" y="1312560"/>
            <a:ext cx="461808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he following institutions work in the city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8 sports clubs managed by the Department of Culture of Chernivtsi City Counci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 schools of aesthetic education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3 libraries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 cinema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. Kobylyanska Music and Drama Theatr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716360" y="4694400"/>
            <a:ext cx="3888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66760" indent="-26676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ernivetska oblast's philharmonic societ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 park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ppet-show Theatr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"Academic" Pal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8244000" y="333360"/>
            <a:ext cx="601560" cy="64764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5364000" y="1341360"/>
            <a:ext cx="3024360" cy="3167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65" name="" descr=""/>
          <p:cNvPicPr/>
          <p:nvPr/>
        </p:nvPicPr>
        <p:blipFill>
          <a:blip r:embed="rId3"/>
          <a:stretch/>
        </p:blipFill>
        <p:spPr>
          <a:xfrm>
            <a:off x="649440" y="3860640"/>
            <a:ext cx="3922560" cy="2494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36280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264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veloped networks of cultural, educational and sport institutions function in Chernivts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6440" indent="-226440">
              <a:lnSpc>
                <a:spcPct val="11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8 stadium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6440" indent="-226440">
              <a:lnSpc>
                <a:spcPct val="11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4 sports gym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6440" indent="-226440">
              <a:lnSpc>
                <a:spcPct val="11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 swimming pool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6440" indent="-226440">
              <a:lnSpc>
                <a:spcPct val="11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8 football field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6440" indent="-226440">
              <a:lnSpc>
                <a:spcPct val="11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87 outdoor sports gym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6440" indent="-226440">
              <a:lnSpc>
                <a:spcPct val="11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 equipped ice rink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6440" indent="-226440">
              <a:lnSpc>
                <a:spcPct val="11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 motorcycle track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6440" indent="-226440">
              <a:lnSpc>
                <a:spcPct val="11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 archery stadiu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995640" y="4858920"/>
            <a:ext cx="446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"Super Cross" International sport centre functions in Chernivtsi. Annually European and World Motorcycle Championships are held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rcRect l="3334" t="3301" r="2223" b="3301"/>
          <a:stretch/>
        </p:blipFill>
        <p:spPr>
          <a:xfrm>
            <a:off x="539640" y="4294080"/>
            <a:ext cx="3240360" cy="2159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8244000" y="333360"/>
            <a:ext cx="601560" cy="64764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3"/>
          <a:stretch/>
        </p:blipFill>
        <p:spPr>
          <a:xfrm>
            <a:off x="4140360" y="1844640"/>
            <a:ext cx="4176720" cy="2782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LEADING ENTERPRISES OF CHERNIVT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431928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58480" indent="-258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"Kalynivsky Rynok (Market)" Communal enterpri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8480" indent="-258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"Trembita" Joint Stock Compa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8480" indent="-258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"Chernivtsi Machine-Building Plant" Limited Compa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8480" indent="-258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"Chernivtsi Plant "Industriya" Joint Stock Compa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8480" indent="-258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"Impulse" Joint Stock Compa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8480" indent="-258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"Brick Plant # 3" Joint Stock Compa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8480" indent="-258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"Quartz" Joint Stock Compa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8480" indent="-258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"Chemical Plant" Closed Joint Stock Compa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8480" indent="-258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"Chernivtsi Bread Plant" Joint Stock Compa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8480" indent="-258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"Chernivtsi Oil Plant" Joint Stock Compa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8480" indent="-258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"Chernivtsi emanel plant "Karpaty" Joint Stock Compa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8480" indent="-258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"Arnika" Joint Stock Compa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8480" indent="-258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"Rozma" Limited Compa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8480" indent="-258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"Boyanivka" Limited Compa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8480" indent="-258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"Transmost" Joint Stock Compa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8480" indent="-258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"Chernivtsivodokanal" City Communal Enterpri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rcRect l="1918" t="2800" r="1918" b="4199"/>
          <a:stretch/>
        </p:blipFill>
        <p:spPr>
          <a:xfrm>
            <a:off x="4584600" y="1398600"/>
            <a:ext cx="4240440" cy="2813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8244000" y="333360"/>
            <a:ext cx="601560" cy="647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556000" y="277920"/>
            <a:ext cx="6130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UTH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68000" y="4003560"/>
            <a:ext cx="8147160" cy="26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Standing Commissions of the City Council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on legitimacy, human rights, regulations, deputy activity and ethics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on economics, budget and finance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on land relations, architecture and building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on housing, communal economy and environment protection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on labor and social care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on education, science, culture, sport and youth policy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on health care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The city is divided into districts where District Councils work - Shevchenkivska, Pershotravneva and Sadhirska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103560" y="3330000"/>
            <a:ext cx="434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E-mail:  document@rada.c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www.chernivtsy.eu; www.city.cv.u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3206880" y="1960560"/>
          <a:ext cx="5402160" cy="1344600"/>
        </p:xfrm>
        <a:graphic>
          <a:graphicData uri="http://schemas.openxmlformats.org/drawingml/2006/table">
            <a:tbl>
              <a:tblPr/>
              <a:tblGrid>
                <a:gridCol w="1871640"/>
                <a:gridCol w="353052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yor o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rnivts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doruk Mykola Trokhymovy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l.: 38 (0372) 55 39 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3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ty Counc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creta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remichuk Troyan Mykolayovy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l.: 38 (0372) 55 18 8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0" name=""/>
          <p:cNvSpPr/>
          <p:nvPr/>
        </p:nvSpPr>
        <p:spPr>
          <a:xfrm>
            <a:off x="3132000" y="1196280"/>
            <a:ext cx="55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representative authority of Chernivtsi community is Chernivtsi City Council, it includes 60 deput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8244000" y="333360"/>
            <a:ext cx="601560" cy="6476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538200" y="358920"/>
            <a:ext cx="2521080" cy="350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ERNIVTSI CITY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EOGRAPHIC L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rea – 153 km2 or 1.9% of the oblast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pulation – 251,8 thousand 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539640" y="2997360"/>
            <a:ext cx="4247640" cy="3239640"/>
            <a:chOff x="539640" y="2997360"/>
            <a:chExt cx="4247640" cy="3239640"/>
          </a:xfrm>
        </p:grpSpPr>
        <p:pic>
          <p:nvPicPr>
            <p:cNvPr id="109" name="" descr=""/>
            <p:cNvPicPr/>
            <p:nvPr/>
          </p:nvPicPr>
          <p:blipFill>
            <a:blip r:embed="rId1"/>
            <a:stretch/>
          </p:blipFill>
          <p:spPr>
            <a:xfrm>
              <a:off x="539640" y="2997360"/>
              <a:ext cx="4163400" cy="2928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0" name=""/>
            <p:cNvGrpSpPr/>
            <p:nvPr/>
          </p:nvGrpSpPr>
          <p:grpSpPr>
            <a:xfrm>
              <a:off x="1092960" y="3222720"/>
              <a:ext cx="3694320" cy="3014280"/>
              <a:chOff x="1092960" y="3222720"/>
              <a:chExt cx="3694320" cy="3014280"/>
            </a:xfrm>
          </p:grpSpPr>
          <p:sp>
            <p:nvSpPr>
              <p:cNvPr id="111" name=""/>
              <p:cNvSpPr/>
              <p:nvPr/>
            </p:nvSpPr>
            <p:spPr>
              <a:xfrm>
                <a:off x="3171960" y="4277880"/>
                <a:ext cx="932040" cy="8539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790000" y="3925440"/>
                <a:ext cx="1641600" cy="15573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241000" y="3624120"/>
                <a:ext cx="2410200" cy="22111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584360" y="3222720"/>
                <a:ext cx="3202920" cy="30142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092960" y="4462200"/>
                <a:ext cx="1184760" cy="87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360" rIns="7236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2000 км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088080" y="3448080"/>
                <a:ext cx="1035720" cy="40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360" rIns="7236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1500 км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3088080" y="3785400"/>
                <a:ext cx="1035720" cy="35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360" rIns="7236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1000 км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3088080" y="4123440"/>
                <a:ext cx="1035720" cy="43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360" rIns="7236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500 км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5003640" y="2925720"/>
            <a:ext cx="3600720" cy="33116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8244000" y="333360"/>
            <a:ext cx="601560" cy="647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ANSPORT CONN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184400" y="1771560"/>
          <a:ext cx="5762520" cy="2552760"/>
        </p:xfrm>
        <a:graphic>
          <a:graphicData uri="http://schemas.openxmlformats.org/drawingml/2006/table">
            <a:tbl>
              <a:tblPr/>
              <a:tblGrid>
                <a:gridCol w="2031840"/>
                <a:gridCol w="1187640"/>
                <a:gridCol w="1355400"/>
                <a:gridCol w="1187640"/>
              </a:tblGrid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yiv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00"/>
                      </a:solidFill>
                    </a:lnR>
                    <a:lnT>
                      <a:noFill/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8  k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>
                      <a:noFill/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agu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>
                      <a:noFill/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0  k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7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vano-Frankivsk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0 k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uchares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4  k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rnopi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0 k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scow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80 k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hmelnytsky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0 k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ishinev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0  k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nipropetrovsk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91 k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rsaw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0  k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7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onetsk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40 k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enn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80  k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viv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0 k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udapes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80  k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  <p:sp>
        <p:nvSpPr>
          <p:cNvPr id="123" name=""/>
          <p:cNvSpPr/>
          <p:nvPr/>
        </p:nvSpPr>
        <p:spPr>
          <a:xfrm>
            <a:off x="466920" y="1339200"/>
            <a:ext cx="41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istance to Chernivtsi from other citi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68360" y="4611240"/>
            <a:ext cx="367200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15000"/>
              </a:lnSpc>
              <a:spcAft>
                <a:spcPts val="9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Distance to closest borders crossings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in January 1, 2007 Chernivetska oblas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became a neighbour of the European Union (distance from Chernivtsi to the border with Romania is only 40 km)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9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067280" y="4579920"/>
          <a:ext cx="4663800" cy="1769760"/>
        </p:xfrm>
        <a:graphic>
          <a:graphicData uri="http://schemas.openxmlformats.org/drawingml/2006/table">
            <a:tbl>
              <a:tblPr/>
              <a:tblGrid>
                <a:gridCol w="1234800"/>
                <a:gridCol w="2544840"/>
                <a:gridCol w="884160"/>
              </a:tblGrid>
              <a:tr h="353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oman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00"/>
                      </a:solidFill>
                    </a:lnR>
                    <a:lnT>
                      <a:noFill/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rub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>
                      <a:noFill/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 k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53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la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stys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0 k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53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ung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o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4 k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54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lovak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zhhoro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4 k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53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ldov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malyh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 k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8244000" y="333360"/>
            <a:ext cx="601560" cy="647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07552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FRUSTRUCTURE OF CHERNIVTSI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68360" y="1560600"/>
            <a:ext cx="2663640" cy="1751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3348000" y="2133000"/>
            <a:ext cx="42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unicipal transpor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ists of 46 bus and 10 trolleybus rou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8360" y="3520800"/>
            <a:ext cx="554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ilway transpor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re is direct railway service to Kyiv, Moscow, Minsk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.-Petersburg, Bucharest, Sofia and Warn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5889600" y="2997360"/>
            <a:ext cx="2859120" cy="1833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468360" y="4711680"/>
            <a:ext cx="2448000" cy="144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3" name=""/>
          <p:cNvSpPr/>
          <p:nvPr/>
        </p:nvSpPr>
        <p:spPr>
          <a:xfrm>
            <a:off x="2989440" y="4700520"/>
            <a:ext cx="5830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ir transpor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unicipal enterprise "Chernivtsi" International Airport“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s in the city. The airport has been in municipal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wnership since 2006. It is of high priority for the development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f transport infrastructure of the region.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8244000" y="333360"/>
            <a:ext cx="601560" cy="647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DUS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5280" y="1132200"/>
            <a:ext cx="828216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oods/services sold/rendered in 2009: 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AH 1683.6 millio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in industries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od industry, textile industry, mechanical engineering, electricity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tural gas and water production and distribution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oods and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ld by sectors of industry in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8244000" y="333360"/>
            <a:ext cx="601560" cy="647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8" name=""/>
          <p:cNvGraphicFramePr/>
          <p:nvPr/>
        </p:nvGraphicFramePr>
        <p:xfrm>
          <a:off x="539640" y="2403360"/>
          <a:ext cx="8209080" cy="43387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9640" y="2403360"/>
                    <a:ext cx="8209080" cy="433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549360"/>
            <a:ext cx="73594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umber of small enterprises in Chernivtsi per 10,000 people in 2006-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68360" y="5581080"/>
            <a:ext cx="83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he number of small enterprises in Chernivt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s 94 enterprises per 10,000 people for January 1, 200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8244000" y="333360"/>
            <a:ext cx="601560" cy="647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3" name=""/>
          <p:cNvGraphicFramePr/>
          <p:nvPr/>
        </p:nvGraphicFramePr>
        <p:xfrm>
          <a:off x="457200" y="1268280"/>
          <a:ext cx="8229600" cy="4437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268280"/>
                    <a:ext cx="8229600" cy="443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INTERNATIONAL TR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26840"/>
            <a:ext cx="764064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Exported in 2009: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 USD 81.3 mil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Imported in 2009: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 USD 71.2 mil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78320" y="2349000"/>
            <a:ext cx="406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Geographic structure of export in 2009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USD mil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8244000" y="333360"/>
            <a:ext cx="601560" cy="647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9" name=""/>
          <p:cNvGraphicFramePr/>
          <p:nvPr/>
        </p:nvGraphicFramePr>
        <p:xfrm>
          <a:off x="395280" y="2205000"/>
          <a:ext cx="7993080" cy="41083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2205000"/>
                    <a:ext cx="7993080" cy="41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VEST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412640"/>
            <a:ext cx="785988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oreign direct investments in 2009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D 839.4 thous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oreign direct investments per person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D 13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otal capital of investors in 2009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D 32.4 mil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42920" y="2296800"/>
            <a:ext cx="691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eographic structure of foreign dir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vestments in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8244000" y="333360"/>
            <a:ext cx="601560" cy="647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5" name=""/>
          <p:cNvGraphicFramePr/>
          <p:nvPr/>
        </p:nvGraphicFramePr>
        <p:xfrm>
          <a:off x="611280" y="2171880"/>
          <a:ext cx="8353440" cy="40654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1280" y="2171880"/>
                    <a:ext cx="8353440" cy="406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4T08:17:39Z</dcterms:created>
  <dc:creator>inv2</dc:creator>
  <dc:description/>
  <dc:language>en-US</dc:language>
  <cp:lastModifiedBy>PublicRel</cp:lastModifiedBy>
  <dcterms:modified xsi:type="dcterms:W3CDTF">2010-07-05T12:30:23Z</dcterms:modified>
  <cp:revision>40</cp:revision>
  <dc:subject/>
  <dc:title>Слайд 1</dc:title>
</cp:coreProperties>
</file>